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497-9AD3-4038-93B2-6A451FD2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4A9-1ECF-4377-A071-2E14B299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930-02E6-4229-9416-38EF90D8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154-BFF6-4CA7-AB10-3D9D8E2B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FB3-6EA3-4003-BDD4-C6F4224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413-F516-492D-A89C-CE8D08FD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F69-A4A4-47A8-979F-6C0BA4F5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AB7-E372-4B6B-B85A-BD53C92F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818-85C1-434A-90F6-70549C17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6FA-85B3-4FD3-B7E4-191FAC2D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7B1-D35F-495B-B6F1-679006C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C56-F5EE-4C74-BA87-512A411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7D97-D2B9-46F9-816D-337FBD59F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4" descr=""/>
          <p:cNvPicPr/>
          <p:nvPr/>
        </p:nvPicPr>
        <p:blipFill>
          <a:blip r:embed="rId1"/>
          <a:stretch/>
        </p:blipFill>
        <p:spPr>
          <a:xfrm>
            <a:off x="-36360" y="-55440"/>
            <a:ext cx="1250316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3742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6792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49668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1"/>
          <a:stretch/>
        </p:blipFill>
        <p:spPr>
          <a:xfrm>
            <a:off x="-152280" y="-66600"/>
            <a:ext cx="126792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679200" cy="70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6792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6792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44736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6856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 Box 4" descr=""/>
          <p:cNvPicPr/>
          <p:nvPr/>
        </p:nvPicPr>
        <p:blipFill>
          <a:blip r:embed="rId1"/>
          <a:stretch/>
        </p:blipFill>
        <p:spPr>
          <a:xfrm>
            <a:off x="-152280" y="-79200"/>
            <a:ext cx="126856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7:20:31Z</dcterms:created>
  <dc:creator>Pastor Chan</dc:creator>
  <dc:description/>
  <dc:language>en-US</dc:language>
  <cp:lastModifiedBy>chan HK</cp:lastModifiedBy>
  <dcterms:modified xsi:type="dcterms:W3CDTF">2024-12-31T09:36:37Z</dcterms:modified>
  <cp:revision>28</cp:revision>
  <dc:subject/>
  <dc:title>Slide 1</dc:title>
</cp:coreProperties>
</file>