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9D6-3145-4BFA-8F48-D395AFEF64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1E44-CACC-4778-BB99-D5B5C8699A0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C34-AEB4-486C-BBDF-6D536F3140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me: By supporting Israel, By defeating Iraq, by presence in Saudi Arabia, by controlling most Muslim e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D2F-D43F-43F8-8D63-28FDC84110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40F-606B-4773-8ADF-E69CAF3F61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BC63-F8E2-439F-A5F2-6F358E2729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036-C984-462A-9CD2-E9029AC4A7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093-2111-4DFA-AB2A-6EE92C0238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is considered to be a traiter to one’s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int: There is no separation of Religion and Politics. Religion, Politics, Culture, Family is so intermingled that 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vert can be killed not only by the Government but by any Muslim with no penalty (but rewards in Heav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C4FE-BDE0-45C8-91A2-A3969F4E46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1AE-F31A-4765-AB05-E7C800552E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72E7-6148-4206-BA63-44C3FF35730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CB1-AC63-49E9-B401-91E44416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9D4-82ED-45C7-89C5-C15F0AE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D1733-5A18-47B0-978A-6169CFE1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0E695-44F7-44DF-93FC-C5F755FF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6F4C-7DFA-441F-BEF6-E1F56F5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AEB33-D3CA-4CAF-A46A-CB99F5C5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287DE-330F-43CD-8D42-4E064B0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2A175-AF7D-4023-B8D3-228ED143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9206-8F0B-4F21-9FD3-188A919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C3A7A-35B6-47B9-B4D1-42BF1E7C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3862-FB93-4F30-9426-675755B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0532A-1385-4BE3-B060-21398B7C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EAD-01AE-4F2E-B436-156533C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882B-24CF-4A20-BC9C-3E0986F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5AE62-E852-4A75-93C1-FDA6AA4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B09F-22F7-49F9-9A52-84586F6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8491-4DDD-4C5B-8BD3-9F369A5E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15418-0BD2-44F9-8AE9-8B27F12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43C47-7B67-4BE8-964E-BE5ECB7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72A1A-9F42-45E1-B6B6-0E9894B2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BF061-8312-4759-A886-4861D573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537D-EC9E-494A-AB4F-0C04D830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0321F-7B08-4C82-8F6A-04ABA485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F83-67A7-4456-94FF-70C4B782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311D3-18EA-42D8-BE08-13B1BD2E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59648-C684-4899-A136-B7D2383C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89B5-BF89-40AB-BEDF-B99BEE7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335CE-1DBF-405B-B50A-35FC424F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96ED6-5865-46BB-B1BF-C4543AF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726C-C91C-4158-B4C2-3430659D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5B584-C221-4822-B150-6A942E8B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197F1-D632-4DE4-9C7E-DA08FD3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F7236-E16D-4F14-B6E9-7097E03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66472-0917-4053-9579-6358BE5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3CC-85DF-4E62-83CC-95C84194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6CCCA-92EB-486D-9140-321EC383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1F41-3F7B-4BDE-9E33-EFE9C089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57529-F287-4C47-9CEB-C87DC660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B08B3-CD6F-4F71-9A95-978AAD24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6FE3C-E52E-42F4-AB50-A8A50C62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1EA4-75E0-4096-B625-2F1B5C7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15B6-42EE-40EB-98FA-9DB13482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91493-521E-493C-A9E9-FAB1C71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E0DB-E410-42C5-B62E-F8FECEE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B0F2F-9C47-4FFE-BB03-5E602CB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59B-5D25-4391-A1B4-40433C54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70BAB-73E5-48EE-A350-AE2AD72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CE638-741C-480F-A9BD-9C123BE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31613-E41B-4AA3-91B2-6036055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C8719-4708-4C3F-AE8A-22900239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D054C-52D2-43FD-836A-CC1D8A8D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841E-207B-413D-BA96-DC2400B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12C-C85D-4452-A021-A248874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8D28-17B2-4180-A87D-0C3F1BA0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84D0-CD78-4E7B-B699-45DC041B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DA01-76FF-4AEA-8D10-BAE96A0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746-BAB9-4137-A773-BED4EF9F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4285-DF15-4873-B80D-580B832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C01D-99D8-4DF2-AB16-DDA70C9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54A-EFA2-42D0-BA1B-02C428A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6B2-1CFD-4BB7-BED5-BC3445FC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4AE-6D9C-4199-9C38-B89F10BC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4342-356B-40A2-A58D-275BFCB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125C-9B6E-413E-B4AC-40FF2AE8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D211-3297-4C7F-8301-82D021E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291A-74C4-4CCA-9AFE-D20A609C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DE45-0869-431A-8A61-76ECC4B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384-7EB2-4705-8211-D577880E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FBB3-79E2-4104-AE51-9868D89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B571-3805-4E39-9E9F-EEA6B6B0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45B0-2C69-49F6-AE54-1B1A10A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0F79-437A-4053-BC8A-3F70547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C7D7-96AE-47F9-8155-26C4982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C9E9-AE9C-48BA-9BAF-54AC24FF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52A5-685C-4193-A8D1-A78BD54B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F912-C526-415D-9467-1F6FA431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FE60-7BE5-4A6D-B129-F8AB3D9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536B-9FCE-42DE-842A-6B469ED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19D-80C3-4733-BA5A-CEFD37A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1708-00C6-47C0-8586-C1573024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7D1D-BE00-4608-83F0-FA86FA9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C94A-2925-4D48-8E95-62CBEED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DAC1-A099-47D7-8186-C34DC54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98E0-EE97-4F65-B58D-99F8B80D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CA2A-23CF-4067-9F22-900FACC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AE40-723B-4D09-AC16-A486B397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6263-ECDD-4614-A928-E73D2B79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AF7B-7A2D-4B24-9CBC-9C00B25D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267D-8BDF-4427-A577-1F9144D0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8F8-4B4D-43F8-9805-F4ABA255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DC6C-E9E0-4D18-93A1-75628E0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CC84-D993-42A0-9AD6-7236ED7D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A3A3-E5E1-4BAE-8B6A-754B28E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901D-3982-41A3-AE27-AC66F6B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CB6D-8BC8-42CE-AA0E-1C233E88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6F39-70B5-4B2A-8B9D-3338F04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1D48-16E0-4092-9565-AFAF48D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F1D5-CB4F-4619-8EFF-30C0919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B430-A8DE-41A6-A6E1-126E023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F991-C35E-425B-A371-07C47547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4E1-9724-4748-8522-F2A2ADA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DE26-2367-4CC5-8915-ACB6AEB5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1DCA-14A4-4969-A77D-A670A25C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842F-7136-45AF-A633-E2EC61B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BBF1-9E1B-4AC6-A3A0-BD1D113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AD6B-E02A-4B0C-BE14-29990DE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A834-A16A-470D-B8AD-D72A2AB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4C03-5ACB-4E23-84FF-1BF1AB3B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3B80-7E00-44BF-9A48-FE03982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7A3F-23AC-4A98-BBAF-5C9C221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A2AE-18C8-4075-83FF-6137000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219-F28B-409C-98B4-3D52D68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9572-56FB-43B2-970D-8BB546E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602D-42D7-457B-842A-7E970C63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C1D3-143B-4DD0-B945-FF855090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7180-C09C-4CB2-9A92-D961E01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0B16-E36B-4169-8B4C-DDC4B43F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663E-D59A-40DB-93A6-D4B78FE3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EE1B-40ED-45AC-97E4-4699373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BE44E-E4F9-44AB-968E-6B5F130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7DC2-FED9-41E2-8B94-C76E0E8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212F1-8ED6-4334-ADBC-3EAB392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C73-EF99-4115-B801-362876E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8DD9-5FE5-457B-836C-E5440E2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E51B-20A4-4410-80A4-BA2099B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3B33-D017-4889-9A87-4EA0B63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1BDA8-33BE-494F-A539-D51EC0F7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3A75-DE47-4F9B-AF03-98472414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1D6D-F0E9-46B4-A7AE-30C89CE3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CF884-C2B8-47F5-AE2D-D8A9BD65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2382-7337-4249-80B8-286FFCE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6D0D-8213-47BF-B66D-EAB4E6FC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36EB-730D-4BC7-87F5-F9F5E16E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C54-5951-4608-8AD8-8E40B6E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F8166-C5C1-4A45-AF37-D6F4136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53C8-B023-40AA-8F39-BB5A149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97F26-C3F2-483B-925C-3BBF431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DBCF-D9D3-4B73-8620-773AA5D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6A07-4675-49B0-A7DE-B143FAA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161A6-F431-4A0B-89AC-BB460BCD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AC15C-9D0B-4433-AEC7-5C26C3B4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369A4-D567-4216-A8AB-70B647D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4282-74AD-4481-B00B-A98F126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C688-D00B-4F2A-84D5-6D6E85BD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AEC-C008-41F6-959A-850B935047E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BECE-F38B-486E-B8B7-769F082CD48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5D7-E12A-4923-8D85-857FFC2BB73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829-74AD-410E-84ED-A656AB4571F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0"/>
                    <a:pt x="23861" y="88"/>
                    <a:pt x="24979" y="265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0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8084-259E-478D-AFD3-034F3390A7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9FBF-07A5-4075-AE21-481C568344E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D0CE-1D56-4B15-A297-06456F54C2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AE42-4123-418D-B230-212E33ED75D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AB9D-9DD5-4E08-A07E-1628E30AA61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977-09A5-49C9-B1A2-D882BC3F20C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437A-EB23-4CE3-9971-8930DD10FC8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43200" h="43200">
                  <a:moveTo>
                    <a:pt x="-22336" y="21600"/>
                  </a:move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-22336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C28-FFFA-4F50-B302-47F9339002F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E93A-E2D9-406F-B97B-5042469C671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120" y="3505320"/>
            <a:ext cx="75438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533520" y="609480"/>
            <a:ext cx="8078760" cy="28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如何蠃得穆斯林来归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C85-8747-4B63-B91D-9CC7C42A39A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为何伊斯兰憎恨美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525780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ff0033"/>
            </a:outerShdw>
          </a:effectLst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拥有超越原属於伊斯兰的权柄与经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伊斯兰扩展的最大阻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信道的异教徒（撒旦代理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主导与优势的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公义的政权（以阿关系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带给伊斯兰耻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17600" cy="2819520"/>
          </a:xfrm>
          <a:prstGeom prst="rect">
            <a:avLst/>
          </a:prstGeom>
          <a:ln w="0">
            <a:noFill/>
          </a:ln>
        </p:spPr>
      </p:pic>
      <p:sp>
        <p:nvSpPr>
          <p:cNvPr id="576" name="Line 5"/>
          <p:cNvSpPr/>
          <p:nvPr/>
        </p:nvSpPr>
        <p:spPr>
          <a:xfrm>
            <a:off x="685800" y="1066680"/>
            <a:ext cx="81532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2"/>
          <a:stretch/>
        </p:blipFill>
        <p:spPr>
          <a:xfrm>
            <a:off x="5943600" y="4178160"/>
            <a:ext cx="3009960" cy="2379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B07-F7FA-4435-9A23-CAF7C9C54F9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ff0033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布道当留意的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3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imHei"/>
                <a:ea typeface="SimHei"/>
              </a:rPr>
              <a:t>了解他们的惧怕</a:t>
            </a:r>
            <a:r>
              <a:rPr b="1" lang="zh-TW" sz="3200" spc="-1" strike="noStrike">
                <a:solidFill>
                  <a:srgbClr val="ff0000"/>
                </a:solidFill>
                <a:latin typeface="SimHei"/>
                <a:ea typeface="SimHei"/>
              </a:rPr>
              <a:t>：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怕安拉，家人，亲友，工作，政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imHei"/>
                <a:ea typeface="SimHei"/>
              </a:rPr>
              <a:t>个人跟进，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不要集在一起，男对男，女对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imHei"/>
                <a:ea typeface="SimHei"/>
              </a:rPr>
              <a:t>爱心，祷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imHei"/>
                <a:ea typeface="SimHei"/>
              </a:rPr>
              <a:t>了解他们的错误观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 </a:t>
            </a: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拜三位神，道德，伊斯兰未後的宗教</a:t>
            </a:r>
            <a:r>
              <a:rPr b="1" lang="en-US" sz="3200" spc="-1" strike="noStrike">
                <a:solidFill>
                  <a:srgbClr val="333300"/>
                </a:solidFill>
                <a:latin typeface="SimHei"/>
                <a:ea typeface="SimHei"/>
              </a:rPr>
              <a:t>? </a:t>
            </a: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SimHei"/>
                <a:ea typeface="SimHei"/>
              </a:rPr>
              <a:t> </a:t>
            </a: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要作太多宗教对比，以圣经，以爱来继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imHei"/>
                <a:ea typeface="SimHei"/>
              </a:rPr>
              <a:t>建立一个爱网来保护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 </a:t>
            </a:r>
            <a:r>
              <a:rPr b="1" lang="zh-CN" sz="3200" spc="-1" strike="noStrike">
                <a:solidFill>
                  <a:srgbClr val="333300"/>
                </a:solidFill>
                <a:latin typeface="SimHei"/>
                <a:ea typeface="SimHei"/>
              </a:rPr>
              <a:t>这是他们的需要，取代他们的亲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6E05-D03F-420E-98AD-E55A8096DA2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布道当留意的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学习如何有效向穆斯林布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如何向他们证实耶稣基督的神怪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留下美好的群众形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尊重他们的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传递爱心的信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4"/>
          <p:cNvSpPr/>
          <p:nvPr/>
        </p:nvSpPr>
        <p:spPr>
          <a:xfrm>
            <a:off x="838080" y="1295280"/>
            <a:ext cx="7467840" cy="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82B-37CB-47B5-8E6B-267E9AEFD0D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2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布道当留意的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建立一个有爱心的团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吸引穆斯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消除失去亲人的惧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引导初信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何面对信仰的逼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何向亲人作见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A9BC-2D1A-4811-B827-C3F2225C4F9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如何分享福音</a:t>
            </a: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开始於神，结束於耶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开始分享神的爱而不是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留意太快说耶稣是主，会陷入对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提供他可以视为家人与朋友同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耐心等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带他们去认识前穆斯林信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647640" y="1447920"/>
            <a:ext cx="8496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AB3-93E0-4A63-B0AB-512699E6B49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福音四步驟</a:t>
            </a: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) 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人在神心目中的地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完美的环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没有受苦与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5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人与神分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罪的权势与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5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) 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神来寻找失丧的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旧约中清楚的救赎计划与预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) 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神寻找失丧的人；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– 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介绍耶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47640" y="1143000"/>
            <a:ext cx="8496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05AC-C182-42AC-8D88-7B1460368F1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33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什么因素拦阻穆斯林来信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惧怕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惧怕安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惧怕死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被拒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羞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神，人，社会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被指为不信道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基督的神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惧怕亵渎神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唯一不能被赦免的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609480" y="1981080"/>
            <a:ext cx="693432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AF0-C63E-49CC-9689-76B43523E8B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什么因素吸引穆斯林归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爱心：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基督徒中间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无条件的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   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神自己神圣的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平安与喜乐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整夜非常好睡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在信徒中间的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 伊斯兰的敬拜只有战鼓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在敬拜中的自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耶稣基督高尚的品格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福音书中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读神的话，他们会受感动而流泪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祷告：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 这在伊斯兰是十分重视的，不管它能回答，相信已经阻止咒诅临到，良心已经满足。然而向耶稣祷告却是有答覆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419040" y="1371600"/>
            <a:ext cx="8496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650-C112-40A4-8AA9-78225780A75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新細明體"/>
              </a:rPr>
              <a:t>祷告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捆绑壮士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太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:2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捆绑波斯的魔君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但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. 10: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捆绑惧怕的灵（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宋体"/>
              </a:rPr>
              <a:t>伊斯兰充满欺骗与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宋体"/>
              </a:rPr>
              <a:t>惧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宋体"/>
              </a:rPr>
              <a:t>怕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捆绑欺骗的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为文化中的高傲与羞恥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为经历神迹，奇事与福音大能的经历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590400" y="1371600"/>
            <a:ext cx="771552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D77-95C6-42EC-8F4A-FD69D08C70D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SimHei"/>
                <a:ea typeface="SimHei"/>
              </a:rPr>
              <a:t>跟进新会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如何面对逼迫；领受真道；如何向朋友作见证，不要太快让他们的身份露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SimHei"/>
                <a:ea typeface="SimHei"/>
              </a:rPr>
              <a:t>属灵增长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他们还会有旧思想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说谎，惧怕，不信任，新旧信仰的困擾，经济遇到困难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4356-E5D7-4677-A0C2-E72446F6182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属灵成长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SimHei"/>
                <a:ea typeface="SimHei"/>
              </a:rPr>
              <a:t>不要期待立刻，完全的转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旧约亚伯拉罕，有说谎，有惧怕，约瑟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39:1-10)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，摩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新约：约翰，雅各，彼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可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8:22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他们来到伯赛大，有人带一个瞎子来，求耶稣摸他。这是我们的工作。耶稣在这医治事件中，有两次的手段才完全得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32B3-3DEA-4D29-B789-274D2F57E1B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218960" y="609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成长需要什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加入家庭教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门徒栽培：圣经真理，认识耶稣基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属灵保罗；关怀，问候，引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新的家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他们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忍耐他们的犯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要太多人作属灵引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2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B4B7-DD3A-4CBA-9500-F25A2215E42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685800" y="762120"/>
            <a:ext cx="7848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1143000" indent="-228600">
              <a:lnSpc>
                <a:spcPct val="90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imHei"/>
                <a:ea typeface="SimHei"/>
              </a:rPr>
              <a:t>一切的一切，什么</a:t>
            </a:r>
            <a:r>
              <a:rPr b="1" lang="zh-TW" sz="3200" spc="-1" strike="noStrike">
                <a:solidFill>
                  <a:srgbClr val="ffffff"/>
                </a:solidFill>
                <a:latin typeface="SimHei"/>
                <a:ea typeface="SimHei"/>
              </a:rPr>
              <a:t>才</a:t>
            </a:r>
            <a:r>
              <a:rPr b="1" lang="zh-CN" sz="3200" spc="-1" strike="noStrike">
                <a:solidFill>
                  <a:srgbClr val="ffffff"/>
                </a:solidFill>
                <a:latin typeface="SimHei"/>
                <a:ea typeface="SimHei"/>
              </a:rPr>
              <a:t>是最重要的</a:t>
            </a:r>
            <a:r>
              <a:rPr b="1" lang="zh-TW" sz="3200" spc="-1" strike="noStrike">
                <a:solidFill>
                  <a:srgbClr val="ffffff"/>
                </a:solidFill>
                <a:latin typeface="SimHei"/>
                <a:ea typeface="SimHei"/>
              </a:rPr>
              <a:t>呢</a:t>
            </a:r>
            <a:r>
              <a:rPr b="1" lang="en-US" sz="3200" spc="-1" strike="noStrike">
                <a:solidFill>
                  <a:srgbClr val="ffffff"/>
                </a:solidFill>
                <a:latin typeface="SimHei"/>
                <a:ea typeface="SimHei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22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SimHei"/>
                <a:ea typeface="SimHei"/>
              </a:rPr>
              <a:t>爱心的关怀与引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med.paul_H.I.S  T.I.M.E_Ppp_Evangl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06C-AFBE-4CB2-8CF1-B38AB49BDF0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1360" y="380880"/>
            <a:ext cx="8078760" cy="9907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新細明體"/>
              </a:rPr>
              <a:t>他们在欢厌什么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2614680" y="1523880"/>
            <a:ext cx="39132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3:17:36Z</dcterms:created>
  <dc:creator>Ahmed Mohamed</dc:creator>
  <dc:description/>
  <dc:language>en-US</dc:language>
  <cp:lastModifiedBy>jenny lake</cp:lastModifiedBy>
  <dcterms:modified xsi:type="dcterms:W3CDTF">2022-03-04T07:39:19Z</dcterms:modified>
  <cp:revision>170</cp:revision>
  <dc:subject/>
  <dc:title>Islam</dc:title>
</cp:coreProperties>
</file>