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C1F-6B96-4271-882B-96A54955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C18-1BAE-450C-88FE-87B4A7DA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971-20FB-4177-BDC5-B3F39FB8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747-EABE-4B4C-AD20-A6FEDBCF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5E79-CFC5-4599-B156-27D63EB3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EFA4-B6F3-481B-811B-D10B63EF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B53C-2F48-4977-ADBA-9D29870A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BF26-B938-4681-8912-5BFE81D0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B31E-0F5F-44AF-9803-2A0090E1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8568-C5D9-49DF-9A81-C3F87341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B711-BE4F-491E-B3B2-2BA99167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5F5-5FBF-48BC-A744-0072479D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2F05-67AE-4B9C-9C37-F75392C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ECFB-F864-430D-A0FD-7EA1AC5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946A-68DB-47B5-9DAB-A962F47A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3C6C-C0C3-475E-8C41-EB0C04AF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CAEB-8081-4935-A7BD-AB7F6CBC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D1803-2D1E-4038-B407-7387EE09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4EE36-8B8D-483E-B937-23EB296F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4F94-7982-4756-8993-080E00D4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7529-FD86-4FE2-8872-EA5DE333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2249-105F-48ED-B329-47D82450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A88-76BC-4D9E-9844-B8350FA9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AC1D-F885-4032-9681-DAD241E0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743E-C4A1-4F2D-B739-7FBFEA52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1540-E054-43DB-89F2-8BB3DC27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E0C7-3AEF-42F3-84E9-20022804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16B1-933D-4FB3-B3A4-262ABACE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11BE-F365-4E9A-BB0C-3AE9E106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8426-DB9E-4B68-A733-12E33A40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7956-6B20-43FE-A246-D15E5766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4274-CE38-49CD-8936-FAC42B0C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FBA4-F161-4AB9-B4D9-B3D41617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8E9-D259-4F03-AB4F-719D3770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591CE-913F-4E9B-9FAA-41F5457C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7E0F-4204-4896-A325-210074D6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4DDBF-6D07-4BBF-82D5-558BCB2E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4FC2B-E3C9-4DE8-9C9F-BFD7A7A7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C9048-1794-4B33-A758-91F446A8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F4838-6E06-4849-87C0-AB25A7E1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A57A4-5C0C-4CE6-BF17-B04B98A7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F9920-2441-4BE6-925F-BC8D6D55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07457-C57F-441D-A7C1-CD75AE57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EA4AA-A31D-4BB2-8DE3-F3B4520E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CAE-900D-411C-97B6-431FAAE7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23351-1842-4778-8ABF-B92FD6E6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1E3E-5343-4539-BDF5-68F30D0D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DBAD4-4E0A-4C54-8065-1EDD56A0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59F6F-DC38-4622-B1FC-E7F2EBA8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A9218-F01A-46AC-8F3B-8C5136EF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69B85-AE67-4651-9C92-3F754E9D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A7C88-9720-4F78-8A2F-01385672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B5E31-CE6C-402F-9544-EDD97414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E01C3-7166-423E-A265-1F2D2B8F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D0F5A-0D00-40D0-9419-A6F1E0D1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245-DF9F-4A9D-965D-B61B4BE2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5F8B-2EEC-4E58-8D04-641D2904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30B53-D113-4175-BC46-122A8F1F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18571-C51E-42D8-93A1-6A93E98F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7836A-6882-46CF-A42F-EAA4924C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18245-BD87-47D1-A009-ADB5CC21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0BFD-4CBD-4D8E-9340-1852F531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6DB38-0148-4DAA-8C87-F717264B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DF6CC-DD6C-4BE4-B133-FAE60DDE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7E284-F5FA-4D45-B0ED-9132607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B57DD-8E1E-4F2D-A3F4-D647BB9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449-44E5-4C34-A9ED-79FC30B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5788-C9A3-4BDA-8780-0AF09272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F3870-0C77-4948-9769-A619A119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D2894-CD86-43C9-969C-50FA415A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739-8149-4DC5-83B0-B3FDAB8A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078-0A6F-493F-8F45-4FBFFDB2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80E41-F63A-4BBE-96BC-679FE6EF94ED}" type="slidenum">
              <a: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8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D78AD-E0D9-450D-A570-4A19BBAD6D1D}" type="slidenum">
              <a: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8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DA49A-7415-4E93-BF6E-518B9763716F}" type="slidenum">
              <a: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AB668-FCD6-4D14-A1D7-C962976CC01C}" type="slidenum">
              <a: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2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A1A3F-C077-47B9-8DEF-19C7F388AF2C}" type="slidenum">
              <a: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2"/>
          <p:cNvSpPr/>
          <p:nvPr/>
        </p:nvSpPr>
        <p:spPr>
          <a:xfrm>
            <a:off x="9601200" y="515880"/>
            <a:ext cx="9144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475D0-6037-4BF1-869B-079A44B39159}" type="slidenum">
              <a:rPr b="0" lang="en-US" sz="1000" spc="-1" strike="noStrike">
                <a:solidFill>
                  <a:srgbClr val="0d0d0d"/>
                </a:solidFill>
                <a:latin typeface="Tw Cen MT Condensed"/>
                <a:ea typeface="华文仿宋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95520" y="1125000"/>
            <a:ext cx="7561440" cy="15829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  <a:effectLst>
            <a:outerShdw dist="28496" dir="1574480" blurRad="0" rotWithShape="0">
              <a:srgbClr val="dfe3e5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d0d0d"/>
                </a:solidFill>
                <a:latin typeface="Tw Cen MT Condensed"/>
                <a:ea typeface="宋体"/>
              </a:rPr>
              <a:t>向穆斯林传道概论 </a:t>
            </a:r>
            <a:r>
              <a:rPr b="1" lang="en-US" sz="4000" spc="-1" strike="noStrike">
                <a:solidFill>
                  <a:srgbClr val="0d0d0d"/>
                </a:solidFill>
                <a:latin typeface="Tw Cen MT Condensed"/>
                <a:ea typeface="宋体"/>
              </a:rPr>
              <a:t>II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灯片编号占位符 4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A1A8D-3AD4-46E1-927B-E86719927D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0F97E-DDE4-48A7-9C80-2A94865AFD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你必须对穆罕默德作出评价，那么就作出一个赞许的评价吧，例如∶他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影响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群拜偶像的民族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来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敬拜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造者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或者他怎样把敌对的部落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统一起来并建立了秩序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3333cc"/>
                </a:solidFill>
                <a:uFillTx/>
                <a:latin typeface="Microsoft JhengHei"/>
                <a:ea typeface="Microsoft JhengHei"/>
              </a:rPr>
              <a:t>III</a:t>
            </a:r>
            <a:r>
              <a:rPr b="1" lang="zh-CN" sz="3000" spc="-1" strike="noStrike" u="sng">
                <a:solidFill>
                  <a:srgbClr val="3333cc"/>
                </a:solidFill>
                <a:uFillTx/>
                <a:latin typeface="Microsoft JhengHei"/>
                <a:ea typeface="Microsoft JhengHei"/>
              </a:rPr>
              <a:t>）照圣经的方法向回教徒传福音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Microsoft JhengHe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伊斯兰对基督福音的排斥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以否认耶稣的三件事，来表明与基督教的区别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它断然否认耶稣 基督是神的儿子∶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“犹太人说： ‘欧宰尔是真主的儿子。’ 基督教徒说： ‘麦西哈是真主的儿子’ 。这是他们信口 开河，仿效从前不信道者的口吻。愿真主诅咒他们。他们怎么如此放荡呢！”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∶30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CCE0B-BD30-4E25-83B6-A102A17D70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7520" y="0"/>
            <a:ext cx="121446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时期，阿拉伯人拜的偶像通常是些女神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神为安拉的说情者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∶1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提三位女神的名字，拉特、欧萨、默那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氏的侄儿阿里正考虑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相信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，穆氏劝告他∶“要见证只有安拉一位真主，祂没有同伴，也不要承认拉特和欧萨，并否认有任何神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安拉匹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 。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本 伊斯哈格，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irat Rasulullah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被概括在古兰经的其中最著名的一 节经文中∶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说：他是真主，是独一的主；真主是万物所仰赖的；他没有生产，也没有被生产；没有任何物 可以做他的匹敌。”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2∶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声称信真主是至高者，也信耶稣是真主儿子，“神人中间唯一的中保”提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穆氏不能 区分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理的启示，而断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言说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耶稣是真主的儿子，就如阿拉伯人所信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儿一般，是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hi rk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物 “配” 主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8A626-405C-4C9A-A283-B212D974ED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19160" y="0"/>
            <a:ext cx="12072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它断然否认耶稣被钉十字架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中只有一节经文说到它：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又因为他们说： ‘我们确已杀死麦尔彦之子麦西哈尔撒，真主的使者。’ 他们没有杀死他，也没有把他钉死在十字架上，但他们不明白这件事的真相 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他们没能确实地杀死他。” 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57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于伊斯兰否认这两件事实，伊斯兰与基督教之间的距离，就好像东离西那么远。穆罕默德否认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根基的两大支柱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的神性和他钉十字架。新约圣经清楚说明祂就是 “我们的主救主耶稣基督”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彼得后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∶20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虽然以另外方式高度赞扬耶稣，但是他在这点上的看法，却是非常的独断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既不是创造主，也不是救赎主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DB4AD-4167-40E5-A9D8-FE088FEA9C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0" y="0"/>
            <a:ext cx="1207296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它断然否认上帝是三位一体的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麦西哈尔撒在真主面前，否认曾教导三位一体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72-7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妄言真主就是麦尔彦之子麦西哈的人，确已不信道了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妄言真主确是三位中的一位的人，确已不信道了。除独一的主宰外，绝无应受崇拜的。如果不停止妄言，那未，他们中不信道的人，必遭痛苦的刑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尔彦之子麦西哈，只是一个使者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1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当时真主将说：麦尔彦之子尔撒阿，你曾对众人说过这句话吗？你们当舍真主而以我和我母亲为主宰。他说：我赞颂你超绝万物，我不会说出我不该说的话。如果我说了，那你一定知道。」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2105B-8644-4795-9542-F50DD0F706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19160" y="0"/>
            <a:ext cx="1195380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因这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些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原因，令穆斯林成为世界上最难接受福音的人群。伊斯兰是唯一通过自己圣典的解说，来否认耶稣的神性和钉十字架的宗教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世界的穆斯林，被教导来反对基督教的基本教义，所以在他们当中直接传福音的方法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乎肯定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先受到抵挡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是神对生活行为最完美和最终的准则，也是所有属世和属灵事物的权威，圣经必定能够展示出，一种在跨文化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跨宗教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背景下，向人们传福 音的方法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的确阐述了我们应该运用的方法，我们将继续分析，要怎样使用圣经的方式来接近穆斯林。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将借助于使徒行传，从最早的基督教宣教队，来看看福音是怎样在异邦的环境下，第一次被传扬的。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96682-7A33-4D5F-B136-04F699A8BA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19160" y="0"/>
            <a:ext cx="12072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B. 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保罗在帖撒罗尼迦向犹太人传福音的方法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描述保罗向帖撒罗尼迦犹太人传福音时的方法∶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保罗照他素常的规矩进去，一连三个安息日，本着圣经与他们辩论，讲解陈明基督必须受害，从死里复活；又说：我所传与你们的这位耶稣，就是基督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17:2-3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经文提到三个要点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正面的辩论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一连三个安息日与他们辩论。就着信息的主题自由地与他们辩论和讨论，他乐意让别人对它的真实性，进行详细的审查和进行批判性分析。这就是他与犹太人接触的规则。有明显的证据表明，他总是主动与他们进行辩论。他在以弗所的会堂，放胆讲道，一连三个月，辩论神国的事，劝化众人”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∶8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当犹太人反对他时，他来到外邦人的地区， “便在推喇奴的学房，天天辩论”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∶9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2C629-0523-435D-B3A6-72D9D9AEEF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0"/>
            <a:ext cx="120729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辩论的方法显然并没有错，事实上，圣经清楚的支持这个论点。不幸的是，经常有人会说在穆斯林中间辩论的精神，属于过去时代人的 “对峙方法”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证实福音信息而有的健康辩论，是具有充份的圣经根据。事实证明，许多穆斯林听到真理可靠的论点时，他们会更认真地思考福音信息 。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事实上，当基督徒故意避免讨论信息的可信性和相信的理由时，穆斯林总是会推断，基督徒无法为他们的信仰辩护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有些基督徒，以所谓凭着爱心和同情心的名义，对伊斯兰表现出软弱无力的态度，从穆斯林的立场来看，只会令他们轻视基督徒”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洛根， “我们向穆斯林传 福音的方法” ，穆斯林世界，卷十三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9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基督徒不但必须知道他们信甚么，而且也必须能够解释，他们为甚么会相信它。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19840-DF4B-49C6-80C0-A26F0E5B27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0" y="0"/>
            <a:ext cx="1219212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应当避免辩论变成争吵，但是一个基督徒如果能够耐心、忠实和坚定地，证明所传的福音的正当性，就能够叫神大大得着荣耀。                            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有人问你们心中盼望的缘由，就要常作准备，以温柔、敬畏的心回答各人；存着无亏的良心，叫 你们在何事上被毁谤，就在何事上可以叫那诬赖你们在基督里有好品行的人，自觉羞愧。”（彼前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3∶ 15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16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保罗宣称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被接纳为一个长老，除非他能够 “将纯正的教训劝化人” ， 而且还能够 “把争辩的人驳倒”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提多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如果基督徒能有力地为福音的真理辩护，神就会得 着荣耀，不信主的穆斯林，常常被这样的证据说服 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CC25F-FE57-42C8-9C27-207F303C3D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0" y="0"/>
            <a:ext cx="120729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. 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根据圣经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向犹太人传福音的第二个方法：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他是本着圣经与他们辩论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他并非依靠温文有礼的谈话、空洞的陈辞滥调、神学上的教条教义、他在任何时候，都是根据神的话进行辩论 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是神的话</a:t>
            </a: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，“是活泼的，是有功效的，比一切两刃的剑更快” </a:t>
            </a:r>
            <a:r>
              <a:rPr b="1" lang="en-US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当一个基督徒熟读圣经的时候，他就能够充满信心地运用它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作见证时，应当尽量按照圣经的方法 ，不要运用教义或理性的方法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最笨拙的方法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伊斯兰本身就是以教义和信条为核心。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以一套教义向穆斯林介绍基督教，只会激起伊斯兰好战的理性精神”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。应当尽量按照圣经的方法 ，不要运用教义或理性的方法。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691DD-6A95-4BE5-A15B-5B5DA83718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19160" y="71280"/>
            <a:ext cx="120250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解说耶稣就是基督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向犹太人传福音的第三个方法：本着圣经辩论，讲解陈明耶稣就是基督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对他所讲的信息有十足的把握，以致他有足够的勇气让它接受严格批判性的分析与试验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人认为 辩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论从哪方面来看都是有害的 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“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不要沉溺于辩论之中，而要设法赢得人们归向基督”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，这种说法是幼稚的。 ： “从基督自己传福音的方法，你可以看出，如果你想别人理解你的信息，辩论就是 不可避免的”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瑞思丁森，接触穆斯林的实际方法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9-4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和保罗都经常参与辩论，以证明他们信息的真实性和责备那些反对它的人。没有其他例子，比耶稣和保罗的例子，更能说明正确进行福音见证的方法。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B58ED-1B8C-41CE-9CF0-018138DFAB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19160" y="0"/>
            <a:ext cx="1207296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I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）接触穆斯林的态度和精神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A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）基本原则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)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找出得体的方法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在任何时候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亲切，对福音对象的需要、担忧、看法、偏见，要有敏锐的洞察力。不是为赢得辩论，而是要赢得穆斯林归主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相互交流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: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相互交流的精神是重要的。讨论必须持开放的态度，允许穆斯林自由参与讨论，让他说明自己的需要、惧怕、信念和担忧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)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让人得益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向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表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示我们关心他像親友，而我们的见证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是想帮助他们，不带强迫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条件，才更可能赢得他们的信任，使他们愿意聆听我们的话。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47744-F23C-4D2A-8764-F7914D1AB2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0" y="0"/>
            <a:ext cx="120729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在符类福音书中，与法利赛人和撒都该人进行辩论，祂在大祭司的审讯台前，进行了祂身为神的儿子的申诉，以致走向死亡。在约翰的福音书中，辩论更加激烈，祂与犹太人进 行了持久的辩论。圣保罗在雅典时， “与犹太人在会堂里和与每日在市上所遇见的人辩论” 。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深思熟虑而皈依的穆斯林，都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到这本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fander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古典著作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izan ul Haqq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权衡真理）这书的影响。许多穆斯林很渴望读到这本书： “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合宜的辩论，在穆斯林或其他宗教的宣教工作中，</a:t>
            </a:r>
            <a:r>
              <a:rPr b="1" lang="zh-TW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还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会继续保留一个重要的地位。”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威特布莱希特斯坦顿， “基督和辩论” ，穆斯林世 界，卷十二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6-11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EDACB-DFCD-42FD-A502-18FAF41A07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47520" y="0"/>
            <a:ext cx="12144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Microsoft JhengHei"/>
                <a:ea typeface="Microsoft JhengHei"/>
              </a:rPr>
              <a:t>C. </a:t>
            </a:r>
            <a:r>
              <a:rPr b="1" lang="zh-CN" sz="3000" spc="-1" strike="noStrike" u="sng">
                <a:solidFill>
                  <a:srgbClr val="cc0000"/>
                </a:solidFill>
                <a:uFillTx/>
                <a:latin typeface="Microsoft JhengHei"/>
                <a:ea typeface="Microsoft JhengHei"/>
              </a:rPr>
              <a:t>保罗在雅典和哥林多传道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保罗来到雅典时，他遇见了伊壁鸠鲁和斯多葛学派的哲学家，他们把他带到亚略巴古，并要求他宣讲他的信息。保罗就开始讲道：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众位雅典人哪，我看你们凡事很敬畏鬼神，我游行的时候，观看你们所敬拜的，遇见一座坛，上面 写着 ‘未识之神’ 。你们所不认识而敬拜的，我现在告诉你们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其实他离我们各人不远。 ‘我们生活、动作、存留、都在乎他’ ，就如你们作诗的，有人说： ‘ 我们也是他所生的。’ 我们既是神所生的，就不当以为神的神性，像人用手艺、心思，所雕刻的金、银、石”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. 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。 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17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22-29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9864B-90D1-4897-94FE-43F3E789C1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19160" y="0"/>
            <a:ext cx="1207296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特别注意两件事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）保罗寻找与听众之间的共同点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寻找一个能够让他传信息的接触点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触点就是 “未识之神”的坛。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保罗说： “你们所不认识而敬拜的，我现在告诉你们”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。保罗是根据他们信仰的背景，有效地讲明了他的福音。保罗没有攻击雅典人相信的是“外邦鬼神”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而是带领他们从承认未识之神，进入认识独一的真神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所承认的真正未识之神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）保罗引用雅典诗人来证实他的福音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徒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用的话来自希腊的资料。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第一句 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们生活、动作、存留，都在乎他” 来自克里特岛诗人伊壁孟德的一首诗； 第二句 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们也是他所生的” 是基里基安的诗人亚拉突所作的诗 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现象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第五行的一部份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保罗为了确立他的福音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触点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而引用希腊诗人的作品， 在此值得注意的重要原则是，可以使用非圣经的资料来为福音辩护 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C86C0-2ECA-400A-9BA8-BFE92F0097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在雅典逗留了一段时间之后，又来到了哥林多，他 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“为道迫切，向犹太人证明耶稣是基督。” 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18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5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处身于自己的民族当中。保罗再次找出共同点，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这次的共同点是在于以色列人对弥赛亚的盼望。信息的所有资料，来自犹太人所熟悉的旧约圣经</a:t>
            </a:r>
            <a:r>
              <a:rPr b="1" lang="zh-TW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有关弥赛亚将降临的预言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引用希腊人的哲学向犹太人印证所讲的；或以旧约经文向希腊人印证弭赛亚，都会让听的人感到困惑不已 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根据所处的环境，使用合适的信息题材。他总是针对听众的信仰背景，来阐述他的信息，甚至引用他们的记录和格言来宣告他的话。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我相信我们在此找到了，向不同文化或宗教的人，符合圣经传福音的模式和方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88D79-14A1-4DD8-9CEE-3E28DD901D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0" y="0"/>
            <a:ext cx="12072960" cy="237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fe3e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根据所处的环境，使用合适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福音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接触点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他总是针对听众的信仰背景，来阐述他的信息，甚至引用他们的记录和格言来宣告他的话。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我们在此找到了，向不同文化或宗教的人，符合圣经传福音的模式和方法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这是圣经向不同信仰的人传福音的方法，那么怎样才能把这方法，应用在向穆斯林传福音的事上呢：「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找出</a:t>
            </a:r>
            <a:r>
              <a:rPr b="1" lang="zh-TW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福音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与穆斯林之间的共同点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5B6AB-1F3D-4865-A41E-05BF75D6BF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52388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0" y="0"/>
            <a:ext cx="1219212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向伊斯兰布道的方法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「将福音联于耶稣之前的先知，历史及古兰经本身，有关耶稣的教导 」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些在穆斯林中有传道经验的基督徒，也提倡这种方法：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我认为应该彻底地把古兰经和旧约圣经中</a:t>
            </a:r>
            <a:r>
              <a:rPr b="1" lang="zh-TW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有关先知们的共同点探索出来。这样才能使穆斯林，认真地思考从预言到预言应验所带出的信息。 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帕谢，在穆斯林中传福音的新方法，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136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位作家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. M.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格兰特在他的著作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界上的各种宗教与基督教的关系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也阐述了同样的观点 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最不会遭到抵抗的顺序 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例如有关新约圣经、旧约圣经和有关耶稣的共同教义 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基督徒会令穆斯林被基督教深深地吸引。 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287C6-64B9-4D10-99B8-37BB55F70D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9160" y="0"/>
            <a:ext cx="1207296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当基督徒采用传统的传福音方法，单阐明耶稣是人类的主和救赎主，穆斯林会觉得拒绝这样的信息很安心，认为它违反古兰经的启示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甚至鼓励他们就在这时候，信靠伊斯兰的教义和信条来反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若辩论是从他们的处境发出挑战，针对他们的背景、他们对耶稣，以前的先知，历史的观点来介绍福音，反而能引起共鸣，刺激他们仔细思想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保罗的例子中，看见圣经允许我们引用对方的经典，让信息与他们连上关系。若基督徒除了圣经以外，还引用古兰 经，就能够使福音信息彻底与穆斯林连上关系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向撒玛利亚妇人传道用了此法：这口井是神圣的，因与雅各有关（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井成了得生命的象征。耶稣对妇人传道时，直接把生命的信息连到这口井上：“凡喝这水的还要再渴，人若喝我所赐的水就永远不渴；我所赐的水要在他里头成为泉源，直涌到永 生（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34289-32C4-4F02-A274-476E32EB54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0" y="0"/>
            <a:ext cx="12072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Microsoft JhengHei"/>
                <a:ea typeface="Microsoft JhengHei"/>
              </a:rPr>
              <a:t>D. </a:t>
            </a:r>
            <a:r>
              <a:rPr b="1" lang="zh-CN" sz="3000" spc="-1" strike="noStrike" u="sng">
                <a:solidFill>
                  <a:srgbClr val="cc0000"/>
                </a:solidFill>
                <a:uFillTx/>
                <a:latin typeface="Microsoft JhengHei"/>
                <a:ea typeface="Microsoft JhengHei"/>
              </a:rPr>
              <a:t>向穆斯林就作穆斯林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保罗向另类文化和宗教背景的人，传福音的指导：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我虽是自由的无人辖管，然而我甘心作了众人的仆人，为要多得人。向犹太人我就作犹太人， 为要得犹太人；向律法以下的人，我虽不在律法以下，还是作律法以下的人，为要得律法以下的人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向软弱的人，我就作软弱的人，为要得软弱的人。向甚么样的人，我就作甚么样的人，无论如何 ，总要救些人。凡我所行的，都是为福音的缘故，为要与人同得这福音的好处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林前书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9:19-23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觉得他必须在 “自然的规律” 上，认同於其他人的情况，使自己能恰当的以福音来接触他们。他并非设法改变这自然的规律，相反的是谦卑自己，来适应他们的环境，以便能够根据他们的背景，传福音给他们 听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瑞思丁森，接触穆斯林的实际方法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47FE2-CB3C-44A0-8A06-7919DCD919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52388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0" y="0"/>
            <a:ext cx="120729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保罗；怎样才是照圣经的方法，向穆斯林传福音呢？答案就是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向犹太人，就作犹太人。向穆斯林，就作穆斯林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必须了解穆斯林的信念、他们对众先知，对圣经历史的看法、对耶稣基督的评价、以及他们信仰上的生命观念，并根据这样的背景来介绍福音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们必须按照保罗的观念去做 ，毫不妥协，且有着自我牺牲的体谅和无私的爱。基督教的宣教士，在哪个民族中作工，首先就必须对他们的宗教，有十分透彻的了解。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若宣教士不认识古兰经、不认识穆斯林的传统、穆罕默德的生平、穆斯林对于基督的观念、以及他们的偏见。在穆斯林当中作工，最大的困难就是不晓得这一切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池维谋，穆斯林的基督，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183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D7DCB-2660-47F9-82DB-3EEB8F1ADD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0" y="0"/>
            <a:ext cx="1219212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向穆斯林宣教的人，最好能问自己这个问题：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为了引导他们归向基督，我理解他们的想法吗？我摸清了他们的思维方式吗？若他们以目前的观点去看事情，我能让他们接受这些真理吗？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伯顿，“我们接触的角度”，穆斯林世界，卷十四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中有两大主题，是基督徒能在其中，找出双方的共同点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A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）古兰经与圣经中相似之处 </a:t>
            </a:r>
            <a:r>
              <a:rPr b="1" lang="en-US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先知历史，                          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B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）古兰经与圣经</a:t>
            </a:r>
            <a:r>
              <a:rPr b="1" lang="zh-TW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中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有关我们主耶稣基督的教导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中有关耶稣基督的正面教导，肯定是双方沟通的垫脚石。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基督徒如果对古兰经和圣经都十分了解，他在与穆斯林的交谈中，通过分析这些要点，就能说明耶稣基督，远不只是一位先知那么简单。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70077-EA70-409B-B52F-C9B7788E86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47520" y="0"/>
            <a:ext cx="1202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)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亲切友谊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找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机会交朋友。以实际行动表明你爱他们。带着忍耐和怜悯的心肠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聆听对方的话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能够理解他的观点、困难、及他对基督教误解的地方。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寻找话题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让穆斯林提出他希望讨论的主题，如果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第一次会谈就尝试改变他的信仰，他会感受威胁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多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历一段内心的探索、学习和反省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受耶稣基督。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F8BAC-247F-4FDA-A855-BC24ED2D46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0"/>
            <a:ext cx="12144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IIII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）一个全面与广范性的服事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Microsoft JhengHe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健全护教学的重要性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穆斯林世界里，他们用尽了一切的手段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圣经、基督教基本教义、基督教会的情况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提出了质疑。许多穆斯林在反对基督教的辩论上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训练有素。教会若要向穆斯林传福音，就不可能避开穆斯林，蓄意想破坏基督教的信息而提出的质询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如果只想提及福音书中有关神的恩典，而不想卷入与穆斯林的辩论中，基督徒若有这样的倾向，穆斯林很快会注意到我们的软弱，他们通常会因此而看不起福音的见证人。 （哈里斯，怎样引导穆斯林皈依基督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）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05401-7E33-4F9D-853A-16C5339AF6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52388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0" y="0"/>
            <a:ext cx="12192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丁戈德史密斯，在向那些感到向穆斯林见证上，有不足的基督徒学生演讲时 ，谈到了这种深切的需要：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可悲的是，他们似乎不太了解伊斯兰；他们邀请与会的讲员讲道时，很少把基督的教义与伊斯兰的信仰联系起来。因此，这些学生不知道怎样，向穆斯林分享基督徒对于神、救恩或者启示的理论。而当穆斯林学生，在三位一体的教义上攻击他们、并否认耶稣是神的儿子时，他们根本就没有能力为自己的信仰辩 护。（戈德史密斯，伊斯兰和基督徒的见证，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11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页）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如果想有效的作见证，必须努力地去熟习圣经和基督教的基本教义，当他遭到质疑时，说话才有权威，并且能够证明他的信息有道理。宣教士不会是好争论者，但是他必须懂得辩论，并且能够正确的为他的信仰辩证。 （麦唐纳，伊斯兰的 面貌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）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53868-98CB-44B4-A9C0-2B91BB7406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0" y="0"/>
            <a:ext cx="121921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穆斯林受过训练，去认为基督教是建立在脆弱的基础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于三位一体 真神的教义，认为它是不合逻辑和难懂的；耶稣是神的儿子是个不攻自破的谎言；                     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赎只是一张让生活无拘无束的许可证，最差的就是神不能救他自己的儿子。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对穆斯林来说，已是窜改的话而非神的道，而且穆斯林已经装备好，用大量的论据来反对它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既然穆斯林抱有这样的态度，如果基督徒有任何胆怯、不确定或肤浅的推论，立即会使穆斯林相信，基督教的确是一种站不住脚的宗教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很多基督徒与穆斯林谈话时都会感到局促不安，因为他们发现，穆斯林朋友对自己的宗教信仰深信不疑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（戈德史密斯，伊斯兰和基督徒的见证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你决不要试图向穆斯林作见证，除非你在基本护教学上受良好的教育</a:t>
            </a:r>
            <a:r>
              <a:rPr b="1" lang="en-US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坚定地相信圣经的真实性</a:t>
            </a:r>
            <a:r>
              <a:rPr b="1" lang="en-US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和它的神圣权威 </a:t>
            </a:r>
            <a:r>
              <a:rPr b="1" lang="en-US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A809E-38D4-4DE4-81E9-4206A04F28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0" y="0"/>
            <a:ext cx="12192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2. 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发展一种对待伊斯兰的正确态度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知己知彼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基督徒必须了解，古兰经和伊斯兰的基本教义。若缺乏这些知识，很快就会发现自己，很难与穆斯林有效地沟通。你如果对穆斯林的宗教，没有充份的常识，在他们当中的工作，就无法取得任何进展。（可瑞思丁森，接触穆斯林的实际方法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你限制自己只使用基督教传统布道法，使用圣经和主要的信仰教义，尝试向穆斯林作见证，你会徒劳无功。穆斯林的思维与基督徒的不同。他们从小就受到古兰经、圣训和伊斯兰信条的影响，而形成 了自己的世界观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一个通俗的话来说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们必须赚取发表意见的本钱。我 们需要先熟悉穆斯林的信仰、盼望、担忧、惧怕和珍爱的信念，才能与他们进行有意义的对话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2992D-D7B5-4A84-A14E-82A8145AA9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0" y="0"/>
            <a:ext cx="121921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基督提升文化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必须相信，世上没有任何宗教，比基督教更能适应不同民族的文化，并且能按他人的信仰背景来表达。如果基督徒以此方法着手，适当地了解整个伊斯兰的背景，他就会得到良好的装备，能够把福音与穆斯林的信仰和传统联系起来。请看相关人士的观点：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基督徒必须相当熟悉伊斯兰的历史、教义和习俗。只有当他非常了解伊斯兰时，他才能够从这些理解而得知，那些是有吸引力的方法，来介绍基督教的真理，还可以避免误会。（米勒，基督徒对伊斯兰 的回应，</a:t>
            </a:r>
            <a:r>
              <a:rPr b="1" lang="en-US" sz="28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132</a:t>
            </a:r>
            <a:r>
              <a:rPr b="1" lang="zh-CN" sz="28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穆斯林是否愿意聆听我们的信息，部份因素可能是根据我们对穆罕默德和古兰经的态度来回应我们 。 （ 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Dretke 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，基督徒接触穆斯林的方法，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82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67F15-44C4-4E66-9126-D6AF8FD01E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0" y="0"/>
            <a:ext cx="12072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有一件事极其重要，准备宣教的基督徒要装备自己，除了要具备全面的圣经知识外，还必须 深入地了解穆斯林的思维方式。他必须理解穆斯林的信仰，不应该嘲笑它；并知道穆斯林对某些观点，可能会有甚么反应（尼尔斯，大使命：你和穆斯林，</a:t>
            </a:r>
            <a:r>
              <a:rPr b="1" lang="en-US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28</a:t>
            </a: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基督徒必须了解伊斯兰，而且还能够驳倒它。不但知道他们相信甚么，而且还能够说出他们为何相信它。另一方面，基督徒必须懂得阐明，自己为甚么不相信伊斯兰、以及不信的理由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基督徒来说，认识伊斯兰就好比一个两面的硬币。一方面它让基督徒避免不必要的冒犯和轻率的言论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方面它能装备基督徒，真正有效地对伊斯兰及其起源作批判性的分析，并且更加适合的能运用它来挑战穆斯林，使他反省生来就受教导的这种信仰是否正确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DC162-2579-472F-930E-A93A55B132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0" y="0"/>
            <a:ext cx="12192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穆斯林中最有效的见证，常是那些了解基督教信仰又非常熟悉伊斯兰的人，以致他们能够洞悉穆斯林的感受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并懂得机智地，促使穆斯林重新思考他的观点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宣教士</a:t>
            </a: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奥利弗克伦威尔：“因着神的缘故， 我恳求你自己反省一下，你也许是错误的” （引自 </a:t>
            </a:r>
            <a:r>
              <a:rPr b="1" lang="en-US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Cragg </a:t>
            </a: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，清真寺里的凉鞋，</a:t>
            </a:r>
            <a:r>
              <a:rPr b="1" lang="en-US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88</a:t>
            </a: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页） 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保持公平，不但针对双方宗教的正确性进行讨论，而且要留意使徒所说的： “以温柔、敬畏的心回答各人” （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基督徒若愿意打好圣经和古兰经的基础， 熟习基督教和伊斯兰的教义和传统，就能够对穆斯林，进行全面广泛的事奉。当基督徒发现，自己能够真正地洞悉穆斯林的心思时，付出的努力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会得到很好的回报；就像耶稣一样，所有遇见祂之后的人都觉得扎心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E156A-0D72-42A5-867D-549FBDBB48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52388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19160" y="0"/>
            <a:ext cx="119538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Microsoft JhengHei"/>
                <a:ea typeface="Microsoft JhengHei"/>
              </a:rPr>
              <a:t>3.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Microsoft JhengHei"/>
                <a:ea typeface="Microsoft JhengHei"/>
              </a:rPr>
              <a:t>学会阿拉伯文的价值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伯语，已成为伊斯兰的宗教语言。几乎所有伊斯兰的信条和圣行，都使用阿拉伯的术语来描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古兰经的原始语言是阿拉伯语 ，此外古兰经本身，不只一次明确地形容自己为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Qur‘aanan-Arabiyyan - “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伯文的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 ”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古 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这样启示你一本阿拉伯文的 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 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以便你警告首邑及其四周的居民，以便你预告毫无疑 义的集合日。一部分人将在乐园中，一部分人将在烈火中。”（古兰经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2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7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优素福阿里评论说： “这 ‘无疑是一节麦加的经文’ ，而 ‘首邑’ 显然是指麦加” （神圣的古兰经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0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） 。这似乎明显地表明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wahy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启示） 是以阿拉伯文降示的，以致穆罕默德能够警告，麦加及其 周围城市的阿拉伯人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05FEF-6DBA-43C2-8152-E80DFA07F9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0" y="0"/>
            <a:ext cx="121921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普遍相信，阿拉伯语是天上的语言，也相信古兰经的原版，保存在乐园里。无论如何，在穆斯林眼中，古兰经的阿拉伯文版本是最神圣的，因此，所有的穆斯林，不管他们的母语是甚么，至少都必须学会用原始的阿拉伯语阅读古兰 经，即使他们不明白它的意思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穆斯林作工的基督徒，很快会发现阿拉伯语受到多么的重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伯文的术语，在古兰经中的辞句、称呼，占有重要的地位。基督徒若不怕麻烦学习阿拉伯语，他会发现自己与穆斯林的沟通，能力大大的提高了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学的阿拉伯文至少要足以理解对于穆斯林有重要意义的宗教术语，即使阿拉伯语并非他们的母语，这对于接触非阿拉伯的穆斯林来说是极其重要的。穆斯林有他们自己的宗教词汇，因此基督教宣教士必须理解并使用它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0CEFF-FD14-442B-9840-6BD1B43C98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0" y="0"/>
            <a:ext cx="120729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一个人如果会阿拉伯文、阅读过阿拉伯文的神学着 作、并且对其内容感兴趣，就会发现他在穆斯林当中作工会通行无阻（麦唐纳，伊斯兰的面貌，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9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子如下：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具有苏菲派思想的穆斯林，在概述苏菲派的基本原则。他说 ：绝大多数的穆斯林只遵循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hari'ah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记录在古兰经和圣训中的伊斯兰教法） ，只知道怎样遵守规定的礼拜仪式、斋戒和朝觐等等。他说只有少数穆斯林曾经真的想认识真主（神） ，而且他还概述了苏菲派三重的 基本路径。他说：首先，你必须达到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riqah ‘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径’ 的状态，也就是说，必须遵循先知的道路，在个性和品格上都变得和他一样。只是从表面上遵守宗教规定的仪式是不够的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次，你必须前进到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qiqah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‘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理’ 的状态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就意味着你不但要仿效先知，而且还必须真正认识和领悟真主的真理。最后， 你也必须被吸入真主的生命中。必须与祂真实的生命联 结在一起”。他说，一个人达到这三个目标，就可以与真主结合在一起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ED306-8F4C-4894-9B8A-8996E96B5C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0"/>
            <a:ext cx="1219212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B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）提高洞察力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不拨苗助长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如早产会伤害一个孩子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非常有耐心，希望短时间内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令多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归信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。这种信念会引起许多通病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等候成熟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我们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栽培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，让神的灵使它茁壮成长；只有当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自己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表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现出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正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时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我们就知道他在成长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强迫穆斯林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作出未成熟的承诺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计算代价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要求跟从他的人，先计算所要付出的代价。对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信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而言此，他们总会为基督的信仰遭到很多迫害和弃绝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观看神的作为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只有圣灵才能改变人，要非常有耐心。有敏锐的辨别力，发觉哪些是圣灵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已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身上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工作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不要在果子未成熟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把它收割；若引诱穆斯林作决志，而他实际上并没有预备改变信仰，我们就是错把树叶当成果子了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EADC0-CC7F-4968-A002-86A08C7391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0" y="0"/>
            <a:ext cx="1207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描述苏菲派，为了寻求真主而进行的三个阶段，正好就是基督徒在耶稣基督里已经拥有的。为了解释我所说的话，我引用了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这节经文 在阿拉伯文的圣经中是这样的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Ana huwat-Tariiqu wal Haqqu waZ Hayyaah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位穆斯林感到非常震惊！ 如果我只是说： “是啊！耶稣在谈到自己的时候也说了类似的话，祂说：‘我就是道路、真理、生命’ ” 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怀疑是否还能产生这样的效果。但是藉着引用这节阿拉伯文的经文，我就能够将这句全面性的宣言与穆斯林自己，对于真主的道路的观点联系起来；这样的使用阿拉伯术语，使他留下了深刻的印象。我说：“你正在寻求 道路、真理、以及认识真实活着的真主，但是在这里我们发现耶稣说祂自己就是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riq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qq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yah -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路、真理、生命”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0AD1B-2943-466E-8DF8-A990DA0016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V</a:t>
            </a: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）如何关注伊斯兰归信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Microsoft JhengHe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归信者应该完全与伊斯兰决裂吗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基督徒来说，没有比照顾新皈依者，更令人困惑和难以解决的事情了。（韩瑞屈，身心疲惫的皈依者，穆斯林世界，卷十八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 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困难来自多方面。特别是在穆斯林占主导地位的国家，会遭到来自家人的反对，还可能遭到团体的排斥，把他赶到社会的边缘；更有可能失去就业的机会，甚至会因为叛教而遭受致命的处罚，就是被处死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方面， 皈依者总是沉缅于伊斯兰的文化中，成为基督徒后，没有希望或企图抛弃自己的传统。今天，在穆斯林中间作工的人，都有一种共识，会竭力避免让穆斯林皈依者抛弃自己的文化， 并且要避免企图把他们西化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56788-9FE7-40DC-987F-AE5BF90F27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0" y="0"/>
            <a:ext cx="121442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传道的许多理论，有许多妥协的危险，有保守的，有开放的，把我们从一个极端，带到另一个极端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：有些传道人觉得，让穆斯林皈依者，继续留在自己的社会团体中，并保留他们在全球穆斯林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mmah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乌玛中的位置。甚至 有人提出，他们根本不应该称为基督徒，而应该称为 “信耶稣的穆斯林” 或 “尔撒的信徒或追随者” 。让他们在伊斯兰的背景下，履行基督的信仰。要么就组成一个分开，但却依照传统伊斯兰方式，进行礼拜的团体，要么就继续留在他们自己的清真寺和社会里，以更直接的伊斯兰方式，来表达他们对耶稣的信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我仍然相信，那些接受耶稣作主和救赎主，并仰望祂得永生的穆斯林，必须脱离伊斯兰 ，成为与基督宇宙教会联合在一起的基督徒。我认为这是在任何情况下，都没有资格妥协的一个 理想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19B75-7072-4AB7-8735-B97A082791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0" y="0"/>
            <a:ext cx="12192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要求穆斯林慕道者，抛弃他与穆斯林的社区关系，而是劝告他继续生活在穆斯林的团体中，这位年轻的皈依者，会在那个社会里跟随耶稣的道路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论点是，这样就会拥有一个，真正本土化的穆斯林基督教神学、和一个真正本土化的，穆斯林基督教组织” （池维谋， “福音工作的动力” ，穆斯林世界，卷三十一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0-1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池维谋只用了一个字，来反应这种观点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“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” 。他本人反对任何会导致宗教混合的布道形式，他说：除非我们要求穆斯林慕道者，作出一个干净利落的决定，结束他的过去，在基督里接受一种新的生活方式，不然就真的待他不公道了。宽敞的道路并不是福音的道路。（池维谋， “福音工作的 动力” ，穆斯林世界，卷三十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1-1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4223A-A5E6-4CBF-9C65-8D63F30434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0" y="0"/>
            <a:ext cx="12192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方在二十世纪，得到工业革命和文明进步，带来前所未前的舒适程度。西方的基督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过着安逸和舒适的生活。受苦、迫害、贫困、被拒绝、赤身露体、饥饿等类的观念，变成安逸生活的对立。甚至流行宣讲神乐意赐给我们这些健康、财富和幸福。而生病和苦难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乎被等同犯了罪或者代表了不蒙神喜悦。这展现了我们的病状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全都变得软弱了。我们喜爱舒适，逃避为福音忍受迫害、苦难和艰难。我们失去了为义受苦的蒙召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新约的呼召，包括家人的敌对和受逼迫的可能性。 “人的仇敌就是自己家里的人” 。 “若有人要跟从我，就当 </a:t>
            </a:r>
            <a:r>
              <a:rPr b="1" lang="en-US" sz="28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28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背起他的十字架来跟从我”。我们不可以为着生活上的便利，而违背了这个呼召的本质。使徒时代的教会，已经埋在地下的墓穴里了。付出高昂的代价，永远都是作基督门徒的特有成份。（ </a:t>
            </a:r>
            <a:r>
              <a:rPr b="1" lang="en-US" sz="28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Cragg </a:t>
            </a:r>
            <a:r>
              <a:rPr b="1" lang="zh-CN" sz="28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，尖塔的呼声，</a:t>
            </a:r>
            <a:r>
              <a:rPr b="1" lang="en-US" sz="28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345</a:t>
            </a:r>
            <a:r>
              <a:rPr b="1" lang="zh-CN" sz="28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5D09A-E7F5-4B73-B3FA-E1D09E8F2D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归信者，需要为信耶稣而付出代价，而那些带领穆斯林归向基督的人，所付出的代价与穆斯林改变信仰，所付出的代价，极可能都是相同的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保罗说：“你们该效法我，像我效法基督一样” 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他提到为了福音所遭受的艰难。在写给哥林多教会的信中说： “直到如今，我们还是又饥又渴、又赤身露体、又挨打、又没有一定的住处”（林前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第二封信中又说他经常 “受劳碌、受困苦、多次不得睡；又饥又渴、多次不得食；受寒冷、赤身露体。（林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就像耶稣，受苦并非为自己的缘故，而是为了使他人可以得救那样；保罗也以同样的方式，提到了他的苦难：“所以，我为选民凡事忍耐，叫他们也可以得着那在基督耶稣里的救恩和永远的荣耀。” （提 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AE913-39F9-423E-9B74-7D2F09D5F3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0" y="0"/>
            <a:ext cx="1214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 “信主的和不信主的有甚么相干呢？”（林后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 :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许多向穆斯林传福音的人，认为穆斯林皈依者，必须脱离伊斯兰并加入基督教会。有一 位根据他的经历这么说：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接受基督信仰的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起初都努力与自己的家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起生活在穆斯林的环境下。但每一次都是不可能的。这人要么就被迫在他基督徒的行为和信仰上妥协，要么就被迫离开他的家庭和伊斯兰的环境。这个决定充满了苦楚和心灵上的折磨，在基督里的新人，似乎只有经历这样的痛苦，才能脱弃伊斯兰而重生。（克利斯蒂威尔逊， “穆斯林皈依者” ，卷三十四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-22320" y="4649760"/>
            <a:ext cx="10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归信者若相信福音的真理，却拒绝脱离伊斯兰 、拒绝接受浸礼，拒绝与看得见的教会联合，在这样的前题下，是否能在属灵上有能力、在主的恩典和知识中成长呢？这是从来没有人做到的。（菲力浦斯，出处同前书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CE293-3808-4444-B064-8676090993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0" y="0"/>
            <a:ext cx="12072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应当同情那些，在穆斯林占主导地位的社会背景下作工的人，他们尝试引导穆斯林归向基督，却又不想扰乱他们的生活和文化传统，来解决这些冲突的压力问题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我自己的个人经验，那些成为基督徒、却拒绝脱离伊斯兰及其惯例、拒绝加入基督教会的归信者，不久他们总是被引诱恢复伊斯兰的信仰，至少在外表上是如此，并且倒退了，失去了“起初 的爱心” （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得救的喜乐消失了，成长的机会受到了阻碍，皈依者经常会变得不开心、好批评 、妒忌那些很好地投入了教会的皈依者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事实证明，我们必须呼召穆斯林脱离伊斯兰，归向基督和祂的教会，不能在这个原则上妥协。就如亚伯拉罕蒙召以後，选择离开本族本乡，走向神要他去的地方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2F0A8-4D01-4213-BC20-D806961C8D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2. 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穆斯林改变信仰常遇到的难题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不愿受洗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穆斯林承认他信耶稣基督，却表示不愿受浸或加入基督教会，那该怎么办呢？受浸是信徒与耶稣基督在死和复活上联合的象征，受浸的命令清楚地记载在圣经中：“奉父 、子、圣灵的名，给他们施洗” 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信而受洗 忽然得救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五旬节彼得对在场的人说：“你们各人要悔改，奉耶稣基督的名受洗”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因此，必须鼓励归信者顺服去受浸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非常强调仪式和习俗，许多穆斯林似乎觉得，只要自称相信耶稣的人，还遵循伊斯兰的所有仪式 ，那么他心里实际上仍然是一个穆斯林。只要他不顺服受浸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28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这是一个明显的加入基督信仰的仪式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就尚未成为一个真正的基督徒。因此，受浸是穆斯林最终脱离伊斯兰和接受基督教的象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1DEB2-6B05-45B8-9248-20A4712AB9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52388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通常视受浸为坚定脱离伊斯兰的表示，因为受浸包括一个公开相信基督的宣告。 （玛诗，与 穆斯林分享你的信仰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所有不接受基督信仰的经验，人们似乎意识到一个事实，「受浸」使一个人在社会中的身份产生了变化。 （可瑞思丁森，接触穆斯林的实际方法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我们必须鼓励伊斯兰的皈依者，尤其是生活在西方的归信者，更当顺从主的命令受浸。这件事不由得个人去选择，这是公开承认基督的一种表现。当第一批外邦人成为信徒和领受了圣灵时，彼得就立即 “吩咐奉耶稣基督的 名给他们施洗” 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受浸不是一件可以随意选择的额外事，而是承认这信仰必须做的事； 顺从的人会变得非常的坚强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F40F9-7B9D-4697-B657-733A1AD6F3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0" y="0"/>
            <a:ext cx="1207296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C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）宽容谦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见证过程中要宽容，说话时和蔼亲切；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在（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∶19-20)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；他求神让他放胆讲论福音；同时希望言语能常常带着和气，好像用盐调和，就可知道该怎样回答各人（西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∶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要满怀爱意并面带微笑，你可以向穆斯林说任何的事情。他们尊敬那些在一群穆斯林中、 有勇气说出自己的信仰，并毫不犹豫地讲出所有真理的人  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必须发扬一种温和的进取精神， 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“向众人大显温柔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 （提多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∶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却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勇气和信心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向我们辩论的人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好像司提反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样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以致他们 “敌挡不住” 他 “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以智慧和圣灵说话”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（使徒行传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∶1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A7AD6-7BDA-401A-B406-1929B68374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如何看待信而不受洗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必须考虑到，那准备成为信徒却不受浸或加入地方教会的穆斯林。我们当拒绝他们吗？绝对不能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--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恩属於口里承认，心里相信的人。如果有人表明信主，就必须接受他们为弟兄。我们必须关心他们，并设法帮助他们、建立他们，尽量多与他们相交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家都同意有相当多未受浸的信徒存在，当中有人正准备见证他们的信仰。大家同样为这些事实感到高兴，并且承认这种门徒的身份，比根本不是门徒要好得多，这种门徒为基督教的发展，创造了一个充满希望的阶段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过，我们应该让这些皈依者明白，他们并非忠于基督，而可能是经历一次“残缺不全的宗教体验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是没有联结於身体的肢体。我们的方法只能是劝告、鼓励并支持那些信心软弱的人，永远要记住他们都是 “基督为他死的那弟兄” 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也是神所深爱的人 。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02693-C5C2-4FBA-A970-67658EFFF7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0" y="0"/>
            <a:ext cx="1228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来自家人的阻止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委身基督的最大试探来自家庭。要对这事特别敏感。很少人会想到寻求基督信仰时，需要牺牲家人。我们应该鼓励皈依者，尽所能保持良好的家庭关系。当我们觉得他们的选择太过偏向家庭、而在的信仰上妥协时，我们仍然必须避免批判他们，应该尽量同情并谅解他们，就算他们不理会我们的劝告。有些皈依者宁愿因着他们的见证而受到至大的刑罚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死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也不愿意与他们的家庭完全决裂：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他们当中绝大多数人都声称如果有必要的话，他们乐意为了他们的信仰而死。拦阻他们公开宣告信仰的主要因素，通常是惧怕使家庭关系破裂，不想令自己、他们所爱的家人遭受诽谤和逼迫 </a:t>
            </a:r>
            <a:r>
              <a:rPr b="1" lang="en-US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社会对皈依者甚至他整个家族的排斥是一个非常真实的事实。 （克利斯蒂威尔逊， “穆斯林皈依 者” ，穆斯林世界，卷三十四，</a:t>
            </a:r>
            <a:r>
              <a:rPr b="1" lang="en-US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172</a:t>
            </a:r>
            <a:r>
              <a:rPr b="1" lang="zh-CN" sz="28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40DC5-BA05-4601-B78C-1D9FA8B160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0" y="0"/>
            <a:ext cx="121442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留心撒旦的诡计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句谚语： “血浓于水” 。伊斯兰皈依者成了基督徒后，会马上遭到家人的反对、否认和驱逐。然而，家庭的紧密联结，往往导致家人放弃敌意，如果他没有竭力使家人归信基督教，他们甚至会欢迎他回来，重新成为家庭的一员。这时，撒但会 利用他这个“暂时” 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的机会，而皈依者也会发觉，自己对家人的相应的爱，很可能成为 令他作出妥协的诱惑。在这样的时期，必须保持高度的敏感和警惕，“免得撒但趁着机会胜过我们，因我们并非不晓得他的诡计（林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确的传道方法总是要让犹豫不决的皈依者明白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忠于基督，就必须坚定，就像祂对我们的爱也是坚定的。但是当我们的劝告达不到预期的效果时，我们仍要尽可能温和、富有同情心、且宽容地对待他们 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9C774-09DC-41A4-B214-071A2FF942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47520" y="0"/>
            <a:ext cx="1209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Microsoft JhengHei"/>
                <a:ea typeface="Microsoft JhengHei"/>
              </a:rPr>
              <a:t>3.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Microsoft JhengHei"/>
                <a:ea typeface="Microsoft JhengHei"/>
              </a:rPr>
              <a:t>基督教会的接纳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预备投资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教会要求归信者忠於基督。那么教会就有责任，将归信者紧密地联于基督的身体。教会必须利用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圣约上和团契上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神和人而来的资源，如果缺乏它们，归信者将有困难长成基督的身量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拒绝威势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会会对他们不够关心，而成了没履行基督福音的责任。害怕穆斯林团体可能会迁怒于他们。这样的懦弱是绝对不可原谅的。归信的穆斯林常需要为信仰付出代价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难道我们的安逸和满足受到威胁，就要对他们冷眼相待吗？不幸的是，这样的事情经常发生。今天的教会正过着无忧无虑的舒适生活，若有任何威胁它都会立即避开。教会不能对「逃避」责任，而不自觉。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45955-F1B6-4EBF-A4BB-CBB50BFA18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0" y="0"/>
            <a:ext cx="12072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接受麻烦：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互相容忍” 常是教会的方针。只要我们的信仰在的教堂内表达，就不会给世界带来麻烦，世界也不会麻烦我们。这种环境对穆斯林的福音事工非常不利。我们必须为穆斯林归信者创造一个有利的环境。从伊斯兰转变信仰者会引致我们有麻烦，我们必须面对这些麻烦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会是否想过改变信仰对穆斯林意味着甚么？是否了解任何穆斯林想成为耶稣徒需要付出的代价？是否了解教会也需要付出的代价呢？要变卖所有的赒济人（路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提供属灵的家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教会想成为伊斯兰归信者属灵的家、手足情深的团体。就必须制订明确且周详的计划，在基督信仰上教导并训练他们；承擔人道上的需求的援助。教会当务之急是让归信者有家的感觉。有体谅与勇敢的心，接纳为基督的缘故，自愿放弃家庭和传统的人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0607E-B737-4DD3-A265-14B7F6977C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19160" y="0"/>
            <a:ext cx="1195380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D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）肯定自己的身份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是神的儿女，是最后国度的继承人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并不是与伊斯兰作战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真理和爱里，我们也是为穆斯林而活，希望他们能得着救赎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避免偏袒以色列而反对伊斯兰。在我们与穆斯林建立的关系中，爱必须是最伟大的激发因素。如果他们感觉我们背地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他们心怀好战的态度，他们对我们的信任就会立即消失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E</a:t>
            </a:r>
            <a:r>
              <a:rPr b="1" lang="zh-CN" sz="3000" spc="-1" strike="noStrike">
                <a:solidFill>
                  <a:srgbClr val="cc0000"/>
                </a:solidFill>
                <a:latin typeface="Microsoft JhengHei"/>
                <a:ea typeface="Microsoft JhengHei"/>
              </a:rPr>
              <a:t>）公正与正直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在任何时候都必须维持公平的精神。基督徒应该效法耶稣基督的真诚，总是沉着冷静，且有耐性的依靠圣灵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持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理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直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406D2-4C35-4277-9251-61C1D304CD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0" y="0"/>
            <a:ext cx="120729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把他视为一个兄弟，基督也为他 死了，祂差遣你来告诉他与神和好的信息。从举止上清楚向他说明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希望他以同 样的态度对你，就可以压制他无礼的态度，也不会激怒他。绝不要让辩论沦为争吵。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绝不要激动或者发脾气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你是为基督赢得穆斯林，而不是为基督教赢得辩论。当穆斯林不留情面与你争论，千万不要生气。要尽一切办法为真理辩论，最重要的是避免纯粹的对抗和争吵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「只要心里尊主基督为圣。有人问你们心中盼望的缘由，就要常作准备，以温柔、敬畏的心回答各人 ；存着无亏的良心，叫你们在何事上被毁谤，就在何事上可以叫那诬赖你们在基督里有好品行的人，自觉羞愧 。”（彼前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3∶15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16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ECCB7-C0BC-418B-AD79-F1FAEBE9E7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0" y="0"/>
            <a:ext cx="120729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定会有人反对你的见证，并说出他们对福音的误解。那时你就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纠正他们。你若想与一个穆斯林交谈，“让他感受到你的幽默和耐性，这是最大的优点”。这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让人认识，你在基督里的平安，且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证明有宽阔的爱。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3333cc"/>
                </a:solidFill>
                <a:uFillTx/>
                <a:latin typeface="Microsoft JhengHei"/>
                <a:ea typeface="Microsoft JhengHei"/>
              </a:rPr>
              <a:t>II</a:t>
            </a:r>
            <a:r>
              <a:rPr b="1" lang="zh-CN" sz="3000" spc="-1" strike="noStrike" u="sng">
                <a:solidFill>
                  <a:srgbClr val="3333cc"/>
                </a:solidFill>
                <a:uFillTx/>
                <a:latin typeface="Microsoft JhengHei"/>
                <a:ea typeface="Microsoft JhengHei"/>
              </a:rPr>
              <a:t>）基督徒对穆罕默德和伊斯兰的态度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对待穆罕默德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对话中介绍穆罕默德。基督徒经常被问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“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对穆罕默德有甚么看法？”如果这群穆斯林是激烈并带有挑衅性的话，这问题就像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你上钩的饵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想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获得穆斯林的欢心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过度称赞穆罕默德的人，只会让人怀疑他的见证；直接批评他的人，很可能令聆听者疏远 ，且伤害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感情 。我们的看法一定要中肯，最好的方法是既不称赞他，也不要埋没他的优点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10837800" y="6470640"/>
            <a:ext cx="9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3B104-F336-4821-9010-BBC897CDAD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华文仿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0" y="0"/>
            <a:ext cx="1219212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绝不</a:t>
            </a:r>
            <a:r>
              <a:rPr b="1" lang="zh-TW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要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他们的面，说穆罕默德是个假先知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                                                              任何抨击穆罕默德品格的话，即使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似乎合理，都有可能冒犯询问者，而令他疏远你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甚至召来逼迫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道人必须知道穆斯林信仰甚么，须以最不会冒犯他们的方式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出全部基督教的信息。避免去证明伊斯兰是错误的，而基督教才是正确的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好的方法是向穆斯林显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基督信仰比伊斯兰优越，而且基督教创始人是绝对的完美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祂所订立的标准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比穆罕默德的品格和他所认可的法律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优越得多。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得体和客观的，提出穆罕默德言行中的强弱缺点。这是完全可以接受的，我们必须避免审判或毁谤。反而应该“当恭敬的，恭敬他” （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∶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而无需感到不安 ，我们若尽可能称赞他的热心，并不会使我们失去甚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1:41:31Z</dcterms:created>
  <dc:creator>Pastor Chan</dc:creator>
  <dc:description/>
  <dc:language>en-US</dc:language>
  <cp:lastModifiedBy>chan HK</cp:lastModifiedBy>
  <dcterms:modified xsi:type="dcterms:W3CDTF">2024-12-25T12:17:39Z</dcterms:modified>
  <cp:revision>49</cp:revision>
  <dc:subject/>
  <dc:title>向伊斯兰传教的原则与方法</dc:title>
</cp:coreProperties>
</file>