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99F5-CD9A-43E9-8A44-663A2785B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EAB1-6239-4499-857F-D4F22A02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694C-80C9-4422-9C88-683B7388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68F8-0C53-4E68-81C3-EF2360EDA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BB5A-D4AD-40E8-9E14-1601E8F9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C3B0-35BF-41B0-80E2-11706403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9B11-E43F-4481-835A-C6C5EA63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2486-55E0-444B-88D6-D6142735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FB18-7D3D-441E-ABCB-1807928E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B17C-DF6B-4B24-8A62-BB5BEE3F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BC74-8942-4157-BD59-E4978C80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FABC-74E1-40C9-A654-9B4F85CD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056D-2AED-4A49-94CB-4E9B3635A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0"/>
            <a:ext cx="1219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黑体"/>
                <a:ea typeface="黑体"/>
              </a:rPr>
              <a:t>如何向穆斯林传讲福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讲这一课之前我假设你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个基督徒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知道怎样行在圣灵里，并且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福音传道方面受过基本的训练（知道怎样与朋友分享好消息）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果你没有受过任何福音传道的训练，那我建议你去培训一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0"/>
            <a:ext cx="1219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关於亚伯拉罕对陌生人的热情款待，请叁看创世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给客人最好的东西吃。抽时间陪他们。创世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写的是罗得对陌生人的盛情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首先招待最年长者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给阿拉伯人和哈萨克人倒咖啡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给伊朗人、印度人、巴基斯坦人、孟加拉人、马来西亚人泡浓一点的红茶。拿出白糖和牛奶 （或乳酪） ，还准备好甜点心 （糕点、糖果）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至少三次提供食物吃 （ 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taroof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」 ） 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创世记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19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3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「 ┅ 切切地请他们吃 ┅ 」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0" y="0"/>
            <a:ext cx="12192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每餐还要有面包 （特别是阿拉伯人）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主人带客人吃。客人是被动的，主人给甚麽就吃甚麽，照主人的意思做。如果客人问道行程安排方面的问题，那麽主人有责任处理时间安排的问题。聚会期间，客人会隐蔽任何敏感的安排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推荐合适的服饰：聚会意味着正式场合；野餐不正式；运动就穿运动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聚会的时候，包括你最小的孩子和老人共同进餐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准备一张床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做个好客人：充满感激，荣幸，给女主人带点小礼物 （水果、新鲜坚果、或鲜花）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-76320" y="0"/>
            <a:ext cx="12268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长城细圆体"/>
              </a:rPr>
              <a:t>穆斯林的类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尽力鉴别穆斯林的类型 （这是件困难的事情） 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调和派 （民间伊斯兰） 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伊斯兰中搀杂有违反伊斯兰教义的迷信，比如看手相、占星术 （算命） 、看茶叶测天命、挂咒符、念咒语等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问他们是否有魔力压迫的迹象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上瘾、不道德、灵的搅扰和失去理智。如果是这样的话，那提出为他们做释放祷告。在某些地区，这是伊斯兰最普遍的形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0"/>
            <a:ext cx="12192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原教旨主义者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将古兰经教条化，所以跟他们接触时必须使用古兰经。他们是毫无疑问地接受传统和古兰经经注。只吃伊斯兰律法所规定可食的食物，如果他们能去清真寺，将会叁加星期五的敬拜。他们不喝酒，也不会有婚姻外的性行为 （除非和一个非穆斯林女人）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女人在公共场合不化妆，如果与她见面的男人不是她的亲属，那她不会跟他握手。在修行方面很严格。 （有些巴基斯坦人、伊朗人、埃及人、利比亚人、阿尔及利亚人是如此的） 。有人认为这些人是最难接触的。这取决於他们是否谦卑，是否真正想寻求神，还是只想做给别人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0" y="0"/>
            <a:ext cx="1219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保守派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他们会根据情况调整生活，但更偏向於比较适度地接近伊斯兰律法。所以如果你使用古兰经，他们会感到更轻松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长城细圆体"/>
              </a:rPr>
              <a:t>神秘派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寻求与神 （真主） 的合一，寻找神秘的经历。伊朗一位苏非派诗人对尔撒麦西哈 （弭赛亚） 有特别的欣赏。挑战他们向神 （真主） 祷告，奉尔撒麦西哈 （弭赛亚） 的名字祈求。这类人是最容易接触的。但他们只占穆斯林的百分之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长城细圆体"/>
              </a:rPr>
              <a:t>自由派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可以试用许多方法，包括常规的基督教护教学和创造论文学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长城细圆体"/>
              </a:rPr>
              <a:t>世俗派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他们仅仅为了社会和政治目的的穆斯林。所以，利用常规的基督教护教学和创造论文学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0" y="0"/>
            <a:ext cx="12192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长城细圆体"/>
              </a:rPr>
              <a:t>共产主义者或社会主义者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他们是马克思主义者或毛泽东主义者，为权宜而作穆斯林。（有些巴勒斯坦人、叙利亚人、伊拉克人就是这样） 。所以，利用常规的基督教护教学和创造论文学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也可按下面各派来分类（可直接问他们）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长城细圆体"/>
              </a:rPr>
              <a:t>逊尼派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长城细圆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（更可能说实话的派别，地方分权的政府，将古兰经视为最高权威，对他们的经注中有严格的解释。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长城细圆体"/>
              </a:rPr>
              <a:t>什叶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 （准许 「白色谎言」 的神学，以阿亚图拉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(Ayatollahs)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为中心的中央集权制，通常来自於伊朗及其附近地区，视阿亚图拉为古兰经最後的解释者，解释很生硬。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0" y="0"/>
            <a:ext cx="12192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长城细圆体"/>
              </a:rPr>
              <a:t>苏非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 （神秘的、超凡的、和直接的启示。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长城细圆体"/>
              </a:rPr>
              <a:t>穆斯林女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穆斯林女人对伊斯兰传统有许多的抱怨理由。她们总是在法律上比父亲或丈夫低一级。她们不能与兄弟一样平等地享有遗产继承权。她们在法庭上不是如男人那样可作为可靠的证人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她们不能自由地选择她们的丈夫。男人可以拥有四个妻子，而无需其他妻子的同意。男人可以随时休了他们的妻子。离婚後，她们对孩子不享有监护权。除非穆斯林丈夫带他的妻子同去，否则不要留宿别人的女人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76320" y="0"/>
            <a:ext cx="12115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长城细圆体"/>
              </a:rPr>
              <a:t>在宗教问题上要小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尊重你的圣经和他的古兰经：不要在上面写字，保持清洁，保护好它，不要放到地上。如果你所有的圣经都有标记，那麽买过一本新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除掉耶稣弭赛亚或其他先知 （或圣母马利亚或其他圣人） 任何形式的图片或雕像。这个问题是东正教和天主教，向穆斯林福音传道的主要障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埃及的东正教基督徒，不像俄国的东正教那样，在至圣所里将宗教艺术品，摆放在如此显眼的位置。什叶派穆斯林确实有伊玛目和阿亚图拉 （相当於使徒和教皇） 的图片，但不是先知的画像，而且是放在他们的工作地方，不在清真寺里头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从教堂移除任何一张人类画像或雕塑，即使是耶稣弭赛亚的也不例外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群体祷告 （在公共场合） 时，只能站着、跪着、或躬着腰 （不能坐着或躺着） 。这个做法让大部分非礼拜式的教堂难以接受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不要随便邀请一个穆斯林叁观教堂，除非他们是认真的慕道者。然後，解释说神想与我们有互爱的亲密关系，所以我们感觉安全，可以自由到达慈爱的父神那里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-76320" y="0"/>
            <a:ext cx="12268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之後，试着在一个用传统路德宗礼拜方式 （站着祷告） 的教堂坐前排 （不要见到女人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吃饭之前，说： 「在我们开始吃饭之前，想感谢主赐予我们的饮食」 。然後开始祷告。不要说 「让我们开始祷告 （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pray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） 」 ，因为 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pray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」 这个词可能会错译成 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salaat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」 ，意思是每天要求的五次拜功，这是我们不需要做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他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你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的时候需要拜功，给他一个私人地方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斋月期间，他们一直禁食到太阳下山。他们不会让任何东西经过他们的嘴唇 （食物、水、烟，但月经期的妇女例外） 。所以，我们在他们面前不要吃，不要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76320" y="0"/>
            <a:ext cx="12115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提醒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： 「不要捣坏了果实」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当我到杂货店购物时，我必须决定买哪个瓜、哪个西红柿等等，我是不是要一、两天吃？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我的考虑因素是它是不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熟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？熟不熟是在菜园里或商店里挑选水果和蔬菜的关键考虑因素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准备回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-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就像熟了一样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–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当一个人决定说 「是的，我想成为基督徒」 。如果我们觉得这个人不太成熟 （没准备好） ，我们最好不要急着采摘。如果我们过早地采摘未熟的水果，很可能会 「捣坏了果子」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我们要让圣灵首先作工，让世人为罪，为义，为审判自己责备自己 （约翰福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） 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76320" y="0"/>
            <a:ext cx="12115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Halam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禁止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含酒精的饮料，如洋酒、啤酒等待。哥林多前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，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2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禁止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猪肉、火腿、咸肉、腊肠、猪油等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清真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Halal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煮合法的肉、或鱼或蛋。伊斯兰规定的合法肉类，可以从伊斯兰肉类市场买到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Halal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的意思是屠宰之前，对着活物做个简短的伊斯兰式的祷告，动物的头不会完全从身体上切下来。从伊斯兰标准肉类市场可以买到合法的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如果你想知道你的朋友，是不是原教旨主义者，那给他吃标准肉 （牛肉、羔羊肉、绵羊肉、山羊肉、鸡肉、火鸡、鸭肉） ，没有鱼或蛋，也不说那是合法的菜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如果他不吃，就问他为甚麽不吃。如果他谈论起肉是怎麽屠宰的、或诸如此类的东西，那就告诉他那是合法的。现在你就知道他是原教旨主义者了，这将有助於你跟他沟通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如果他没问肉是不是合法的就吃了，那他一定不是原教旨主义者，那以後就可以请他吃非规定的标准食物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什叶派的阿书拉纪念日 （纪念阿里和侯赛因之死） 期间，不要穿红颜色的衣服。 （刺杀两人的凶手穿的就是红衣服。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76320" y="0"/>
            <a:ext cx="11963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伊斯兰的礼仪膜拜 （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salaat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一块屏风将女人和小孩 （男孩得小於八岁） 跟男人和大点的男孩分开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没有椅子。没有图画。小范围的地方有屋顶。没有 「音乐」 ，但有古兰经音乐般的 「吟诵」 。每人一张拜席，一颗从麦加采回来的小石头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拜功前要宗教净洗。拜时只能躬着腰，或跪着，或站着，不能坐着或躺着，并且面向麦加 （用指南针和地图辨明方向） 。拜时声音洪亮，温柔，用阿拉伯语，每天同时间重复同样的拜词。伊朗人 （什叶派） 将拜功次数合并，所以每天只要净洗三次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0" y="0"/>
            <a:ext cx="12192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周五是膜拜和休息时间，马来西亚有些州属除外，他们的休息日是星期天，而在星期五穆斯林劳动者被容许有时间叁与礼拜和听道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因为穆斯林的膜拜方式与我们有很大不同，所以没有把握就不要邀请穆斯林叁加我们教会的聚会。这样会冒犯他们，使他们觉得比我们高一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不要将辩论激化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如果穆斯林在辩论中输了，就会觉得 「丢面子」 。那他通常对你和福音有抵触心理。创世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给了亚伯拉罕避免和罗得冲突的一个榜样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0" y="0"/>
            <a:ext cx="1211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让圣灵向他启示尔撒弭赛亚 （麦西哈） 是唯一通往天堂之道，约翰福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。跟他说： 「有很多方式亲近神 （宗教） ，但基督教不同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其他宗教，因为神亲自临到我们教导我们 是谁，并藉着尔撒 （耶稣） 弭赛亚 （麦西哈） 带我们到 那里去。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不要强调不同点。让圣经不言而喻。不要争论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不要为十字军辩护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不要为以色列辩护，也不要为他们对巴勒斯坦人的不公正待遇辩护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0" y="0"/>
            <a:ext cx="10667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最近，穆斯林在试图劝服基督徒皈依伊斯兰方面变得越来越训练有素了。所以他们可能会发起辩论。那麽，充满激情地跟他们辩论去吧。我建议将伊斯兰比喻成耶稣常批评的法利赛人。他们都喜欢将许多传统强加进神的律法，结果隐匿了神真正的本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为这些赞他们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「神若愿意」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= Eshah Allah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。雅各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5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「主若愿意」 ，「神至大」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= Allah Akbar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。诗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7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。「神是唯一，无与相配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祷告，禁食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接济穷人 （布施） 。诗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7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尊重众先知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关心家庭，社会和正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0" y="0"/>
            <a:ext cx="12192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准备尊重和真诚地谈论穆罕默德和古兰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尊重所有的 「先知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说出他们的称号，比如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先知亚当 （阿丹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先知挪亚 （努哈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先知摩西 （穆萨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先知大卫 （达伍德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先知但以理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先知施洗约翰 （叶哈雅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但，称呼耶稣要说「先知和弭撒亚 （麦西哈） 尔撒」，或者「尔撒先知和弭赛亚 （麦西哈） 」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我不会叫穆罕默德 「先知」 ，因为缺乏任何公认的神迹 （清楚的迹象） 来证明神 （真主） 接纳穆罕默德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0" y="0"/>
            <a:ext cx="12192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学习古兰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如果你在古兰经中发现某个真理，就利用它。如果你不喜欢穆斯林所说的话，就说： 「请在古兰经中找给我看」 。准备按照基督的角度来解释古兰经。结合上下文仔细阅读古兰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将一般学习圣经的技巧运用在古兰经上：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文中说的是甚麽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运用语言学来分析，特别适用於鉴别文中的对象：是指异教徒、穆斯林、还是法利赛类型的犹太人或异端基督徒。 （我认为你在古兰经中找不到一处针对真正基督徒的地方。 「曾受天经的人」 指的是法利赛类型的犹太人。）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它对原本的对象意味着甚麽？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它对今天的我意味着甚麽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买一本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》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不要关注圣训 （传统） 、古兰经经注、或解释古兰经和伊斯兰修行的传统方法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古兰经指控基督徒的三位一体就是神 （真主） 、马利亚 （麦尔彦） 和尔撒弭赛亚 （麦西哈） ；并且 「神的儿子」的由来 具有性的意味。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「三位一体」 不是圣经里的用词。它是事实的一种解释。让圣经不言而喻，让圣灵去审判，叁看约翰福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。古兰经认同圣经的说法认为尔撒弭赛亚 （麦西哈） 是童贞女所生，此乃神 （真主） 的旨意 （古兰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3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3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）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0" y="0"/>
            <a:ext cx="12115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无论圣经在哪处用 「神的儿子」 这个措辞，都要解释它，比如解释成 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长城细圆体"/>
              </a:rPr>
              <a:t>具有 的本性，是 的道，是 发出的精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。」 （见希伯来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长城细圆体"/>
              </a:rPr>
              <a:t>向穆斯林宣教的最佳方法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按基督徒争议最少的先排列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持久的祷告和禁食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巴基斯坦教会报导说，他们认识到的每一个从伊斯兰归信的皈依者，都有人最少为他们祷告两年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祈祷神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-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保惠师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-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圣灵会叫你的朋友为罪，为义，为审判而责备自己，正如 在约翰福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中应许的那样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3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请其他人为你的穆斯林朋友代祷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0" y="0"/>
            <a:ext cx="1211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必须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有</a:t>
            </a:r>
            <a:r>
              <a:rPr b="1" lang="zh-TW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属灵关系的基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本</a:t>
            </a:r>
            <a:r>
              <a:rPr b="1" lang="zh-TW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建立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邀请你的朋友叁与合适的事情，可以达到这种效果。在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他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对主耶稣感兴趣之前，需要花时间在穆斯林朋友身上，让他觉得我关心他所关心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小心处理道德问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在保守的穆斯林面前穿戴要朴素大方：衣服宽松，从脖子到手腕到脚踝都要裹紧。不要穿泳装。如果方便的话，妇女 和成年的女孩， 应该用围巾之类的东西盖着她们的头发。 （穆斯林的修行有些做法也和圣经一致，如下面显示的 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创世记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2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65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问那仆人说：这田间走来迎接我们的是谁？仆人说：是我的主人。利百加就拿帕子蒙上脸。（帕子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0" y="0"/>
            <a:ext cx="11963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个人见证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准备说出你的个人见证：荣耀神。谈谈祷告的回应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如果他们也说到祷告後有神迹般的回应，请不要惊讶。 （叁见上面写到的民间伊斯兰。）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分享那些成为基督徒的穆斯林见证的书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推荐读路加福音 （和使徒行传）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因为路加福音在有关 「耶稣是神的儿子」 的论述并不具冒犯性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研读圣经 （旧约） ，解说 「弭赛亚 （麦西哈） 」 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穆斯林接受尔撒就是麦西哈，或者说弭赛亚，但不知道这个称谓的意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0" y="0"/>
            <a:ext cx="12192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耶稣录像 （用路加福音的影音）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小心使用，因为它不能用於原教旨主义者，他们觉得耶稣弭赛亚 （穆斯林尊其为先知） 不能在屏幕显示。严谨派穆斯林 （原教旨主义者） 为避免偶像崇拜禁止任何先知在屏幕显示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为他们的感性需要祷告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提出为他们的需要祷告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为你的穆斯林朋友祷告，根据他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她的心里需要，和他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她一起奉尔撒的名字祈求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建议他们奉尔撒弭赛亚 （麦西哈） 的名字为他们的需要向神 （真主） 祷告。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152280" y="0"/>
            <a:ext cx="11811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建议他们向神 （真主） 祷告关於尔撒弭赛亚 （麦西哈） 的启示：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.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的神性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被钉死在十字架上，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从死里复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长城细圆体"/>
              </a:rPr>
              <a:t>基督教电台广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152280" y="0"/>
            <a:ext cx="120398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「先知和麦西哈尔撒的清真寺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那是甚麽？看起来功能上像清真寺的一座教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a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作为基督教崇拜的伊斯兰形式和做法，需要充满基督教方面的内容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） 清真寺作为祷告的地方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） 在膜拜的地方脱下鞋子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） 穆斯林圣歌，改编成赞美尔撒的赞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） 尊敬神的话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） 背圣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） 早祷、午祷和晚祷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） 祷告姿势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） 照顾穷人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） 禁食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）某些穆斯林节日，如果能适当地改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228600" y="0"/>
            <a:ext cx="118108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b.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与基督教相对比较中立的伊斯兰形式和做法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） 晚上走访朋友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） 艺术形式：地毯、书法、建筑、 嵌工艺、陶瓷、音乐等等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） 服装风格，不张扬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） 在膜拜和聚会时将男女分开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） 刮胡子的习惯：胡须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） 吃东西的习惯：不吃猪肉，不喝酒等等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） 运动：步行的习惯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） 房子的设计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） 上厕所的习惯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）教育体系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）祷告前先净洗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）花园的风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76320" y="0"/>
            <a:ext cx="11430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c.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基督教敬拜所完全不能接受的伊斯兰形式和做法，要抵制：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）诵读那部分承认穆罕默德是神 （真主） 先知的经文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）全盘地接受古兰经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）麦加朝觐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）亲吻克尔白天房的黑石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）伊斯兰圣战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）一夫多妻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）天堂的感性概念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）利用古兰经经文来驱魔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）询问穆斯林圣人解决问题的神奇药方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76320" y="0"/>
            <a:ext cx="12039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为甚麽？一些有经验的宣教士都推荐这种方法。这种方法称为处境化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我对使用 「清真寺」 的支持取决於具体意义。它是否有祷告的房子这广义？或者特地专门为伊斯兰所用？我们是不是该避免用 「清真寺」 这个词，或者该叫它耶和华的祷告之屋，还是耶和华 （或尔撒） 的祷告之屋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关於弭赛亚 （麦西哈） 的信仰的要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划线的句子违反了传统的伊斯兰神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0" y="0"/>
            <a:ext cx="12192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关於他们与我们一致认同的问题 （没有划线的） ，请不要辩论。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长城细圆体"/>
              </a:rPr>
              <a:t>1.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长城细圆体"/>
              </a:rPr>
              <a:t>圣经准确无误，尤其是关於弭赛亚 （麦西哈） 的记载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童贞女怀孕生子。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长城细圆体"/>
              </a:rPr>
              <a:t>3.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长城细圆体"/>
              </a:rPr>
              <a:t>尔萨的神性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无罪的生命。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长城细圆体"/>
              </a:rPr>
              <a:t>5.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长城细圆体"/>
              </a:rPr>
              <a:t>代赎罪而死。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长城细圆体"/>
              </a:rPr>
              <a:t>6.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长城细圆体"/>
              </a:rPr>
              <a:t>宝血的能力；清除罪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身体从坟墓复活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升到了天上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9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现在活着。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长城细圆体"/>
              </a:rPr>
              <a:t>10.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长城细圆体"/>
              </a:rPr>
              <a:t>现在有职事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1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会再来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0" y="0"/>
            <a:ext cx="1196352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主祷文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划线的经文违反了传统的伊斯兰神学。所以不要辩论那些他们与我们一致的问题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长城细圆体"/>
              </a:rPr>
              <a:t>我们在天上的父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  <a:ea typeface="长城细圆体"/>
              </a:rPr>
              <a:t>-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愿人都尊你的名为圣。愿你的国降临，愿你的旨意行在地上，如同行在天上。我们日用的饮食，今日赐给我们。免我们的债，如同我们免了人的债。不叫我们遇见试探，救我们脱离凶恶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（马太福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76320" y="0"/>
            <a:ext cx="11963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我们被呼召使人作门徒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-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耶稣的追随者，而不是假冒的 「信徒」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-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理论上同意，没有改信、悔改、改变、方向、与过去的我决裂、朝我前面的道路奔跑。所以，我们需要叫慕道者计算代价，充份评估後果。 （路加福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3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，拿建房子和打仗作比喻。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例如，一主要的结果就是耶稣要求信徒向他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她的家人和朋友见证耶稣，承认自己信了耶稣。 （请看马太福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3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3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，路加福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，约翰福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） 。对有些人来说，尤其是穆斯林、那将是火上加油的事情！它可能造成皈依者死在自己家里人的手上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0"/>
            <a:ext cx="121921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非穆斯林国家的基督徒女人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在与原教旨主义的穆斯林男人接触时，也可以留短发，或者扎辫子，或者将头发盘起来，还可以扎马尾辫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穆斯林传统说，如果女人穿着暴露，那她们应该对男人的淫荡思想负责。在陌生的穆斯林男人面前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女人不要当他们的面前补妆，修头发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林前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10:3233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不拘是犹太人，是希利尼人，是神的教会，你们都不要使他跌倒；就好像我凡事都叫众人喜欢，不求自己的益处，只求众人的益处，叫他们得救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152280" y="0"/>
            <a:ext cx="10515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长城细圆体"/>
              </a:rPr>
              <a:t>信基督后的身份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我是基督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穆斯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我是信尔撒的穆斯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我不表示我对圣经信仰的身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0" y="0"/>
            <a:ext cx="12192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长城细圆体"/>
              </a:rPr>
              <a:t>私自交谈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长城细圆体"/>
              </a:rPr>
              <a:t>如果可能的话只有男人与穆斯林男人说话；女人跟女人说话。性别不同的人分开来交谈。       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长城细圆体"/>
              </a:rPr>
              <a:t>创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长城细圆体"/>
              </a:rPr>
              <a:t>18:9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长城细圆体"/>
              </a:rPr>
              <a:t>他们问亚伯拉罕说：你妻子撒拉在那里？他说：「在帐棚里。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长城细圆体"/>
              </a:rPr>
              <a:t>公共场合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长城细圆体"/>
              </a:rPr>
              <a:t>未结婚的女人得跟其他几个妇女或男的亲属在一起。已婚的妇女跟丈夫一块 （或者是经丈夫同意的陪护人，不是只有一个穆斯林男人） 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长城细圆体"/>
              </a:rPr>
              <a:t>男人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长城细圆体"/>
              </a:rPr>
              <a:t>尊重女孩和妇女的隐私。不要向一个穆斯林男人问起他的妻子、母亲或女儿，要这样问： 「你的家人好吗？」只有同性才能拥抱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长城细圆体"/>
              </a:rPr>
              <a:t>	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长城细圆体"/>
              </a:rPr>
              <a:t>　　　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长城细圆体"/>
              </a:rPr>
              <a:t>男女混合教室的角色扮演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长城细圆体"/>
              </a:rPr>
              <a:t>问自愿者，或选择男的跟穆斯林男的，穆斯林女的跟女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0"/>
            <a:ext cx="12192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小心对待文化问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保持平和，有礼貌，守法，并且尊重每一个人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不要侮辱或冒犯别人所看重的文化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尊重最年长的人。孩子应该向父母和客人打招呼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进家和教堂要把鞋脱在门口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吃饭、传递或给别人任何东西时要用右手 （不要用左手） 。 （上厕所才用左手。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家里不要有狗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不要在屋里捏鼻涕，可以在厕所或外面把鼻涕搞乾净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0"/>
            <a:ext cx="12192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在你家里，聚会上热情好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保持友好。问他们问题。发现他们真正的需要、感觉上的需要。针对他们的需要提出给他们代祷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发现他们有多愿意改变、和他们的自豪感。请看马太福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，耶稣说：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「不要把圣物给狗，也不要把你们的珍珠丢在猪前，恐怕他践踏了珍珠，转过来咬你们」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长城细圆体"/>
              </a:rPr>
              <a:t>「你在向神 （真主） 朝觐的路上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  <a:ea typeface="长城细圆体"/>
              </a:rPr>
              <a:t>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长城细圆体"/>
              </a:rPr>
              <a:t>过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  <a:ea typeface="长城细圆体"/>
              </a:rPr>
              <a:t>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长城细圆体"/>
              </a:rPr>
              <a:t>哪里？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 不管是那种类型的穆斯林，只要他们用一颗纯洁的心来寻求神，那神就愿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-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或已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-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呼召他们，也许是藉着你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0"/>
            <a:ext cx="12039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穆斯林通常都不太敏感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询问他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她的文化、世界观、和群体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做一个好客的主人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不要期望有回报。预计会 「被利用」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马太福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6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19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2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，耶稣说： 「 ┅ 只要积攒财宝在天上┅」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路加福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1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3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3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，耶稣说： 「 ┅ 为自己豫备永不坏的钱囊，用不尽的财宝在天上 ┅ 」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路加福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1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1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1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，耶稣说： 「你摆设筵席，倒要请那贫穷的，残废的，瘸腿的，瞎眼的，你就有福了。因为他们没有什麽可报答你。到义人复活的时候，你要得着报答。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0" y="0"/>
            <a:ext cx="1219212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长城细圆体"/>
              </a:rPr>
              <a:t>好好照顾他们，要毫无保留地，即使不是他们所预料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长城细圆体"/>
              </a:rPr>
              <a:t>约伯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长城细圆体"/>
              </a:rPr>
              <a:t>3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长城细圆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长城细圆体"/>
              </a:rPr>
              <a:t>31-3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长城细圆体"/>
              </a:rPr>
              <a:t>若我帐棚的人未尝说，谁不以主人的食物吃饱呢？从来我没有容客旅在街上住宿，却开门迎接行路的人；），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长城细圆体"/>
              </a:rPr>
              <a:t>撒母耳记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长城细圆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长城细圆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长城细圆体"/>
              </a:rPr>
              <a:t>22-2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长城细圆体"/>
              </a:rPr>
              <a:t>撒母耳领扫罗和他仆人进了客堂，使他们在请来的客中坐首位；客约有三十个人。撒母耳对厨役说：「我交给你收存的那一分祭肉现在可以拿来。」，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长城细圆体"/>
              </a:rPr>
              <a:t>马太福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长城细圆体"/>
              </a:rPr>
              <a:t>22:37-40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长城细圆体"/>
              </a:rPr>
              <a:t>耶稣对他说：「你要尽心、尽性、尽意爱主你的神。这是诫命中的第一，且是最大的。其次也相仿，就是要爱人如己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长城细圆体"/>
              </a:rPr>
              <a:t>这两条诫命是律法和先知一切道理的总纲。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3:08:20Z</dcterms:created>
  <dc:creator>HKC</dc:creator>
  <dc:description/>
  <dc:language>en-US</dc:language>
  <cp:lastModifiedBy>chan HK</cp:lastModifiedBy>
  <dcterms:modified xsi:type="dcterms:W3CDTF">2024-12-26T03:39:06Z</dcterms:modified>
  <cp:revision>32</cp:revision>
  <dc:subject/>
  <dc:title>Slide 1</dc:title>
</cp:coreProperties>
</file>