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98FC-47E2-4361-8251-09DBADE6E8E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C565-CDAC-4090-8D72-C75FF7D228E1}" type="slidenum">
              <a:rPr b="0" lang="el-GR" sz="1200" spc="-1" strike="noStrike">
                <a:solidFill>
                  <a:srgbClr val="eaeae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DDE6-B5C6-480F-9D8F-C8F935FE327F}" type="slidenum">
              <a:rPr b="0" lang="el-GR" sz="1200" spc="-1" strike="noStrike">
                <a:solidFill>
                  <a:srgbClr val="eaeae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vert is considered to be a traiter to one’s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mportant point: There is no separation of Religion and Politics. Religion, Politics, Culture, Family is so intermingled that Conversion is rejecting family, country, culture, and is a political statement (a step against the Govern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 convert can be killed not only by the Government but by any Muslim with no penalty (but rewards in Heav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30E5-2F21-4A79-AD80-2537B2954A3B}" type="slidenum">
              <a:rPr b="0" lang="el-GR" sz="1200" spc="-1" strike="noStrike">
                <a:solidFill>
                  <a:srgbClr val="eaeae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version is considered to be traiter to one’s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version is rejecting family, country, culture, and is a political statement (a step against the Govern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ove, joy and peace are the fruit of the Spirit =&gt; a spirit filled Christian is attractive to a Musl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335A-6563-49A3-A684-6261042C738F}" type="slidenum">
              <a:rPr b="0" lang="el-GR" sz="1200" spc="-1" strike="noStrike">
                <a:solidFill>
                  <a:srgbClr val="eaeae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version is considered to be traiter to one’s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version is rejecting family, country, culture, and is a political statement (a step against the Govern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ove, joy and peace are the fruit of the Spirit =&gt; a spirit filled Christian is attractive to a Musl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F726-35DB-4B40-A92D-20F462CAE69C}" type="slidenum">
              <a:rPr b="0" lang="el-GR" sz="1200" spc="-1" strike="noStrike">
                <a:solidFill>
                  <a:srgbClr val="eaeae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9138-505F-4FDE-A392-80E00B69FFAF}" type="slidenum">
              <a:rPr b="0" lang="el-GR" sz="1200" spc="-1" strike="noStrike">
                <a:solidFill>
                  <a:srgbClr val="eaeae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5345-E19E-4444-8103-A6B4B4B3DE04}" type="slidenum">
              <a:rPr b="0" lang="el-GR" sz="1200" spc="-1" strike="noStrike">
                <a:solidFill>
                  <a:srgbClr val="eaeae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version is considered to be traiter to one’s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version is rejecting family, country, culture, and is a political statement (a step against the Govern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ove, joy and peace are the fruit of the Spirit =&gt; a spirit filled Christian is attractive to a Musl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3DAE-BA22-40C0-B9FF-6E2432146BE2}" type="slidenum">
              <a:rPr b="0" lang="el-GR" sz="1200" spc="-1" strike="noStrike">
                <a:solidFill>
                  <a:srgbClr val="eaeae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version is considered to be traiter to one’s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version is rejecting family, country, culture, and is a political statement (a step against the Govern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ove, joy and peace are the fruit of the Spirit =&gt; a spirit filled Christian is attractive to a Musl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220-06E1-43E2-A39B-1D9C8032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DB5-2D2D-4005-BD33-1D07AA24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55D-B9FE-41C0-AE6B-A243D269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8568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05392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1744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58568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05392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6CF-E69E-44BD-94B4-17AA880B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C4A6-1F27-444C-84F5-3472FD8D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11C8-EAA5-469C-8A9D-8879D73E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2599-EF93-4E3A-AF94-FEFA685A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D587-BE61-4D14-9DD6-691E7869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96E7-B54D-4C6A-8F3D-865F2D4F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087920" y="834120"/>
            <a:ext cx="10421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8D56-34D1-4762-9DD9-57B14773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6EF4-2254-4BAC-ADA0-0458FE51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0E9-56B5-4B65-9651-18BC4E61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EC33-7476-4116-BF81-5DE8E5D3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EA24-3821-4753-9E0F-58DEB07F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57D7-E4A1-4F77-8A14-C93B34EC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7C0A-0D1E-4CB9-9826-BF3122D7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8568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05392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1744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58568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805392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1B89-3810-4ADE-A304-96415465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FB36-CAF0-4024-A206-6AE8B1D9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36103-3A10-42DE-996D-07E7E388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408F9-F48D-47A7-BCBB-75FDD1D2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2E260-64AF-4918-8548-B623713F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F8FE-7F8B-4E81-8A5F-CC692AE5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A03-8F78-4744-8A01-6654F04C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087920" y="834120"/>
            <a:ext cx="10421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BB3AD-20E6-4E1C-8BF2-55C20A27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15782-1A15-4CA8-8EC6-21F2D510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715B1-9A63-4927-B202-4FCA3C4C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27B79-A3D1-44D4-A010-CAFF102E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9EACF-7AF4-497F-8352-97EF3C48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F9D62-3A2D-4898-9AA5-DABF639F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568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05392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11744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58568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05392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FDD36-1A74-4702-829B-5110D65F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507E7-4145-4F4F-B434-11C5670B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18587-C882-4316-89F4-12C1547B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58EC8-BE8A-4512-A968-1B26C997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1D2-8DC2-408A-8E22-5699D49C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E28C6-5A92-4077-8968-E993F854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577FE-8820-4F4C-9969-D2610D6D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087920" y="834120"/>
            <a:ext cx="10421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AE7FC-3FC3-4B04-B5E7-F0C9B66F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88779-518F-4B6B-B548-5CBA3E32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71410-2B5C-4A86-9486-ABE7AC7F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30563-F112-4284-B51D-49E59C2D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054A4-CE24-45A3-94AE-0D9C686C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3D997-8524-4C38-915F-A94939A9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8568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5392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11744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58568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05392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AFFBE-860C-4BB5-AD63-CE95FB75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1BF54-2FB0-4481-A448-0C591139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66C-7C7E-47AC-A46B-FB4A5A46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B9739-5708-4D1B-91B5-C8397CBD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EFC36-20A0-4572-B9F6-BDB6E84A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0B40A-98FF-4114-BC70-5DAF60C1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7A27E-D1F1-4195-8B11-5030C65D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87920" y="834120"/>
            <a:ext cx="10421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54A4B-3C78-4421-B542-88A83F9B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51D09-744B-4ACC-A43A-E31A7437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D5073-4B70-4208-A2C7-9010D4C9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43693-0293-488A-86AE-EDEF03E7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79448-945C-4A4E-A867-1DF3CE29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AF7CA-3E21-4F03-82BF-1FD43BD4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087920" y="834120"/>
            <a:ext cx="10421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5A9-D9EE-4F11-9804-1420CA9F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8568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05392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11744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458568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805392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207F7-3A01-4963-A209-2ABCAACB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BB114-54E6-44F1-8C6B-8241F79C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6DBC7-1FBE-4E0B-B5DD-E1D71326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99DDA-504F-4DDB-AD54-70EB0C38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16BB1-6C31-48AD-B967-56D7C7EB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121E3-EFE9-4109-905C-321BA874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087920" y="834120"/>
            <a:ext cx="10421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C5C8C-07D2-49C0-B95F-52C347A7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BA741-27AE-4940-AEFC-B87581B9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AEAC7-CC94-49BE-9C2C-BE212CCD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B93B2-E38F-4A92-8C6F-60EDD7FB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6C5-3E4E-4E4C-B048-1E002DB3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15FA1-A5CE-4EEF-AB7B-121721B9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4D552-826B-4C4C-B65C-18CD8773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8568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05392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11744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58568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805392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A74F8-4AA9-4BE5-BC8C-DD32325C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DB8B2-F80B-46BC-B3FD-4A457AA1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748DE-4D3B-4673-A91A-5B8D125D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85548-1FF7-4F55-BCD1-E7F44ED7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F3EE1-C0F4-45BE-A451-AF01DFD3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05BC8-F127-4A0F-A594-C18F9594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087920" y="834120"/>
            <a:ext cx="10421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D106F-4694-42A0-B335-643F7C8E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AAB19-00AD-4F2D-9164-55779861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832-F5B2-4DC2-A1AE-C72EC405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443EC-B723-413F-9A1E-5537F5CB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CE719-06A7-4E38-9886-8BD2C106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CCE68-9275-4194-8438-75C4A600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88D32-DCA1-485D-9283-DE479263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8568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05392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1744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58568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05392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79806-CA02-4D27-B412-6817DDBA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187-8E4B-4A4C-8EA7-DEEB3249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88120" y="5345280"/>
            <a:ext cx="5903640" cy="1512720"/>
            <a:chOff x="6288120" y="5345280"/>
            <a:chExt cx="5903640" cy="1512720"/>
          </a:xfrm>
        </p:grpSpPr>
        <p:sp>
          <p:nvSpPr>
            <p:cNvPr id="1" name="Freeform 3"/>
            <p:cNvSpPr/>
            <p:nvPr/>
          </p:nvSpPr>
          <p:spPr>
            <a:xfrm>
              <a:off x="6288120" y="5345280"/>
              <a:ext cx="5903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9740880" y="6372360"/>
              <a:ext cx="2484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727920" y="6343560"/>
              <a:ext cx="129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0963800" y="5678640"/>
              <a:ext cx="64368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0409400" y="5640480"/>
              <a:ext cx="66456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9948240" y="5869080"/>
              <a:ext cx="57960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9571320" y="5888160"/>
              <a:ext cx="45072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9084600" y="6248520"/>
              <a:ext cx="3531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678160" y="6381720"/>
              <a:ext cx="35136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275680" y="6410160"/>
              <a:ext cx="50148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776000" y="6486480"/>
              <a:ext cx="41508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356960" y="6458040"/>
              <a:ext cx="40212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709320" y="6648480"/>
              <a:ext cx="48672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6442560" y="6696000"/>
              <a:ext cx="18864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1603160" y="5345280"/>
              <a:ext cx="58824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609120" y="624348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8737560" y="624348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09D3-2730-43EC-87B1-EC04A8FDC9CB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428480" y="304920"/>
            <a:ext cx="10153440" cy="1106280"/>
            <a:chOff x="1428480" y="304920"/>
            <a:chExt cx="10153440" cy="1106280"/>
          </a:xfrm>
        </p:grpSpPr>
        <p:sp>
          <p:nvSpPr>
            <p:cNvPr id="58" name="Oval 3"/>
            <p:cNvSpPr/>
            <p:nvPr/>
          </p:nvSpPr>
          <p:spPr>
            <a:xfrm flipH="1">
              <a:off x="6490800" y="304920"/>
              <a:ext cx="147276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59" name="Oval 4"/>
            <p:cNvSpPr/>
            <p:nvPr/>
          </p:nvSpPr>
          <p:spPr>
            <a:xfrm flipH="1">
              <a:off x="10110960" y="304920"/>
              <a:ext cx="147096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60" name="Oval 5"/>
            <p:cNvSpPr/>
            <p:nvPr/>
          </p:nvSpPr>
          <p:spPr>
            <a:xfrm flipH="1">
              <a:off x="1428120" y="30636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61" name="Oval 6"/>
            <p:cNvSpPr/>
            <p:nvPr/>
          </p:nvSpPr>
          <p:spPr>
            <a:xfrm flipH="1">
              <a:off x="8432280" y="30492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62" name="Oval 7"/>
            <p:cNvSpPr/>
            <p:nvPr/>
          </p:nvSpPr>
          <p:spPr>
            <a:xfrm flipH="1">
              <a:off x="3144960" y="30492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H.I.S T.I.M.E _ahmed Paul  june_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D456-E400-420D-AAEE-90D435C44BE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10159200" cy="6858000"/>
            <a:chOff x="0" y="0"/>
            <a:chExt cx="10159200" cy="6858000"/>
          </a:xfrm>
        </p:grpSpPr>
        <p:grpSp>
          <p:nvGrpSpPr>
            <p:cNvPr id="105" name="Group 3"/>
            <p:cNvGrpSpPr/>
            <p:nvPr/>
          </p:nvGrpSpPr>
          <p:grpSpPr>
            <a:xfrm>
              <a:off x="0" y="0"/>
              <a:ext cx="4266360" cy="6858000"/>
              <a:chOff x="0" y="0"/>
              <a:chExt cx="4266360" cy="685800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0" y="0"/>
                <a:ext cx="10159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Black"/>
                </a:endParaRPr>
              </a:p>
            </p:txBody>
          </p:sp>
          <p:sp>
            <p:nvSpPr>
              <p:cNvPr id="107" name="Freeform 5"/>
              <p:cNvSpPr/>
              <p:nvPr/>
            </p:nvSpPr>
            <p:spPr>
              <a:xfrm>
                <a:off x="609480" y="0"/>
                <a:ext cx="365688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Black"/>
                </a:endParaRPr>
              </a:p>
            </p:txBody>
          </p:sp>
        </p:grpSp>
        <p:grpSp>
          <p:nvGrpSpPr>
            <p:cNvPr id="108" name="Group 6"/>
            <p:cNvGrpSpPr/>
            <p:nvPr/>
          </p:nvGrpSpPr>
          <p:grpSpPr>
            <a:xfrm>
              <a:off x="304560" y="1981080"/>
              <a:ext cx="9854640" cy="319320"/>
              <a:chOff x="304560" y="1981080"/>
              <a:chExt cx="9854640" cy="319320"/>
            </a:xfrm>
          </p:grpSpPr>
          <p:sp>
            <p:nvSpPr>
              <p:cNvPr id="109" name="AutoShape 7"/>
              <p:cNvSpPr/>
              <p:nvPr/>
            </p:nvSpPr>
            <p:spPr>
              <a:xfrm>
                <a:off x="812160" y="1981080"/>
                <a:ext cx="93470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Black"/>
                </a:endParaRPr>
              </a:p>
            </p:txBody>
          </p:sp>
          <p:sp>
            <p:nvSpPr>
              <p:cNvPr id="110" name="AutoShape 8"/>
              <p:cNvSpPr/>
              <p:nvPr/>
            </p:nvSpPr>
            <p:spPr>
              <a:xfrm flipH="1">
                <a:off x="304560" y="1981080"/>
                <a:ext cx="52488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Black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3250800" y="6248520"/>
            <a:ext cx="2840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7721280" y="6248520"/>
            <a:ext cx="3862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H.I.S T.I.M.E _ahmed Paul  june_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112680" y="6242040"/>
            <a:ext cx="782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337B-ACD7-49DB-BE17-CC1275FF6530}" type="slidenum">
              <a:rPr b="1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  <a:ea typeface="PMingLiU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Times New Roman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397A-7EA8-4B09-A734-3CBA1A55C05A}" type="slidenum"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6288120" y="5345280"/>
            <a:ext cx="5903640" cy="1512720"/>
            <a:chOff x="6288120" y="5345280"/>
            <a:chExt cx="5903640" cy="1512720"/>
          </a:xfrm>
        </p:grpSpPr>
        <p:sp>
          <p:nvSpPr>
            <p:cNvPr id="194" name="Freeform 3"/>
            <p:cNvSpPr/>
            <p:nvPr/>
          </p:nvSpPr>
          <p:spPr>
            <a:xfrm>
              <a:off x="6288120" y="5345280"/>
              <a:ext cx="5903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195" name="Freeform 4"/>
            <p:cNvSpPr/>
            <p:nvPr/>
          </p:nvSpPr>
          <p:spPr>
            <a:xfrm>
              <a:off x="9740880" y="6372360"/>
              <a:ext cx="2484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196" name="Freeform 5"/>
            <p:cNvSpPr/>
            <p:nvPr/>
          </p:nvSpPr>
          <p:spPr>
            <a:xfrm>
              <a:off x="9727920" y="6343560"/>
              <a:ext cx="129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10963800" y="5678640"/>
              <a:ext cx="64368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10409400" y="5640480"/>
              <a:ext cx="66456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9948240" y="5869080"/>
              <a:ext cx="57960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9571320" y="5888160"/>
              <a:ext cx="45072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9084600" y="6248520"/>
              <a:ext cx="3531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8678160" y="6381720"/>
              <a:ext cx="35136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03" name="Freeform 12"/>
            <p:cNvSpPr/>
            <p:nvPr/>
          </p:nvSpPr>
          <p:spPr>
            <a:xfrm>
              <a:off x="8275680" y="6410160"/>
              <a:ext cx="50148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04" name="Freeform 13"/>
            <p:cNvSpPr/>
            <p:nvPr/>
          </p:nvSpPr>
          <p:spPr>
            <a:xfrm>
              <a:off x="7776000" y="6486480"/>
              <a:ext cx="41508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05" name="Freeform 14"/>
            <p:cNvSpPr/>
            <p:nvPr/>
          </p:nvSpPr>
          <p:spPr>
            <a:xfrm>
              <a:off x="7356960" y="6458040"/>
              <a:ext cx="40212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06" name="Freeform 15"/>
            <p:cNvSpPr/>
            <p:nvPr/>
          </p:nvSpPr>
          <p:spPr>
            <a:xfrm>
              <a:off x="6709320" y="6648480"/>
              <a:ext cx="48672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07" name="Freeform 16"/>
            <p:cNvSpPr/>
            <p:nvPr/>
          </p:nvSpPr>
          <p:spPr>
            <a:xfrm>
              <a:off x="6442560" y="6696000"/>
              <a:ext cx="18864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08" name="Freeform 17"/>
            <p:cNvSpPr/>
            <p:nvPr/>
          </p:nvSpPr>
          <p:spPr>
            <a:xfrm>
              <a:off x="11603160" y="5345280"/>
              <a:ext cx="58824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609120" y="624348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348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E400-E8D2-4697-827D-6CA4115AB891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2211480" y="1600200"/>
            <a:ext cx="9116640" cy="3200400"/>
            <a:chOff x="2211480" y="1600200"/>
            <a:chExt cx="9116640" cy="3200400"/>
          </a:xfrm>
        </p:grpSpPr>
        <p:sp>
          <p:nvSpPr>
            <p:cNvPr id="251" name="Oval 3"/>
            <p:cNvSpPr/>
            <p:nvPr/>
          </p:nvSpPr>
          <p:spPr>
            <a:xfrm flipH="1">
              <a:off x="9296280" y="160020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52" name="Oval 4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53" name="Oval 5"/>
            <p:cNvSpPr/>
            <p:nvPr/>
          </p:nvSpPr>
          <p:spPr>
            <a:xfrm flipH="1">
              <a:off x="4519800" y="160020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54" name="Oval 6"/>
            <p:cNvSpPr/>
            <p:nvPr/>
          </p:nvSpPr>
          <p:spPr>
            <a:xfrm flipH="1">
              <a:off x="4519800" y="327672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55" name="Oval 7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56" name="Oval 8"/>
            <p:cNvSpPr/>
            <p:nvPr/>
          </p:nvSpPr>
          <p:spPr>
            <a:xfrm flipH="1">
              <a:off x="9296280" y="327672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H.I.S T.I.M.E _ahmed Paul  june_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73E7-DC5B-4760-979A-41A6030742D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0" y="0"/>
            <a:ext cx="7822800" cy="6858000"/>
            <a:chOff x="0" y="0"/>
            <a:chExt cx="7822800" cy="6858000"/>
          </a:xfrm>
        </p:grpSpPr>
        <p:sp>
          <p:nvSpPr>
            <p:cNvPr id="299" name="Rectangle 3"/>
            <p:cNvSpPr/>
            <p:nvPr/>
          </p:nvSpPr>
          <p:spPr>
            <a:xfrm>
              <a:off x="0" y="0"/>
              <a:ext cx="60958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300" name="AutoShape 4"/>
            <p:cNvSpPr/>
            <p:nvPr/>
          </p:nvSpPr>
          <p:spPr>
            <a:xfrm>
              <a:off x="914400" y="990720"/>
              <a:ext cx="690840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</p:grpSp>
      <p:grpSp>
        <p:nvGrpSpPr>
          <p:cNvPr id="301" name="Group 5"/>
          <p:cNvGrpSpPr/>
          <p:nvPr/>
        </p:nvGrpSpPr>
        <p:grpSpPr>
          <a:xfrm>
            <a:off x="4843440" y="4889520"/>
            <a:ext cx="6501600" cy="318960"/>
            <a:chOff x="4843440" y="4889520"/>
            <a:chExt cx="6501600" cy="318960"/>
          </a:xfrm>
        </p:grpSpPr>
        <p:sp>
          <p:nvSpPr>
            <p:cNvPr id="302" name="AutoShape 6"/>
            <p:cNvSpPr/>
            <p:nvPr/>
          </p:nvSpPr>
          <p:spPr>
            <a:xfrm flipH="1">
              <a:off x="4843440" y="4889520"/>
              <a:ext cx="616752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303" name="AutoShape 7"/>
            <p:cNvSpPr/>
            <p:nvPr/>
          </p:nvSpPr>
          <p:spPr>
            <a:xfrm>
              <a:off x="10998360" y="4889520"/>
              <a:ext cx="3466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3250800" y="6248520"/>
            <a:ext cx="2840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7721280" y="6248520"/>
            <a:ext cx="3862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PMingLiU"/>
              </a:rPr>
              <a:t>H.I.S T.I.M.E _ahmed Paul  june_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101520" y="6248520"/>
            <a:ext cx="782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59A4-F2BD-479A-9939-0922FDDCBD15}" type="slidenum">
              <a:rPr b="1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iqna.ir/zh/news/3472993/&#21360;&#24230;&#31302;&#26031;&#26519;&#20154;&#21475;&#36229;&#36807;19&#20159;?utm_source=chatgpt.com" TargetMode="External"/><Relationship Id="rId2" Type="http://schemas.openxmlformats.org/officeDocument/2006/relationships/hyperlink" Target="https://zh.wikipedia.org/zh-hans/&#21508;&#22269;&#20234;&#26031;&#20848;&#25945;?utm_source=chatgpt.com" TargetMode="External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300" spc="-1" strike="noStrike">
                <a:solidFill>
                  <a:srgbClr val="eef313"/>
                </a:solidFill>
                <a:latin typeface="Arial"/>
                <a:ea typeface="SimHei"/>
              </a:rPr>
              <a:t>如何接触穆斯林</a:t>
            </a:r>
            <a:endParaRPr b="0" lang="en-US" sz="6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9718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Verdana"/>
                <a:ea typeface="PMingLiU"/>
              </a:rPr>
              <a:t>为何与如何</a:t>
            </a:r>
            <a:r>
              <a:rPr b="0" lang="zh-TW" sz="3600" spc="-1" strike="noStrike">
                <a:solidFill>
                  <a:srgbClr val="eec85e"/>
                </a:solidFill>
                <a:latin typeface="Verdana"/>
                <a:ea typeface="PMingLiU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Arial Black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78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F83C-4001-4865-8656-4F1DE0AB8201}" type="slidenum">
              <a:rPr b="0" lang="el-GR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0" y="-76320"/>
            <a:ext cx="12344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6)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埃及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中国外交部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2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月发布的资料，埃及总人口约为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0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亿，其中伊斯兰教为国教，信徒主要是逊尼派，占总人口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％</a:t>
            </a:r>
            <a:r>
              <a:rPr b="1" lang="zh-CN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。 </a:t>
            </a:r>
            <a:r>
              <a:rPr b="1" lang="en-MY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CHINA FOREIGN AFFAIRS MINISTRY</a:t>
            </a: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据维基百科的资料，埃及穆斯林（逊尼派）占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0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％，基督徒（亚历山大科普特正教会，其他基督宗派包括亚美尼亚使徒教会、罗马天主教、马龙尼礼教会、正教会和圣公会）占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0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％（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15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）</a:t>
            </a:r>
            <a:r>
              <a:rPr b="1" lang="zh-CN" sz="2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。 </a:t>
            </a:r>
            <a:r>
              <a:rPr b="1" lang="en-US" sz="2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Wikipedia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此外，根据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24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的一项调查，埃及的穆斯林人口约为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040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占总人口的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5%</a:t>
            </a:r>
            <a:r>
              <a:rPr b="1" lang="zh-CN" sz="1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。 </a:t>
            </a:r>
            <a:r>
              <a:rPr b="1" lang="en-US" sz="1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Sunday News</a:t>
            </a:r>
            <a:r>
              <a:rPr b="1" lang="zh-CN" sz="1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。</a:t>
            </a: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7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）伊朗：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中国领事服务网的数据，伊朗伊斯兰共和国的人口约为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8855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。  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CONSULAR SERVICES  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伊朗是一个以伊斯兰教为主的国家，全国人口中约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9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信奉伊斯兰教，其中约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0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至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5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为什叶派穆斯林，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5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至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0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为逊尼派穆斯林。因此，伊朗的穆斯林人口约为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8766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至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8767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Arial Black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81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3BF9-45D6-4697-9EC5-84DB37E7E6D4}" type="slidenum">
              <a:rPr b="0" lang="el-GR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-12600" y="0"/>
            <a:ext cx="122047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8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）尼日利亚：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中国外交部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24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的数据，尼日利亚总人口约为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.27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亿。 </a:t>
            </a:r>
            <a:r>
              <a:rPr b="1" lang="en-MY" sz="1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China Foreign Affairs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关于宗教信仰比例，尼日利亚的穆斯林人口约占总人口的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50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即约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.135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亿人。 </a:t>
            </a:r>
            <a:r>
              <a:rPr b="1" lang="en-MY" sz="1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Wikipedia</a:t>
            </a:r>
            <a:r>
              <a:rPr b="1" lang="en-MY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然而，尼日利亚政府在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23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的人口普查中，未包含宗教信仰相关问题， </a:t>
            </a:r>
            <a:r>
              <a:rPr b="1" lang="en-MY" sz="1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Humanists International</a:t>
            </a: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9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）中国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10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第六次全国人口普查数据，中国信仰伊斯兰教的穆斯林人口约为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314.22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占全国少数民族人口的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.3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  </a:t>
            </a:r>
            <a:r>
              <a:rPr b="1" lang="en-MY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NORISLAM  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这些穆斯林主要分布在西北五省区，其中新疆维吾尔自治区的穆斯林人口最多，占全国穆斯林人口的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52.4%</a:t>
            </a:r>
            <a:r>
              <a:rPr b="1" lang="zh-CN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。  </a:t>
            </a:r>
            <a:r>
              <a:rPr b="1" lang="en-MY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NORISLAM   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此外，回族是中国人口较多的少数民族之一，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10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总人口约为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058.6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</a:t>
            </a:r>
            <a:r>
              <a:rPr b="1" lang="zh-CN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。  </a:t>
            </a:r>
            <a:r>
              <a:rPr b="1" lang="en-MY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NATIONAL ENERGY ADMINISTRATION OF CHINA</a:t>
            </a: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10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）埃塞俄比亚：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07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埃塞俄比亚全国人口普查的数据，埃塞俄比亚约有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,500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穆斯林，占总人口的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3.9%</a:t>
            </a:r>
            <a:r>
              <a:rPr b="1" lang="zh-CN" sz="1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 </a:t>
            </a:r>
            <a:r>
              <a:rPr b="1" lang="en-US" sz="1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Wikipedia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皮尤研究中心的数据，埃塞俄比亚的穆斯林人口约为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,560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占总人口的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3.9%</a:t>
            </a:r>
            <a:r>
              <a:rPr b="1" lang="zh-CN" sz="1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 </a:t>
            </a:r>
            <a:r>
              <a:rPr b="1" lang="en-US" sz="1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Wikipedia</a:t>
            </a: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Arial Black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84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0CF3-44EA-43CE-A01D-98D877BB3857}" type="slidenum">
              <a:rPr b="0" lang="el-GR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0" y="0"/>
            <a:ext cx="12192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11</a:t>
            </a:r>
            <a:r>
              <a:rPr b="1" lang="en-MY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阿尔及利亚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皮尤研究中心的数据，阿尔及利亚的穆斯林人口约为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4,124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占总人口的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9%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  </a:t>
            </a:r>
            <a:r>
              <a:rPr b="1" lang="en-MY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WIKIPEDIA</a:t>
            </a:r>
            <a:r>
              <a:rPr b="1" lang="en-MY" sz="1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 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此外，阿尔及利亚的总人口约为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4,220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。  </a:t>
            </a:r>
            <a:r>
              <a:rPr b="1" lang="en-MY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SILK ROAD   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需要注意的是，这些数据截至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17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12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摩洛哥：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皮尤研究中心的数据，摩洛哥的穆斯林人口约为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,793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人，占总人口的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9%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。  </a:t>
            </a:r>
            <a:r>
              <a:rPr b="1" lang="en-MY" sz="1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WIKIPEDIA</a:t>
            </a:r>
            <a:r>
              <a:rPr b="1" lang="en-MY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   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此外，摩洛哥的总人口约为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,780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人</a:t>
            </a:r>
            <a:r>
              <a:rPr b="1" lang="zh-CN" sz="1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。  </a:t>
            </a:r>
            <a:r>
              <a:rPr b="1" lang="en-MY" sz="1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CHINA FOREIGN AFFAIRS   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需要注意的是，这些数据截至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17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，因此，实际的穆斯林人口可能有所变化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13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苏丹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皮尤研究中心的数据，苏丹的穆斯林人口约为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,958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人，占总人口的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7%</a:t>
            </a:r>
            <a:r>
              <a:rPr b="1" lang="zh-CN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。  </a:t>
            </a:r>
            <a:r>
              <a:rPr b="1" lang="en-US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WIKIPEDIA   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此外，苏丹的总人口约为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4,083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人。 需要注意的是，这些数据截至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17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。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Arial Black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87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9F03-82EE-4B76-829D-9CF60341A698}" type="slidenum">
              <a:rPr b="0" lang="el-GR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-76320" y="136440"/>
            <a:ext cx="12268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14 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阿富汗：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维基百科的数据，阿富汗的穆斯林人口约占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9.7%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其中约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0%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为逊尼派穆斯林，约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0%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为什叶派穆斯林</a:t>
            </a:r>
            <a:r>
              <a:rPr b="1" lang="en-MY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。  </a:t>
            </a:r>
            <a:r>
              <a:rPr b="1" lang="en-MY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WIKIPEDIA   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此外，阿富汗的总人口约为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,713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人。  </a:t>
            </a:r>
            <a:r>
              <a:rPr b="1" lang="en-MY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WIKIPEDIA 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 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需要注意的是，这些数据截至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19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15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伊拉克：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维基百科的数据，伊拉克的穆斯林人口约占总人口的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5.7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其中什叶派穆斯林占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59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至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2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逊尼派穆斯林约占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2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至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7%</a:t>
            </a:r>
            <a:r>
              <a:rPr b="1" lang="zh-CN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。  </a:t>
            </a:r>
            <a:r>
              <a:rPr b="1" lang="en-US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WIKIPEDIA   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此外，伊拉克的总人口约为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4,019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人。  </a:t>
            </a:r>
            <a:r>
              <a:rPr b="1" lang="en-US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WIKIPEDIA 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需要注意的是，这些数据截至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17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16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苏联： 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苏联在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991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解体之前，穆斯林是该地区的主要宗教群体之一。苏联的穆斯林人口在解体时约为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4000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占总人口的约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随着苏联解体， 截至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23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，俄罗斯约有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00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穆斯林，占总人口的约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5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在一些地区，如达吉斯坦、印古什和车臣，超过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5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的人口是穆斯林。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Arial Black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90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0F3E-586E-4CCD-BF8F-46F90DED0CF9}" type="slidenum">
              <a:rPr b="0" lang="el-GR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28440" y="34920"/>
            <a:ext cx="12268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17.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其他临近苏联的中亚国的穆斯林统计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乌兹别克斯坦：穆斯林占总人口的约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6%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主要为逊尼派穆斯林。  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•  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哈萨克斯坦：穆斯林占总人口的约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70%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主要为逊尼派穆斯林。  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•  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阿塞拜疆：穆斯林占总人口的约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6%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主要为什叶派穆斯林。  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•  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吉尔吉斯斯坦：穆斯林占总人口的约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75%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主要为逊尼派穆斯林。  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•  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塔吉克斯坦：穆斯林占总人口的约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8%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主要为什叶派穆斯林。  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•  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土库曼斯坦：穆斯林占总人口的约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3%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主要为逊尼派穆斯林。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18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沙特阿拉伯</a:t>
            </a:r>
            <a:r>
              <a:rPr b="1" lang="en-MY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: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沙特阿拉伯是伊斯兰教的发源地，伊斯兰教为国教，约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7.1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的人口为穆斯林。  </a:t>
            </a:r>
            <a:r>
              <a:rPr b="1" lang="en-US" sz="1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WIKIPEDIA  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22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沙特统计总局的数据，沙特阿拉伯的总人口约为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633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其中男性约占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58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  </a:t>
            </a:r>
            <a:r>
              <a:rPr b="1" lang="en-US" sz="1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CONSULAR SERVICES   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需要注意的是，沙特阿拉伯的穆斯林人口几乎全部为本国公民，外籍人口主要为非穆斯林。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Arial Black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3DF5-1682-439E-893D-B9EF55AF3030}" type="slidenum">
              <a:rPr b="0" lang="el-GR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94" name="TextBox 4"/>
          <p:cNvSpPr/>
          <p:nvPr/>
        </p:nvSpPr>
        <p:spPr>
          <a:xfrm>
            <a:off x="0" y="0"/>
            <a:ext cx="121921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19.</a:t>
            </a:r>
            <a:r>
              <a:rPr b="1" lang="en-MY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也门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是伊斯兰教的发源地之一，伊斯兰教为国教，绝大多数人口为穆斯林。根据维基百科的数据，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08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也门人口约为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301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绝大多数是阿拉伯人，官方语言为阿拉伯语</a:t>
            </a:r>
            <a:r>
              <a:rPr b="1" lang="en-MY" sz="1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。  </a:t>
            </a:r>
            <a:r>
              <a:rPr b="1" lang="en-MY" sz="1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WIKIPEDIA   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中国驻也门大使馆的数据，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24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月也门人口约为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483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绝大多数是阿拉伯人，官方语言为阿拉伯语</a:t>
            </a:r>
            <a:r>
              <a:rPr b="1" lang="en-MY" sz="1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。  </a:t>
            </a:r>
            <a:r>
              <a:rPr b="1" lang="en-MY" sz="1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EMBASSY OF CHINA IN YEMEN</a:t>
            </a: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20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坦桑尼亚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维基百科的数据，坦桑尼亚约有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5.2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的人口信奉伊斯兰教。  </a:t>
            </a:r>
            <a:r>
              <a:rPr b="1" lang="en-US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WIKIPEDIA 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由于坦桑尼亚禁止在官方统计中记录宗教信仰，因此缺乏官方的穆斯林人口统计数据。 此外，中国外交部的资料显示，坦桑尼亚大陆地区约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0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的人口信奉伊斯兰教，而桑给巴尔地区几乎全部居民信奉伊斯兰教</a:t>
            </a:r>
            <a:r>
              <a:rPr b="1" lang="zh-CN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。  </a:t>
            </a:r>
            <a:r>
              <a:rPr b="1" lang="en-US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CHINA FOREIGN AFFAIRS 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总体而言，坦桑尼亚的穆斯林人口约占全国人口的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0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至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5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页脚占位符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Arial Black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96" name="灯片编号占位符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76D7-C15C-4B4F-93A6-4B6F713BD5D1}" type="slidenum">
              <a:rPr b="0" lang="el-GR" sz="1200" spc="-1" strike="noStrike">
                <a:solidFill>
                  <a:srgbClr val="898989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97" name="矩形 3"/>
          <p:cNvSpPr/>
          <p:nvPr/>
        </p:nvSpPr>
        <p:spPr>
          <a:xfrm>
            <a:off x="0" y="0"/>
            <a:ext cx="12192120" cy="65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013</a:t>
            </a:r>
            <a:r>
              <a:rPr b="1" lang="zh-CN" sz="25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年欧洲穆斯林总人口高达</a:t>
            </a:r>
            <a:r>
              <a:rPr b="1" lang="en-US" sz="25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638</a:t>
            </a:r>
            <a:r>
              <a:rPr b="1" lang="zh-CN" sz="25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万，欧洲</a:t>
            </a:r>
            <a:r>
              <a:rPr b="1" lang="en-US" sz="25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5</a:t>
            </a:r>
            <a:r>
              <a:rPr b="1" lang="zh-CN" sz="25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国穆斯林人口最新排行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：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：俄罗斯：总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亿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4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千万，穆斯林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704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约占总人口的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9%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；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：法 国：总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386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穆斯林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42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约占总人口的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0%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；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：德 国：总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8220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穆斯林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05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约占总人口的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.7%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；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4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：英 国：总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226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穆斯林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80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约占总人口的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4.8%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；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5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：波 黑：总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460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穆斯林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34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约占总人口的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51%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；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：阿尔巴尼亚：总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10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穆斯林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24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约占总人口的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70%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；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7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：科索沃：总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20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中穆斯林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1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约占总人口的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1%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；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8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：意大利：总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023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穆斯林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45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约占总人口的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.4%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；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：荷 兰：总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640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穆斯林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89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约占总人口的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5.4%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；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0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：马其顿：总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1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穆斯林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7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 约占总人口的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0%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；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1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：西班牙：总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4701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穆斯林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55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约占总人口的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.2%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；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2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：比利时：总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100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穆斯林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0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4</a:t>
            </a:r>
            <a:r>
              <a:rPr b="0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约占总人口的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0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.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%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3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：塞尔维亚：总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740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穆斯林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0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万，约占总人口的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4%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；</a:t>
            </a:r>
            <a:endParaRPr b="0" lang="en-US" sz="25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4.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克罗地亚：总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4,409,659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穆斯林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56,444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占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.3%</a:t>
            </a:r>
            <a:endParaRPr b="0" lang="en-US" sz="25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5. 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希腊：总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1,183,393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穆斯林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19,845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占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.86</a:t>
            </a:r>
            <a:endParaRPr b="0" lang="en-US" sz="25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6.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荷兰：总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6,653,346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穆斯林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65,894</a:t>
            </a:r>
            <a:r>
              <a:rPr b="1" lang="zh-CN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占人口</a:t>
            </a:r>
            <a:r>
              <a:rPr b="1" lang="en-US" sz="25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5.80</a:t>
            </a:r>
            <a:endParaRPr b="0" lang="en-US" sz="25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76360" y="22824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Calibri"/>
                <a:ea typeface="SimHei"/>
              </a:rPr>
              <a:t>美国伊斯兰人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142640" y="1752480"/>
            <a:ext cx="9296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认为在美国，他们已有七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八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百万人口，也宣称他们是世界增长最快的宗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81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Calibri"/>
                <a:ea typeface="SimHei"/>
              </a:rPr>
              <a:t>为何须关注穆斯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47560" y="1523880"/>
            <a:ext cx="86072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320" indent="-49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Hei"/>
                <a:ea typeface="SimHei"/>
              </a:rPr>
              <a:t>因为耶稣在马太</a:t>
            </a:r>
            <a:r>
              <a:rPr b="1" lang="en-US" sz="3200" spc="-1" strike="noStrike">
                <a:solidFill>
                  <a:srgbClr val="000000"/>
                </a:solidFill>
                <a:latin typeface="SimHei"/>
                <a:ea typeface="SimHei"/>
              </a:rPr>
              <a:t>28: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20" indent="-4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110f6"/>
                </a:solidFill>
                <a:latin typeface="SimHei"/>
                <a:ea typeface="SimHei"/>
              </a:rPr>
              <a:t>  </a:t>
            </a:r>
            <a:r>
              <a:rPr b="1" lang="zh-CN" sz="3200" spc="-1" strike="noStrike">
                <a:solidFill>
                  <a:srgbClr val="3110f6"/>
                </a:solidFill>
                <a:latin typeface="SimHei"/>
                <a:ea typeface="SimHei"/>
              </a:rPr>
              <a:t>所以，你们要去，使万民作我的门徒，奉父、子、圣灵的名给他们施洗（或作：给他们施洗，归于父、子、圣灵的名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20" indent="-4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576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0000"/>
                </a:solidFill>
                <a:latin typeface="Arial"/>
                <a:ea typeface="SimHei"/>
              </a:rPr>
              <a:t>为何须关注穆斯林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耶稣说我们要求主打发工人出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  </a:t>
            </a:r>
            <a:r>
              <a:rPr b="1" lang="en-US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“</a:t>
            </a:r>
            <a:r>
              <a:rPr b="1" lang="en-US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(Mat 9:38)   </a:t>
            </a: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所以，你们当求庄稼的主打发工人出去收他的庄稼。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工人已经上了工场，请问我们有忠心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752560" y="15192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SimHei"/>
                <a:ea typeface="SimHei"/>
              </a:rPr>
              <a:t>为何关注穆斯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0" y="1066680"/>
            <a:ext cx="121874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人口突破十八亿；穆斯林人口占多数（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%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的国家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口年轻化，平均年龄最低。在欧美西方国家，穆斯林人口剧增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各国媒体天天报导穆斯林事件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分为两大宗派：逊尼穆斯林（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7-90%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和什叶穆斯林（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-13%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跟随了一个误导人的宗教师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需要耶稣基督的救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有百分之二的基督教宣教力量，正在全世界的穆斯林当中事奉，而穆斯林人口几乎占了全世界非基督徒人口的一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1240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SimHei"/>
                <a:ea typeface="SimHei"/>
              </a:rPr>
              <a:t>如何关注 </a:t>
            </a:r>
            <a:r>
              <a:rPr b="0" lang="en-US" sz="4400" spc="-1" strike="noStrike">
                <a:solidFill>
                  <a:srgbClr val="ff0000"/>
                </a:solidFill>
                <a:latin typeface="SimHei"/>
                <a:ea typeface="SimHe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447560" y="1828440"/>
            <a:ext cx="9219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110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110f6"/>
                </a:solidFill>
                <a:latin typeface="SimHei"/>
                <a:ea typeface="SimHei"/>
              </a:rPr>
              <a:t>我们需要寻找两种穆斯林</a:t>
            </a:r>
            <a:r>
              <a:rPr b="1" lang="en-US" sz="3600" spc="-1" strike="noStrike">
                <a:solidFill>
                  <a:srgbClr val="3110f6"/>
                </a:solidFill>
                <a:latin typeface="SimHei"/>
                <a:ea typeface="SimHe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SimHei"/>
                <a:ea typeface="SimHei"/>
              </a:rPr>
              <a:t>第一：那些想寻问及有兴趣知道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SimHei"/>
                <a:ea typeface="SimHei"/>
              </a:rPr>
              <a:t>第二</a:t>
            </a:r>
            <a:r>
              <a:rPr b="1" lang="en-US" sz="3600" spc="-1" strike="noStrike">
                <a:solidFill>
                  <a:srgbClr val="000000"/>
                </a:solidFill>
                <a:latin typeface="SimHei"/>
                <a:ea typeface="SimHei"/>
              </a:rPr>
              <a:t>: </a:t>
            </a:r>
            <a:r>
              <a:rPr b="1" lang="zh-TW" sz="3600" spc="-1" strike="noStrike">
                <a:solidFill>
                  <a:srgbClr val="000000"/>
                </a:solidFill>
                <a:latin typeface="SimHei"/>
                <a:ea typeface="SimHei"/>
              </a:rPr>
              <a:t>那些能乐意留心思考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SimHei"/>
                <a:ea typeface="SimHei"/>
              </a:rPr>
              <a:t>被吸引者</a:t>
            </a:r>
            <a:r>
              <a:rPr b="0" lang="zh-TW" sz="4400" spc="-1" strike="noStrike">
                <a:solidFill>
                  <a:srgbClr val="000000"/>
                </a:solidFill>
                <a:latin typeface="SimHei"/>
                <a:ea typeface="SimHe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980720" y="167616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Hei"/>
                <a:ea typeface="SimHei"/>
              </a:rPr>
              <a:t>我们要专心回答他们一切的寻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Hei"/>
                <a:ea typeface="SimHei"/>
              </a:rPr>
              <a:t>要彰显出在我们里面的基督而不是基督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Hei"/>
                <a:ea typeface="SimHei"/>
              </a:rPr>
              <a:t>成为真诚的朋友，不要假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Hei"/>
                <a:ea typeface="SimHei"/>
              </a:rPr>
              <a:t>以简易的方式呈现基督的真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SimHei"/>
                <a:ea typeface="SimHei"/>
              </a:rPr>
              <a:t>被吸引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1295280"/>
            <a:ext cx="101314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SimHei"/>
                <a:ea typeface="SimHei"/>
              </a:rPr>
              <a:t>使用一本清洁，完整的圣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SimHei"/>
                <a:ea typeface="SimHei"/>
              </a:rPr>
              <a:t>不要由太多人跟进，你自己是主要的接触人</a:t>
            </a:r>
            <a:r>
              <a:rPr b="1" lang="en-US" sz="3600" spc="-1" strike="noStrike">
                <a:solidFill>
                  <a:srgbClr val="000000"/>
                </a:solidFill>
                <a:latin typeface="SimHei"/>
                <a:ea typeface="SimHe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SimHei"/>
                <a:ea typeface="SimHei"/>
              </a:rPr>
              <a:t>不要说出那些你做不到的应许</a:t>
            </a:r>
            <a:r>
              <a:rPr b="1" lang="en-US" sz="3600" spc="-1" strike="noStrike">
                <a:solidFill>
                  <a:srgbClr val="000000"/>
                </a:solidFill>
                <a:latin typeface="SimHei"/>
                <a:ea typeface="SimHe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SimHei"/>
                <a:ea typeface="SimHei"/>
              </a:rPr>
              <a:t>留意异性的相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5960" y="-24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SimHei"/>
                <a:ea typeface="SimHei"/>
              </a:rPr>
              <a:t>对待被吸引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1447560"/>
            <a:ext cx="12192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需要的情况下，不要教太多的神学思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更多传讲耶稣基督，少提甚至放弃古兰经（可采用它来证实尔撒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赠送一本圣经，若没有要求，不要在其中写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要太多争辩，宁可放慢解说也不要失去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152280" y="7596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Calibri"/>
                <a:ea typeface="SimHei"/>
              </a:rPr>
              <a:t>对待被吸引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752120" y="1523880"/>
            <a:ext cx="8915400" cy="37245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eeece1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靠我们的力量和才智，让神主导并得其荣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需要留意他经济的情况，不要让他压力太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接受辅助并荣耀神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228600" y="187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Calibri"/>
                <a:ea typeface="SimHei"/>
              </a:rPr>
              <a:t>对待初信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371240"/>
            <a:ext cx="11734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会陷入一些处景是我们不能预料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有段时间陷入混乱与迷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开始表现出对朋友，同族人，甚至其它信徒感到惧怕与不信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建立一新的关系圈与联络网，减少对未来的惧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留意查看穆斯林悔改者的需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85440" y="1066320"/>
            <a:ext cx="91407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4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10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耶稣却回答说：「经上记着说：人活着，不是单靠食物，乃是靠神口里所出的一切话。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10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10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-394560" y="214560"/>
            <a:ext cx="7189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需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219320" y="1447560"/>
            <a:ext cx="9448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单是靠食物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,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然食物也是其中一个需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感受需要，自然包括了日常需要的满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2209680" y="457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   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需要指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4"/>
          <p:cNvGrpSpPr/>
          <p:nvPr/>
        </p:nvGrpSpPr>
        <p:grpSpPr>
          <a:xfrm>
            <a:off x="2438280" y="1676520"/>
            <a:ext cx="8229600" cy="4343400"/>
            <a:chOff x="2438280" y="1676520"/>
            <a:chExt cx="8229600" cy="4343400"/>
          </a:xfrm>
        </p:grpSpPr>
        <p:sp>
          <p:nvSpPr>
            <p:cNvPr id="422" name="AutoShape 5"/>
            <p:cNvSpPr/>
            <p:nvPr/>
          </p:nvSpPr>
          <p:spPr>
            <a:xfrm>
              <a:off x="3200760" y="1676520"/>
              <a:ext cx="746712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423" name="Oval 6"/>
            <p:cNvSpPr/>
            <p:nvPr/>
          </p:nvSpPr>
          <p:spPr>
            <a:xfrm>
              <a:off x="4823640" y="1998000"/>
              <a:ext cx="4057920" cy="4021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424" name="Oval 7"/>
            <p:cNvSpPr/>
            <p:nvPr/>
          </p:nvSpPr>
          <p:spPr>
            <a:xfrm>
              <a:off x="5311080" y="2480760"/>
              <a:ext cx="3084480" cy="3056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425" name="Oval 8"/>
            <p:cNvSpPr/>
            <p:nvPr/>
          </p:nvSpPr>
          <p:spPr>
            <a:xfrm>
              <a:off x="5960160" y="3124080"/>
              <a:ext cx="1785600" cy="176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pic>
          <p:nvPicPr>
            <p:cNvPr id="426" name="Picture 9" descr="MPj03995890000[1]"/>
            <p:cNvPicPr/>
            <p:nvPr/>
          </p:nvPicPr>
          <p:blipFill>
            <a:blip r:embed="rId1"/>
            <a:stretch/>
          </p:blipFill>
          <p:spPr>
            <a:xfrm>
              <a:off x="6122160" y="3606840"/>
              <a:ext cx="1460880" cy="96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AutoShape 10"/>
            <p:cNvSpPr/>
            <p:nvPr/>
          </p:nvSpPr>
          <p:spPr>
            <a:xfrm>
              <a:off x="3037680" y="2158920"/>
              <a:ext cx="1515240" cy="857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eaeaea"/>
                  </a:solidFill>
                  <a:latin typeface="Microsoft JhengHei"/>
                  <a:ea typeface="Microsoft JhengHei"/>
                </a:rPr>
                <a:t>感受需要</a:t>
              </a:r>
              <a:endParaRPr b="0" lang="en-US" sz="24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428" name="AutoShape 11"/>
            <p:cNvSpPr/>
            <p:nvPr/>
          </p:nvSpPr>
          <p:spPr>
            <a:xfrm>
              <a:off x="2895480" y="2964240"/>
              <a:ext cx="1657080" cy="53460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145555"/>
                <a:gd name="adj5" fmla="val 93750"/>
                <a:gd name="adj6" fmla="val 1833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eaeaea"/>
                  </a:solidFill>
                  <a:latin typeface="Microsoft JhengHei"/>
                  <a:ea typeface="Microsoft JhengHei"/>
                </a:rPr>
                <a:t>实际需要</a:t>
              </a:r>
              <a:endParaRPr b="0" lang="en-US" sz="24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429" name="AutoShape 12"/>
            <p:cNvSpPr/>
            <p:nvPr/>
          </p:nvSpPr>
          <p:spPr>
            <a:xfrm>
              <a:off x="2438280" y="4038120"/>
              <a:ext cx="2114640" cy="45720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176597"/>
                <a:gd name="adj5" fmla="val 75000"/>
                <a:gd name="adj6" fmla="val 2458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3110f6"/>
                  </a:solidFill>
                  <a:latin typeface="Microsoft JhengHei"/>
                  <a:ea typeface="Microsoft JhengHei"/>
                </a:rPr>
                <a:t>主要</a:t>
              </a:r>
              <a:r>
                <a:rPr b="1" lang="zh-CN" sz="2400" spc="-1" strike="noStrike">
                  <a:solidFill>
                    <a:srgbClr val="3110f6"/>
                  </a:solidFill>
                  <a:latin typeface="Microsoft JhengHei"/>
                  <a:ea typeface="Microsoft JhengHei"/>
                </a:rPr>
                <a:t>核心</a:t>
              </a:r>
              <a:r>
                <a:rPr b="1" lang="zh-TW" sz="2400" spc="-1" strike="noStrike">
                  <a:solidFill>
                    <a:srgbClr val="3110f6"/>
                  </a:solidFill>
                  <a:latin typeface="Microsoft JhengHei"/>
                  <a:ea typeface="Microsoft JhengHei"/>
                </a:rPr>
                <a:t>目标</a:t>
              </a:r>
              <a:endParaRPr b="0" lang="en-US" sz="24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</p:grpSp>
      <p:sp>
        <p:nvSpPr>
          <p:cNvPr id="430" name="Straight Connector 2"/>
          <p:cNvSpPr/>
          <p:nvPr/>
        </p:nvSpPr>
        <p:spPr>
          <a:xfrm>
            <a:off x="10896480" y="0"/>
            <a:ext cx="914400" cy="914400"/>
          </a:xfrm>
          <a:prstGeom prst="line">
            <a:avLst/>
          </a:prstGeom>
          <a:ln w="76320">
            <a:solidFill>
              <a:srgbClr val="c6c6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15840" y="-79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需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066680"/>
            <a:ext cx="109728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不能表达实际属灵需要，而不碰及生活中感受的需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谈不进深处，除非属灵实际需要与生活感受需要，同时被满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而，核心价值却会推动他做出选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Arial Black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5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2E31-18CC-4DA4-90B4-6387CDBE1D41}" type="slidenum">
              <a:rPr b="0" lang="el-GR" sz="1200" spc="-1" strike="noStrike">
                <a:solidFill>
                  <a:srgbClr val="898989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58" name="TextBox 5"/>
          <p:cNvSpPr/>
          <p:nvPr/>
        </p:nvSpPr>
        <p:spPr>
          <a:xfrm>
            <a:off x="76320" y="0"/>
            <a:ext cx="121158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穆斯林都集中在亚洲和非洲，但现代趋势向欧洲和美洲逐渐蔓延，许多过去没有穆斯林的地方都出现了新穆斯林小区，如西欧、南美洲和加勒比海地区。穆斯林居民最集中的地方是亚太地区，占当地人口的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2%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十个人中有六人是穆斯林；欧洲有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%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拉丁美洲穆斯林最少只有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%</a:t>
            </a: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 </a:t>
            </a: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穆斯林人口占多数（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40%)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的国家有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3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个，这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0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多国家几乎囊括了全部穆斯林的四分之三，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73%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 中东和北非有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个国家的一片大版块，其中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9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个是伊斯兰国家。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有十个国家的穆斯林人口构成了全部人口的三分之二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6%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 这十个国家分别是印度尼西亚、印度、巴基斯坦、孟加拉国、尼日利亚、埃及、伊朗、土耳其、阿尔及利亚和摩洛哥。 印度穆斯林算作是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少数民族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”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占人口的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4%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但人数却有一亿六千万，是一个穆斯林大国。</a:t>
            </a: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Calibri"/>
                <a:ea typeface="SimHei"/>
              </a:rPr>
              <a:t>生活中感受所需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PMingLiU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371240" y="1295280"/>
            <a:ext cx="9296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需要一个家庭（初信者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能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被家庭割除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工作需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居所需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正友谊需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团契归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Calibri"/>
                <a:ea typeface="SimHei"/>
              </a:rPr>
              <a:t>属灵实际需要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PMingLiU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819160" y="1447560"/>
            <a:ext cx="7235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Hei"/>
                <a:ea typeface="SimHei"/>
              </a:rPr>
              <a:t>门徒训练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（一对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Hei"/>
                <a:ea typeface="SimHei"/>
              </a:rPr>
              <a:t>有系统读经及灵修</a:t>
            </a:r>
            <a:r>
              <a:rPr b="1" lang="en-US" sz="3200" spc="-1" strike="noStrike">
                <a:solidFill>
                  <a:srgbClr val="000000"/>
                </a:solidFill>
                <a:latin typeface="SimHei"/>
                <a:ea typeface="Sim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Hei"/>
                <a:ea typeface="SimHei"/>
              </a:rPr>
              <a:t>基督的身体（教会）及属灵引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Calibri"/>
                <a:ea typeface="SimHei"/>
              </a:rPr>
              <a:t>异象与异梦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PMingLiU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160" y="1218960"/>
            <a:ext cx="101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三世界的穆斯林，常会谈到异梦与异像，天使的活动，及其它的属灵圣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记着上帝的作为常带有奇迹，神的意念非同我们的意念，他的道路非同我们的道路（赛</a:t>
            </a:r>
            <a:r>
              <a:rPr b="1" lang="el-GR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5:8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1371960" y="1080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Calibri"/>
                <a:ea typeface="SimHei"/>
              </a:rPr>
              <a:t>初信者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PMingLiU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37720" y="1295280"/>
            <a:ext cx="93726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他们是新生的婴孩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要把他当战利品而放集光灯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要强逼他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/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她站出来说话，见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属灵方面他们并不是那么属灵，不要把他们放在神学家的位置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2"/>
          <p:cNvSpPr/>
          <p:nvPr/>
        </p:nvSpPr>
        <p:spPr>
          <a:xfrm>
            <a:off x="2286000" y="3505320"/>
            <a:ext cx="754380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-7920" y="-152280"/>
            <a:ext cx="807876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如何蠃得穆斯林归主</a:t>
            </a: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6320" y="-15264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什么因素拦阻穆斯林来信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33160" y="1752480"/>
            <a:ext cx="10591560" cy="41148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eeece1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惧怕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3110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惧怕安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3110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惧怕死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110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怕</a:t>
            </a:r>
            <a:r>
              <a:rPr b="1" lang="zh-TW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被拒绝</a:t>
            </a:r>
            <a:r>
              <a:rPr b="1" lang="en-US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/</a:t>
            </a:r>
            <a:r>
              <a:rPr b="1" lang="zh-TW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羞耻╱</a:t>
            </a: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神，人，社会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110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怕</a:t>
            </a:r>
            <a:r>
              <a:rPr b="1" lang="zh-TW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被指为不</a:t>
            </a: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背道</a:t>
            </a:r>
            <a:r>
              <a:rPr b="1" lang="en-US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/</a:t>
            </a:r>
            <a:r>
              <a:rPr b="1" lang="zh-TW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信道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110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无法明白</a:t>
            </a:r>
            <a:r>
              <a:rPr b="1" lang="zh-TW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基督的神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3110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惧怕亵渎神：</a:t>
            </a: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唯一不能被赦免的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Line 4"/>
          <p:cNvSpPr/>
          <p:nvPr/>
        </p:nvSpPr>
        <p:spPr>
          <a:xfrm>
            <a:off x="2133720" y="1981080"/>
            <a:ext cx="69339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 spd="med">
    <p:pull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7391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什么因素吸引穆斯林归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1371600"/>
            <a:ext cx="12192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爱心：</a:t>
            </a:r>
            <a:r>
              <a:rPr b="1" lang="zh-TW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基督徒中间</a:t>
            </a:r>
            <a:r>
              <a:rPr b="1" lang="zh-CN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无条件的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110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    </a:t>
            </a:r>
            <a:r>
              <a:rPr b="1" lang="zh-TW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神自己神圣的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平安与喜乐；</a:t>
            </a:r>
            <a:r>
              <a:rPr b="1" lang="zh-CN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整夜非常好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110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在信徒中间的；</a:t>
            </a:r>
            <a:r>
              <a:rPr b="1" lang="zh-CN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 伊斯兰的敬拜只有战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110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在敬拜中的自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稣基督高尚的品格</a:t>
            </a:r>
            <a:r>
              <a:rPr b="1" lang="zh-TW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(</a:t>
            </a:r>
            <a:r>
              <a:rPr b="1" lang="zh-TW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福音书中</a:t>
            </a:r>
            <a:r>
              <a:rPr b="1" lang="en-US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)</a:t>
            </a:r>
            <a:r>
              <a:rPr b="1" lang="zh-CN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读神的话，他们会受感动而流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祷告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出来的能力</a:t>
            </a: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这在伊斯兰是十分重视的，不管它能回答，相信已经阻止咒诅临到，良心已经满足。然而向耶稣祷告却是有答复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读到圣经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异梦异像的启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110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-152280" y="914400"/>
            <a:ext cx="84963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 spd="med">
    <p:pull dir="r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76680" y="-2289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Calibri"/>
                <a:ea typeface="SimHei"/>
              </a:rPr>
              <a:t>祈祷出来的能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28440" y="837720"/>
            <a:ext cx="10439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10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求主</a:t>
            </a:r>
            <a:r>
              <a:rPr b="1" lang="zh-TW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捆绑壮士</a:t>
            </a:r>
            <a:r>
              <a:rPr b="1" lang="en-US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(</a:t>
            </a:r>
            <a:r>
              <a:rPr b="1" lang="zh-TW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太 </a:t>
            </a:r>
            <a:r>
              <a:rPr b="1" lang="en-US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12:2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捆绑波斯的魔君</a:t>
            </a:r>
            <a:r>
              <a:rPr b="1" lang="en-US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(</a:t>
            </a:r>
            <a:r>
              <a:rPr b="1" lang="zh-TW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但</a:t>
            </a:r>
            <a:r>
              <a:rPr b="1" lang="en-US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. 10: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捆绑惧怕的灵（</a:t>
            </a:r>
            <a:r>
              <a:rPr b="1" lang="zh-CN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伊斯兰充满欺骗与</a:t>
            </a:r>
            <a:r>
              <a:rPr b="1" lang="zh-TW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惧</a:t>
            </a:r>
            <a:r>
              <a:rPr b="1" lang="zh-CN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怕</a:t>
            </a:r>
            <a:r>
              <a:rPr b="1" lang="zh-TW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捆绑欺骗的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为文化中的高傲与羞耻文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为经历神迹，奇事与福音大能的经历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Line 4"/>
          <p:cNvSpPr/>
          <p:nvPr/>
        </p:nvSpPr>
        <p:spPr>
          <a:xfrm>
            <a:off x="-990720" y="838080"/>
            <a:ext cx="771552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 spd="med"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0" y="75960"/>
            <a:ext cx="10515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跟进新会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何面对逼迫；领受真道；如何向朋友作见证，不要太快让他们的身份露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属灵增长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还会有旧思想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谎，惧怕，不信任，新旧信仰的困扰，经济遇到困难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2057760" y="-152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  <a:ea typeface="SimHei"/>
              </a:rPr>
              <a:t>属灵成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1371600"/>
            <a:ext cx="12192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110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不要期待立刻，完全的转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亚伯拉罕，有说谎，有惧怕，约瑟命运坎坷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9:1-10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摩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新约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，雅各布，彼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来到伯赛大，有人带一个瞎子来，求耶稣摸他。耶稣在这医治事件中，有两次的手段才完全得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页脚占位符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Arial Black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60" name="灯片编号占位符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9F7A-67E1-42D7-913F-FEA588ADDEEA}" type="slidenum">
              <a:rPr b="0" lang="el-GR" sz="1200" spc="-1" strike="noStrike">
                <a:solidFill>
                  <a:srgbClr val="898989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穆斯林在世界不同宗教族群中，是平均年龄最年轻的一组。 全球的人口总体平均年龄是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8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岁，而穆斯林的平均年龄是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3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岁，年轻五岁，半数穆斯林都是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3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岁以下的年轻人。 他们在未来的世界舞台上将散发更大活力。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09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全球人口统计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﹐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全世界人口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8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亿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﹐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其中穆斯林有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5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亿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7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千万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﹐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占世界人口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3﹒4%﹐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分布在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0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多个国家和地区。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 </a:t>
            </a:r>
            <a:br>
              <a:rPr sz="2800"/>
            </a:b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在今日有人居住的世界五大洋洲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﹐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都有穆斯林居民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﹐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亚洲最多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﹐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是全部穆斯林人口的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60%﹔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其次是中东和北非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﹐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有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的穆斯林世界人口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﹐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但非洲东北部是穆斯林人口密度最大的地区。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  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中东与北非有二十个伊斯兰国家和地区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﹐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穆斯林人口高达</a:t>
            </a:r>
            <a:r>
              <a:rPr b="1" lang="en-US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5%</a:t>
            </a:r>
            <a:r>
              <a:rPr b="1" lang="zh-CN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以上。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228600" y="609120"/>
            <a:ext cx="10439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成长需要什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加入家庭教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门徒栽培：圣经真理，认识耶稣基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属灵保罗；关怀，问候，引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新的属灵家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了解他们的需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忍耐他们的犯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不要太多人作属灵引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457200" y="609480"/>
            <a:ext cx="784872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1143000" indent="-228600">
              <a:lnSpc>
                <a:spcPct val="90000"/>
              </a:lnSpc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一切的一切，什么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才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是最重要的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呢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? </a:t>
            </a:r>
            <a:endParaRPr b="0" lang="en-US" sz="3200" spc="-1" strike="noStrike">
              <a:solidFill>
                <a:srgbClr val="eaeaea"/>
              </a:solidFill>
              <a:latin typeface="Arial Black"/>
            </a:endParaRPr>
          </a:p>
          <a:p>
            <a:pPr marL="1143000" indent="-228600">
              <a:lnSpc>
                <a:spcPct val="90000"/>
              </a:lnSpc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Black"/>
            </a:endParaRPr>
          </a:p>
          <a:p>
            <a:pPr marL="1143000" indent="-228600">
              <a:lnSpc>
                <a:spcPct val="90000"/>
              </a:lnSpc>
              <a:spcBef>
                <a:spcPts val="22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爱心的关怀与引导中</a:t>
            </a:r>
            <a:endParaRPr b="0" lang="en-US" sz="36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239240" cy="76212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110f6"/>
                </a:solidFill>
                <a:latin typeface="Calibri"/>
                <a:ea typeface="SimHei"/>
              </a:rPr>
              <a:t>布道当留意的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16200" y="380880"/>
            <a:ext cx="1257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了解他们的惧怕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怕安拉，家人，亲友，工作，政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人跟进，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不要集在一起，男对男，女对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爱心，祷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了解他们的错误观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拜三位神，凭道德功修，伊斯兰未后的宗教</a:t>
            </a:r>
            <a:r>
              <a:rPr b="1" lang="en-US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? </a:t>
            </a:r>
            <a:r>
              <a:rPr b="1" lang="zh-CN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不要作太多宗教批判，以圣经，以爱来继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建立一个爱网来保护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333300"/>
                </a:solidFill>
                <a:latin typeface="Microsoft JhengHei"/>
                <a:ea typeface="Microsoft JhengHei"/>
              </a:rPr>
              <a:t>这是他们的需要，取代他们的亲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381240" y="18720"/>
            <a:ext cx="754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  <a:ea typeface="宋体"/>
              </a:rPr>
              <a:t>布道当留意的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33160" y="1371240"/>
            <a:ext cx="975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学习如何有效向穆斯林布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何向他们证实耶稣基督的神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性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14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留下美好的群众形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14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尊重他们的文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14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递爱心的信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Line 4"/>
          <p:cNvSpPr/>
          <p:nvPr/>
        </p:nvSpPr>
        <p:spPr>
          <a:xfrm>
            <a:off x="2362320" y="1295280"/>
            <a:ext cx="7467480" cy="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 spd="med">
    <p:pull dir="ru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-304920" y="-141480"/>
            <a:ext cx="762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  <a:ea typeface="SimHei"/>
              </a:rPr>
              <a:t>布道当留意的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523880"/>
            <a:ext cx="9524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建立一个有爱心的团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吸引穆斯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消除失去亲人的惧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导初信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何面对信仰的逼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何向亲人作见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Line 4"/>
          <p:cNvSpPr/>
          <p:nvPr/>
        </p:nvSpPr>
        <p:spPr>
          <a:xfrm>
            <a:off x="-1295280" y="990720"/>
            <a:ext cx="7467480" cy="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 spd="med">
    <p:pull dir="r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838080" y="-152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Calibri"/>
                <a:ea typeface="SimHei"/>
              </a:rPr>
              <a:t>如何分享福音</a:t>
            </a:r>
            <a:r>
              <a:rPr b="0" lang="zh-TW" sz="4000" spc="-1" strike="noStrike">
                <a:solidFill>
                  <a:srgbClr val="000000"/>
                </a:solidFill>
                <a:latin typeface="Calibri"/>
                <a:ea typeface="PMingLiU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76320" y="144792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开始于神，结束于耶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比布道法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的救恩历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重点在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分享神的爱而不是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留意太快说耶稣是主，会陷入对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提供他可以视为家人与朋友同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耐心等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带他们去认识前穆斯林信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Line 4"/>
          <p:cNvSpPr/>
          <p:nvPr/>
        </p:nvSpPr>
        <p:spPr>
          <a:xfrm>
            <a:off x="2171880" y="1447920"/>
            <a:ext cx="849600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 spd="med">
    <p:pull dir="r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救恩历史（</a:t>
            </a:r>
            <a:r>
              <a:rPr b="1" lang="zh-TW" sz="4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福音</a:t>
            </a:r>
            <a:r>
              <a:rPr b="1" lang="zh-CN" sz="4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</a:t>
            </a:r>
            <a:r>
              <a:rPr b="1" lang="zh-TW" sz="4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四步骤</a:t>
            </a:r>
            <a:r>
              <a:rPr b="1" lang="zh-TW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28240" y="1066680"/>
            <a:ext cx="12192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1) </a:t>
            </a:r>
            <a:r>
              <a:rPr b="1" lang="zh-TW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人在神心目中的地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完美的环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受苦与问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2)</a:t>
            </a:r>
            <a:r>
              <a:rPr b="1" lang="zh-TW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人与神分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罪的权势与结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3) </a:t>
            </a:r>
            <a:r>
              <a:rPr b="1" lang="zh-TW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神来寻找失丧的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 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中清楚的救赎计划与预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4) </a:t>
            </a:r>
            <a:r>
              <a:rPr b="1" lang="zh-TW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神寻找失丧的人；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–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介绍耶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Line 4"/>
          <p:cNvSpPr/>
          <p:nvPr/>
        </p:nvSpPr>
        <p:spPr>
          <a:xfrm>
            <a:off x="2133720" y="762120"/>
            <a:ext cx="84963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 spd="med">
    <p:pull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533880" y="-1526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Calibri"/>
                <a:ea typeface="SimHei"/>
              </a:rPr>
              <a:t>初信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990360" y="1218960"/>
            <a:ext cx="9219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导他们圣经真理，而不是古兰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导他们如何讲福音的大能，因为被福音所生的，会晓得如何见证福音的大能。马太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2057400" y="-1526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Calibri"/>
                <a:ea typeface="SimHei"/>
              </a:rPr>
              <a:t>提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62120" y="1218960"/>
            <a:ext cx="95248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  <a:ea typeface="SimHei"/>
              </a:rPr>
              <a:t>从伊斯兰归信的，他们会陷入危机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  <a:ea typeface="SimHei"/>
              </a:rPr>
              <a:t>他们有种种的需要，必须要关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  <a:ea typeface="SimHei"/>
              </a:rPr>
              <a:t>自夸，自傲会把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SimHei"/>
              </a:rPr>
              <a:t>赶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  <a:ea typeface="SimHei"/>
              </a:rPr>
              <a:t>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  <a:ea typeface="SimHei"/>
              </a:rPr>
              <a:t>不要在初信者面前辩论神学与宗派矛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1143000" y="-228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Calibri"/>
                <a:ea typeface="SimHei"/>
              </a:rPr>
              <a:t>问题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SimHei"/>
              </a:rPr>
              <a:t>/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  <a:ea typeface="SimHei"/>
              </a:rPr>
              <a:t>谁是主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533520" y="1218960"/>
            <a:ext cx="11277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3110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3110f6"/>
                </a:solidFill>
                <a:latin typeface="SimHei"/>
                <a:ea typeface="SimHei"/>
              </a:rPr>
              <a:t>耶稣说：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SimHei"/>
                <a:ea typeface="SimHei"/>
              </a:rPr>
              <a:t>太 </a:t>
            </a:r>
            <a:r>
              <a:rPr b="1" lang="en-US" sz="3000" spc="-1" strike="noStrike">
                <a:solidFill>
                  <a:srgbClr val="000000"/>
                </a:solidFill>
                <a:latin typeface="SimHei"/>
                <a:ea typeface="SimHei"/>
              </a:rPr>
              <a:t>11:28 </a:t>
            </a:r>
            <a:r>
              <a:rPr b="1" lang="zh-CN" sz="3000" spc="-1" strike="noStrike">
                <a:solidFill>
                  <a:srgbClr val="000000"/>
                </a:solidFill>
                <a:latin typeface="SimHei"/>
                <a:ea typeface="SimHei"/>
              </a:rPr>
              <a:t>凡劳苦担重担的人可以到我这里来，我就使你们得安息</a:t>
            </a:r>
            <a:r>
              <a:rPr b="1" lang="zh-CN" sz="3000" spc="-1" strike="noStrike">
                <a:solidFill>
                  <a:srgbClr val="ff0000"/>
                </a:solidFill>
                <a:latin typeface="SimHei"/>
                <a:ea typeface="Sim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徙说：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照我所说的做，不然你就没有平安。负自己的责任，我们也有自己的责任。跟随我们，因为我们认识主耶稣（是不是也应该不跟从那些不认识耶稣的人）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页脚占位符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Arial Black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63" name="灯片编号占位符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7747-C9A2-4F66-97B9-AFFC8D5DE401}" type="slidenum">
              <a:rPr b="0" lang="el-GR" sz="1200" spc="-1" strike="noStrike">
                <a:solidFill>
                  <a:srgbClr val="898989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生活在非穆斯林国家的穆民人口超过三亿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﹐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是穆斯林世界人口的五分之一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﹐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他们是那里的少数民族。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  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虽然称为少数民族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﹐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他们多数生活在穆斯林人口密集的聚居区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﹐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如印度是世界第三穆斯林人口大国。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  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中国约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-4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千万穆斯林人口，超过叙利亚，沙地阿拉伯。俄罗斯穆斯林人口超过约旦和利比亚人口总和。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  </a:t>
            </a:r>
            <a:br>
              <a:rPr sz="3000"/>
            </a:b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 </a:t>
            </a:r>
            <a:br>
              <a:rPr sz="3000"/>
            </a:b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世界穆斯林分为两大教派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﹔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什叶穆斯林是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0%﹐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而逊尼穆斯林占到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0%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  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什叶穆斯林人口最多的国家是伊朗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﹑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巴基斯坦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﹑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印度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﹑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伊拉克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﹑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巴林。</a:t>
            </a: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以上资料是根据国际皮优研究中心专设的宗教与公共生活论坛在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09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开始调查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﹐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拟定报告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﹕《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世界穆斯林人口人数及分布图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2057400" y="-152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Calibri"/>
                <a:ea typeface="SimHei"/>
              </a:rPr>
              <a:t>耶稣说：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PMingLiU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33520" y="1218960"/>
            <a:ext cx="10820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110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约 </a:t>
            </a:r>
            <a:r>
              <a:rPr b="1" lang="en-US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10:16  </a:t>
            </a: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我另外有羊，不是这圈里的；我必须领他们来，他们也要听我的声音，并且要合成一群，归一个牧人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主自己带领迷失者，不是我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人到主里面，而不是我们的系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Text Box 4" descr=""/>
          <p:cNvPicPr/>
          <p:nvPr/>
        </p:nvPicPr>
        <p:blipFill>
          <a:blip r:embed="rId1"/>
          <a:stretch/>
        </p:blipFill>
        <p:spPr>
          <a:xfrm>
            <a:off x="-165240" y="-85680"/>
            <a:ext cx="12400200" cy="6346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Text Box 4" descr=""/>
          <p:cNvPicPr/>
          <p:nvPr/>
        </p:nvPicPr>
        <p:blipFill>
          <a:blip r:embed="rId1"/>
          <a:stretch/>
        </p:blipFill>
        <p:spPr>
          <a:xfrm>
            <a:off x="36360" y="-19080"/>
            <a:ext cx="12277800" cy="6956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Text Box 4" descr=""/>
          <p:cNvPicPr/>
          <p:nvPr/>
        </p:nvPicPr>
        <p:blipFill>
          <a:blip r:embed="rId1"/>
          <a:stretch/>
        </p:blipFill>
        <p:spPr>
          <a:xfrm>
            <a:off x="73080" y="-79200"/>
            <a:ext cx="12095280" cy="6467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Text Box 4" descr=""/>
          <p:cNvPicPr/>
          <p:nvPr/>
        </p:nvPicPr>
        <p:blipFill>
          <a:blip r:embed="rId1"/>
          <a:stretch/>
        </p:blipFill>
        <p:spPr>
          <a:xfrm>
            <a:off x="-139680" y="-79200"/>
            <a:ext cx="12344400" cy="623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Text Box 4" descr=""/>
          <p:cNvPicPr/>
          <p:nvPr/>
        </p:nvPicPr>
        <p:blipFill>
          <a:blip r:embed="rId1"/>
          <a:stretch/>
        </p:blipFill>
        <p:spPr>
          <a:xfrm>
            <a:off x="12600" y="-79200"/>
            <a:ext cx="12295440" cy="665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Text Box 4" descr=""/>
          <p:cNvPicPr/>
          <p:nvPr/>
        </p:nvPicPr>
        <p:blipFill>
          <a:blip r:embed="rId1"/>
          <a:stretch/>
        </p:blipFill>
        <p:spPr>
          <a:xfrm>
            <a:off x="-139680" y="-79200"/>
            <a:ext cx="12119040" cy="6303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Text Box 4" descr=""/>
          <p:cNvPicPr/>
          <p:nvPr/>
        </p:nvPicPr>
        <p:blipFill>
          <a:blip r:embed="rId1"/>
          <a:stretch/>
        </p:blipFill>
        <p:spPr>
          <a:xfrm>
            <a:off x="-66600" y="-79200"/>
            <a:ext cx="12660120" cy="652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Text Box 4" descr=""/>
          <p:cNvPicPr/>
          <p:nvPr/>
        </p:nvPicPr>
        <p:blipFill>
          <a:blip r:embed="rId1"/>
          <a:stretch/>
        </p:blipFill>
        <p:spPr>
          <a:xfrm>
            <a:off x="0" y="-79200"/>
            <a:ext cx="12271320" cy="585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Text Box 4" descr=""/>
          <p:cNvPicPr/>
          <p:nvPr/>
        </p:nvPicPr>
        <p:blipFill>
          <a:blip r:embed="rId1"/>
          <a:stretch/>
        </p:blipFill>
        <p:spPr>
          <a:xfrm>
            <a:off x="-219240" y="-79200"/>
            <a:ext cx="13051080" cy="6297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页脚占位符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Arial Black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66" name="灯片编号占位符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840E-2783-45DE-8C35-6089F6B6DC83}" type="slidenum">
              <a:rPr b="0" lang="el-GR" sz="1200" spc="-1" strike="noStrike">
                <a:solidFill>
                  <a:srgbClr val="898989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67" name="矩形 3"/>
          <p:cNvSpPr/>
          <p:nvPr/>
        </p:nvSpPr>
        <p:spPr>
          <a:xfrm>
            <a:off x="0" y="1764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皮尤研究中心（</a:t>
            </a:r>
            <a:r>
              <a:rPr b="1" lang="en-US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Pew Research Center</a:t>
            </a:r>
            <a:r>
              <a:rPr b="1" lang="zh-CN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17</a:t>
            </a:r>
            <a:r>
              <a:rPr b="1" lang="zh-CN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的报告，</a:t>
            </a:r>
            <a:r>
              <a:rPr b="1" lang="en-US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15</a:t>
            </a:r>
            <a:r>
              <a:rPr b="1" lang="zh-CN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全球穆斯林人口约为</a:t>
            </a:r>
            <a:r>
              <a:rPr b="1" lang="en-US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8</a:t>
            </a:r>
            <a:r>
              <a:rPr b="1" lang="zh-CN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亿，占全球总人口的</a:t>
            </a:r>
            <a:r>
              <a:rPr b="1" lang="en-US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4.1%</a:t>
            </a:r>
            <a:r>
              <a:rPr b="1" lang="zh-CN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该报告还预测，到</a:t>
            </a:r>
            <a:r>
              <a:rPr b="1" lang="en-US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60</a:t>
            </a:r>
            <a:r>
              <a:rPr b="1" lang="zh-CN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，全球穆斯林人口将增至约</a:t>
            </a:r>
            <a:r>
              <a:rPr b="1" lang="en-US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0</a:t>
            </a:r>
            <a:r>
              <a:rPr b="1" lang="zh-CN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亿，占全球总人口的</a:t>
            </a:r>
            <a:r>
              <a:rPr b="1" lang="en-US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1.1%</a:t>
            </a:r>
            <a:r>
              <a:rPr b="1" lang="zh-CN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 </a:t>
            </a:r>
            <a:endParaRPr b="0" lang="en-US" sz="32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需要注意的是，全球人口统计数据会随着时间推移而变化，不同机构可能提供略有差异的估计数值。</a:t>
            </a:r>
            <a:endParaRPr b="0" lang="en-US" sz="32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以下为其统计数据</a:t>
            </a:r>
            <a:endParaRPr b="0" lang="en-US" sz="32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ext Box 4" descr=""/>
          <p:cNvPicPr/>
          <p:nvPr/>
        </p:nvPicPr>
        <p:blipFill>
          <a:blip r:embed="rId1"/>
          <a:stretch/>
        </p:blipFill>
        <p:spPr>
          <a:xfrm>
            <a:off x="85680" y="-79200"/>
            <a:ext cx="12277800" cy="652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152280" y="0"/>
            <a:ext cx="11658600" cy="307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ed5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辅导他们在属灵上成长</a:t>
            </a:r>
            <a:br>
              <a:rPr sz="3000"/>
            </a:b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这不只是透过教会的聚会，也是藉着归信者与同道的基督徒相交来达成的。当归信者与成熟的基督徒一起吃东西、事奉、以及相交时，他们就能够认识到基督教的信仰是怎样落实到人日常的生活当中 （生活技能、道德规范、良好的传统和惯例） 。 </a:t>
            </a: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当完成融合的时候</a:t>
            </a:r>
            <a:br>
              <a:rPr sz="3000"/>
            </a:b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教会对归信者的任务是教导、门徒训练、提供一个地方让他们敬拜、得劝导、祷告、操练他们的恩赐。归信者也不是一个分享见证的展品。他们经过一段比较长的时间建立了信心后，才可以作见证，免得他们变得骄傲。</a:t>
            </a:r>
            <a:br>
              <a:rPr sz="3000"/>
            </a:b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教会也有社会性的一面， 也就是说他们可以在那里找到一群接受和支持他们的朋友和一群人。教会也需要成为归信者能够找到伴侣的地方。教会的成员不该称归信者为 前穆斯林，必须以尊重对待他们。</a:t>
            </a: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2971440" y="228240"/>
            <a:ext cx="6931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Arial"/>
                <a:ea typeface="PMingLiU"/>
              </a:rPr>
              <a:t>问题讨论！</a:t>
            </a:r>
            <a:r>
              <a:rPr b="0" lang="zh-TW" sz="5400" spc="-1" strike="noStrike">
                <a:solidFill>
                  <a:srgbClr val="003366"/>
                </a:solidFill>
                <a:latin typeface="Arial"/>
                <a:ea typeface="PMingLiU"/>
              </a:rPr>
              <a:t>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91" name="Picture 4" descr="ThankyouKDRtransp"/>
          <p:cNvPicPr/>
          <p:nvPr/>
        </p:nvPicPr>
        <p:blipFill>
          <a:blip r:embed="rId1"/>
          <a:stretch/>
        </p:blipFill>
        <p:spPr>
          <a:xfrm rot="17606400">
            <a:off x="3985920" y="2642400"/>
            <a:ext cx="5638680" cy="96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Arial Black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69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A5B7-A852-499D-B2C3-DBF28F48DF4D}" type="slidenum">
              <a:rPr b="0" lang="el-GR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0" y="0"/>
            <a:ext cx="12115800" cy="47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穆斯林人口最多的管家</a:t>
            </a:r>
            <a:endParaRPr b="0" lang="en-US" sz="32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）印度尼西亚</a:t>
            </a:r>
            <a:endParaRPr b="0" lang="en-US" sz="32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23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的统计数据，印度尼西亚的人口总数约为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.7948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亿，其中约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86.1%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的人口信奉伊斯兰教，穆斯林人口约为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.3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亿，是全球穆斯林人口最多的国家。  </a:t>
            </a: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印度尼西亚是世界上最大的群岛国家，拥有超过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7,000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个岛屿，国土面积约为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,904,569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平方公里。 该国人口众多且多元化，包含超过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300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个民族，其中爪哇族占总人口的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42%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 印尼的官方语言为印尼语，国内有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700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多种地方语言。  </a:t>
            </a: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印尼政府承认六大宗教：伊斯兰教、基督教、天主教、佛教、印度教和孔教。 虽然伊斯兰教徒占多数，但印尼并非伊斯兰国家，而是一个世俗国家，宪法保障宗教自由</a:t>
            </a: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Arial Black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72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0D85-D476-4F0E-B946-29B78C798EBE}" type="slidenum">
              <a:rPr b="0" lang="el-GR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-28440" y="136440"/>
            <a:ext cx="121917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2</a:t>
            </a:r>
            <a:r>
              <a:rPr b="1" lang="zh-CN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）巴基斯坦</a:t>
            </a: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23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的统计数据，巴基斯坦总人口约为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.4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亿，其中约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5%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信奉伊斯兰教，穆斯林人口约为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.28</a:t>
            </a:r>
            <a:r>
              <a:rPr b="1" lang="en-MY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亿</a:t>
            </a: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3</a:t>
            </a:r>
            <a:r>
              <a:rPr b="1" lang="zh-CN" sz="30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）印度</a:t>
            </a: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根据印度政府于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23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7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月发布的估计数据，印度的穆斯林人口约为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.97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亿，占全国总人口的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4.2%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Microsoft JhengHei"/>
                <a:ea typeface="Microsoft JhengHei"/>
                <a:hlinkClick r:id="rId1"/>
              </a:rPr>
              <a:t>IQNA</a:t>
            </a:r>
            <a:r>
              <a:rPr b="1" lang="zh-CN" sz="2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然而，其他来源则提供了不同的估计数值。 例如，维基百科指出，印度的穆斯林人口约为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.609</a:t>
            </a: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亿，占总人口的</a:t>
            </a:r>
            <a:r>
              <a:rPr b="1" lang="en-US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3.4%</a:t>
            </a:r>
            <a:r>
              <a:rPr b="1" lang="zh-CN" sz="2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Microsoft JhengHei"/>
                <a:ea typeface="Microsoft JhengHei"/>
                <a:hlinkClick r:id="rId2"/>
              </a:rPr>
              <a:t>Wikipedia</a:t>
            </a:r>
            <a:endParaRPr b="0" lang="en-US" sz="2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需要注意的是，印度的穆斯林人口，在全球范围内位居第三，仅次于印度尼西亚和巴基斯坦。 </a:t>
            </a:r>
            <a:endParaRPr b="0" lang="en-US" sz="30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Arial Black"/>
                <a:ea typeface="PMingLiU"/>
              </a:rPr>
              <a:t>H.I.S T.I.M.E _ahmed Paul  june_2006</a:t>
            </a:r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75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00CD-CAFA-44D9-9D23-C80E45CED5EB}" type="slidenum">
              <a:rPr b="0" lang="el-GR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76" name="TextBox 4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4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）</a:t>
            </a:r>
            <a:r>
              <a:rPr b="1" lang="en-MY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孟加拉国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：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总人口约为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.72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亿，其中穆斯林占总人口的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88%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，约为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.51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亿人。  </a:t>
            </a:r>
            <a:r>
              <a:rPr b="1" lang="en-MY" sz="1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CHINA FOREIGN AFFAIRS   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然而，其他来源提供了不同的统计数据。 例如，根据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2024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年的一项调查，孟加拉国的穆斯林人口约为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1.537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亿，占总人口的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91.5%</a:t>
            </a:r>
            <a:r>
              <a:rPr b="1" lang="en-MY" sz="2800" spc="-1" strike="noStrike">
                <a:solidFill>
                  <a:srgbClr val="eaeaea"/>
                </a:solidFill>
                <a:latin typeface="Microsoft JhengHei"/>
                <a:ea typeface="Microsoft JhengHei"/>
              </a:rPr>
              <a:t>。  </a:t>
            </a:r>
            <a:r>
              <a:rPr b="1" lang="en-MY" sz="1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SUNDAY NEWS</a:t>
            </a: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3110f6"/>
                </a:solidFill>
                <a:latin typeface="Microsoft JhengHei"/>
                <a:ea typeface="Microsoft JhengHei"/>
              </a:rPr>
              <a:t>）土耳其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中国驻伊斯坦布尔总领馆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2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月的数据，土耳其总人口约为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52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万，其中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9%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居民信奉伊斯兰教</a:t>
            </a:r>
            <a:r>
              <a:rPr b="1" lang="zh-CN" sz="1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。  </a:t>
            </a:r>
            <a:r>
              <a:rPr b="1" lang="en-MY" sz="1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CONSULATE GENERAL OF CHINA IN ISTANBU</a:t>
            </a:r>
            <a:r>
              <a:rPr b="1" lang="en-MY" sz="1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L </a:t>
            </a:r>
            <a:r>
              <a:rPr b="1" lang="en-MY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中，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5%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属于逊尼派，其余为什叶派（阿拉维派）。 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土耳其的穆斯林人口约为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43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万。</a:t>
            </a: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00:37:08Z</dcterms:created>
  <dc:creator>Ahmed A Mohamed</dc:creator>
  <dc:description/>
  <dc:language>en-US</dc:language>
  <cp:lastModifiedBy>chan HK</cp:lastModifiedBy>
  <dcterms:modified xsi:type="dcterms:W3CDTF">2025-01-03T06:42:56Z</dcterms:modified>
  <cp:revision>75</cp:revision>
  <dc:subject/>
  <dc:title>Reaching out          to Muslims</dc:title>
</cp:coreProperties>
</file>