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9C9-45B4-4E30-9FBA-0D65E855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646-A153-4A28-A677-8E89DE52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CC8-48A7-48D0-872C-8F07FEF9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37E-3F6C-4C68-973D-E11FB519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0D6-E8A0-4D79-BE49-2D688523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134-3E71-4E23-BEC9-71F8D00A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2CF-4C12-4298-879C-870E2CF3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4A3-9C48-42D7-97FF-6A992A28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BED-95A5-4A72-94F0-ED5DD7F1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724-9A12-4DBF-A02D-38484659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D80-FC27-42C1-9548-B9656565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731-1B07-4D9B-A0F3-90F277EA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75D8-B4BE-4F35-9AF0-E6D52D437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1374-9B0B-4940-921C-110ED5C46A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0"/>
            <a:ext cx="12192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帕子（二）：称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麦西哈尔撒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为上帝的儿子，为主宰，是以物配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9:30-3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犹太人说：欧宰尔是真主的儿子。基督徒说：麦西哈（弥赛亚耶稣）是真主的儿子。这是他们信口开河，仿效从前不信道者的口吻。愿真主诅咒他们。他们怎么如此放荡呢？他们舍真主而把他们的博士，僧侣和麦尔彦（马里亚）之子麦西哈（弥赛亚）当做主宰。他们所奉的命令只是祟拜独一的主宰，除他之外，绝无应受崇拜的。赞颂真主超乎他们所用来配他的。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真主不会收养儿子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赞颂真主，超越万物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他判决一件事的时候，他只对那件事说：有，它就有了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6E6F-433F-4CF1-88EA-60244527EC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从门徒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5-17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向门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开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承认，他就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神儿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对门徒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你们说我是谁？西门彼得说：「你是基督，是永生上帝的儿子」。耶稣对他说，西门巴约拿，你是有福的，因为这不是属血肉的指示你的，乃是我在天上的父指示你的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耶稣的回答中，他没有责备彼得说僭妄的话，反而因门徒有属灵看见，而称他是有福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2CA8-834B-4AD1-839C-C1BA3A7089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0" y="0"/>
            <a:ext cx="1207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)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天使对玛利亚预告所生的要称为神的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:30-31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  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使对他说：「马利亚，不要怕！你在神面前已经蒙恩了。 你要怀孕生子，可以给他起名叫耶稣。 他要为大，称为至高者的儿子；主神要把他祖大卫的位给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:34-35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  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马利亚对天使说：「我没有出嫁，怎麽有这事呢？」 天使回答说：「圣灵要临到你身上，至高者的能力要荫庇你，因此所要生的圣者必称为神的儿子（所要生的，必称为圣，称为神的儿子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3F05-1881-44DF-B692-C9EB8372E1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从灵界来的宣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可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-7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耶稣一下船，就有一个被污灵附着的人，从墓地里迎面而来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他远远的看见耶稣，就跑过去拜他。大声呼叫说：至高上帝的儿子耶稣阿，我与你有什么关系呢？我指着上帝恳求你，不要叫我受苦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连黑暗的灵界，邪灵也认得出耶稣基督的神性，承认耶稣是上帝的儿子，不得不服在耶稣的权柄下，给他下拜，口称耶稣是至高上帝的儿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72B9-798F-4E0C-873A-A2AA0CFE85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0"/>
            <a:ext cx="1236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以上论点，我们看出称耶稣是「上帝的儿子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有五方面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于耶稣自己的口说出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天上上帝自己发声的见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天使报告佳音时的见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门徒多时跟随观察结论的见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从灵界来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DB0F-4B44-423A-8399-E95DAA720C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宣称自己与上帝有独特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很自夸的责问基督徒说：耶稣基督在那里有说过我是神火相关神性的自称。一下我们就提出一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与父原为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曾说过一些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认为， 耶稣把自己当作与上帝是同等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0:30-3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说：「我与父原为一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犹太人拿石头要打他。耶稣对他们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从父显出许多善事给你们看，你们是为那一件事拿石头打我呢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回答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是为你说了僭妄的话。又因为你是个人，反将自己当作上帝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CA21-084E-457A-9BBB-BB8F86FC32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称上帝为「我的父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17-1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「耶稣就对他们说，我的父作事直到如今，我也作事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以犹太人越发想杀他。因为，他不但犯了安息日时行驶医治的神迹，并且还称上帝为他的父，将自己和上帝当作平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称上帝为：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我的父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ho pater mou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用来单数，而不是用「我们的父」，这表明他与父上帝之间有个人特殊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的父作事直到如今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heos arti ergazetai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而我也作事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go ergazomai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这样表达，是把自己的工与上帝的工作，结合在一起。他所作所说，所做的，就是神在做，神在说。管不得犹太人气到要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7008-B828-42A0-90EF-D5782A3F6B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0"/>
            <a:ext cx="12144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*2.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宣称他如上帝般，是自有永有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5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实实在在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Aman Aman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的告诉你们，还没有亚伯拉罕，就有了我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ego eimi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节经文里，「实实在在」在希腊原文是阿门阿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man Aman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是犹太人宗教上非常尊严的说辞，当犹太人听见祭司宣读神的话，百姓就要用阿门，阿门来回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耶稣说：「我阿门，阿门的告诉你们」，当耶稣用这句话来形容他接下来他说的：等于宣告他说出了如同上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误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话。意思是他以阿门阿门所宣告的话，你是绝对可以信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绝对可信赖的话就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还没有亚伯拉罕，就有礼我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耶稣基督这句话是属神的，他是先存的，这绝对是真理的活，绝对可信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CA40-C2AA-45DC-A84B-B61C70AE02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121921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阿门阿门的告诉你们，还没有亚伯拉罕就有了我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有了我」这字在希腊原文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go eim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可译作「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 a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还没有亚伯拉罕，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耶稣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你们若不信「我是」，必要死在罪中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你们举起人子以后，必知道「我是」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听了这几个用阿门阿门口吻说出来的活，结果是气得要拿石头打死耶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D972-C5DA-4732-9E22-6F8140AE62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0"/>
            <a:ext cx="1219212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犹太人为什么要生气？他们如何理解这句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雯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rvin Vincen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「新约字义研究」一书中说：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「耶稣对自己身份的称呼，是用了绝对的，超越的「我是</a:t>
            </a:r>
            <a:r>
              <a:rPr b="1" lang="en-US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ego eimi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」这两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参考旧约的启示，就能理解「我是」这两字的超越性。旧约圣经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上帝用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形容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所用的「我是」和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上帝启示给摩西的名字「我是自有永有的（我是那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 am that l a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是一致的用法。</a:t>
            </a:r>
            <a:r>
              <a:rPr b="0" lang="en-US" sz="1800" spc="-1" strike="noStrike">
                <a:solidFill>
                  <a:srgbClr val="218282"/>
                </a:solidFill>
                <a:latin typeface="Verdana"/>
                <a:ea typeface="新宋体"/>
              </a:rPr>
              <a:t> </a:t>
            </a:r>
            <a:r>
              <a:rPr b="1" lang="en-US" sz="2800" spc="-1" strike="noStrike">
                <a:solidFill>
                  <a:srgbClr val="218282"/>
                </a:solidFill>
                <a:latin typeface="Microsoft JhengHei UI"/>
                <a:ea typeface="Microsoft JhengHei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8282"/>
                </a:solidFill>
                <a:latin typeface="Microsoft JhengHei UI"/>
                <a:ea typeface="Microsoft JhengHei U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出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3:14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神对摩西说：「我是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(ego eimi)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自有永有的」；又说：「你要对以色列人这样说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『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那自有的打发我到你们这里来。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A917-AC20-4F76-8758-DCD236A59C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告诉摩西说：「你要对以色列人这样说：是那位「我是」打发了我到你们这里来」。上帝的圣名，在希伯来文中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HW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是「我是」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熟悉旧约的耶和华上帝，在论及自己的称呼时：曾自称说：「我是自有永有的（「我就是那我是」）。耶和华上帝这「我是」的自称，后来成了形容上帝永存的专用名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把这专属上帝的专用自称词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ego eime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用在自己身上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犹太人的反应看，他们明白耶稣是在自称，自己就是：那位绝对自有永有的独一上帝。所以他们才气得想用，摩西所定亵渎上帝的刑罚，即用石头打死他（利未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13-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里明显耶稣在告诉你，他就是神，是道成了肉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012C-A644-4E1A-8812-E559D153B5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先必须说明，在过往或现今的教会历史里，基督教会从来没有把博士，神父，牧师，主教，甚至教皇，当作是上帝，主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新约所记载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尔撒麦西哈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没有直接的说：「我就是上帝」。却有两位旧约的先知，预告要来临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弥赛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世人的救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其根源与本质为「上帝」的预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因有一婴孩为我们而生，有一子赐给我们。政权必担在他的肩头上。他名称为奇妙，策士，全能的上帝，永在的父，和平的君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CAED-9323-4E1D-B958-CB76FD9AFB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接受人对上帝那种的尊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当尊敬耶稣如同父上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3-2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叫人都尊敬父，如同尊敬子一样。不尊敬子的，就是不尊敬差子来的父。我实实在在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AmanAman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的告诉你们，那听我话又差我来者的，就有永生，不至于定罪，是已经出死入生了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段经文的后半部，耶稣作出犹太人指责他犯了僭妄罪的辩护。他告诉指责他犯僭妄罪的人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不尊重他就是不尊重父上帝，辱骂他就是辱骂上帝。阿门阿门的劝他们说，如果不敬重他的话，是会惹动上帝之忿怒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3E39-256F-46C7-83A2-E4D20D0B30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认识耶稣就必认识父上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们就问他说：你的父在哪里？耶稣回答说，你们不认识我，也不认识父。若是认识我，也就认识父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荣耀我的乃是我的父，就是你们所说是你们的上帝」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回答犹太人说：认识他，就等于是认识了所信的上帝。耶稣如此形容自己，等于在告诉我们，他们是同一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看见耶稣如同看见父上帝，看见耶稣所做的，等于看见神所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对他说：腓力，我与你们同在这么久，你还不认识我么？人看见了我，就是看见了父。你怎么说，将父显给我们看呢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所作的，等同父上帝所作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父怎样叫人从死里起来 ，使他们活着；子也照样随着自己的意思，使人活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2A89-007F-45CD-AD0C-C9538C4728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接受受造物都要对他的敬拜如同上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长大麻疯的来「拜」他（耶稣）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个生来是瞎眼的，得医治后就「拜」他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5-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拜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多马就下拜说：我的主，我的上帝。耶稣对他说，你因为看见我才信，那没有看见就信的有福了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7-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徒们都「拜」他说：你真是上帝的儿子了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3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上的使者（天使）也要拜他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来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神使长子到世上来的时候，就说：神的使者（天使）都要拜他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灵界中堕落的灵也要伏服下拜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5: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 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他（污鬼一）远远的看见耶稣，就跑过去拜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2F49-C4D2-4E68-88BA-609A48E2A4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所说的话就是灵，就是生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实实在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man A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告诉你们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0,22,26,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在这几节文中，我们看见耶稣根据他自己的身份，以肯定方式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等于是宣布他所说，所传的真理事实，属于绝对无误的。他没有用从前先知们所惯用的方式：「这是主耶和华上帝所说的」。而是一再的强调说：「我，阿门，阿门的告诉你们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，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地要废去，我的话却不能废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3:3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叫人活着的是灵，肉体是无益的。我所说的话就是灵，就是生命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C122-090F-42E8-8ECF-5205199266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0"/>
            <a:ext cx="1207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宣称他如上帝般有赦罪的权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赦罪的权柄属于上帝，唯有上帝能赦罪。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5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这事议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过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「耶稣看见他们的信心，就对瘫子说：孩子，你的罪赦了。当时，有几个文士在哪里。心里议论说：这个人为什么这么说呢？他（耶稣）说了僭妄的话，除了上帝以外，谁能赦罪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就对他们说：你们为什么心里议论这事？对瘫子说：「你的罪赦了」，或者「起来，拿着你的褥子走」，那一样容易呢？然而为了要你们知道，人子在地上有赦罪的权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对瘫子说：我吩咐你，起来，拿起你的褥子，回家去吧」。那瘫子就起来，立刻拿着褥子，当众出去了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83E7-F649-4117-956A-3893D22926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0"/>
            <a:ext cx="120729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7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宣称他如上帝般，是赐生命的源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5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就如父上帝是生命的源头，照样他也使子成为生命的源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就是道路，真理，生命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5-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复活在我，生命也在我。信我的人虽然死了，也必复活。活着信我的人，必永远不死（第二次的死），你信这话么？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说完这话，耶稣叫死了四天之久的拉撒路，从死里复活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有许多特殊的宣称，即说明他就是旧约的耶和华上帝。耶稣在公开的场合中，曾间接或直接的宣称，他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具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儿子的身份与神性。下表列出新约中，耶稣为上帝儿子的身份，与旧约耶和华上帝的某些专有名词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比较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18AD-9C62-4D3F-B5AA-F1DFD0D03C4E}" type="slidenum">
              <a:rPr b="1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388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9160" y="0"/>
          <a:ext cx="11953800" cy="6613560"/>
        </p:xfrm>
        <a:graphic>
          <a:graphicData uri="http://schemas.openxmlformats.org/drawingml/2006/table">
            <a:tbl>
              <a:tblPr/>
              <a:tblGrid>
                <a:gridCol w="3214440"/>
                <a:gridCol w="4535640"/>
                <a:gridCol w="420372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新宋体"/>
                          <a:ea typeface="Times New Roman"/>
                        </a:rPr>
                        <a:t>旧约论耶和华上帝的经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Times New Roman"/>
                        </a:rPr>
                        <a:t>上帝的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Times New Roman"/>
                        </a:rPr>
                        <a:t>身份与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Times New Roman"/>
                        </a:rPr>
                        <a:t>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新宋体"/>
                          <a:ea typeface="Times New Roman"/>
                        </a:rPr>
                        <a:t>新约同样论及耶稣的经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40: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创造之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1:3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万物藉着道创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45:22; 43: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救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4: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撒上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2: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使死人复活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新宋体"/>
                          <a:ea typeface="Times New Roman"/>
                        </a:rPr>
                        <a:t>约翰福音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Times New Roman"/>
                        </a:rPr>
                        <a:t>5: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申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10: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万王之王，万主之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新宋体"/>
                          <a:ea typeface="Times New Roman"/>
                        </a:rPr>
                        <a:t>启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Times New Roman"/>
                        </a:rPr>
                        <a:t>17:14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新宋体"/>
                          <a:ea typeface="Times New Roman"/>
                        </a:rPr>
                        <a:t>提前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Times New Roman"/>
                        </a:rPr>
                        <a:t>6: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7: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与人同在的上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太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1: 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约耳书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3: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审判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5: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60:19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光，世界的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8: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新宋体"/>
                          <a:ea typeface="Times New Roman"/>
                        </a:rPr>
                        <a:t>出埃及记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新宋体"/>
                          <a:ea typeface="Times New Roman"/>
                        </a:rPr>
                        <a:t>3: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我是自有永有的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我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ego e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8: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18: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诗篇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23: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牧者，好牧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10: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02D0-CB28-4A61-961F-6D300D4A76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79520" y="0"/>
          <a:ext cx="11102760" cy="6945480"/>
        </p:xfrm>
        <a:graphic>
          <a:graphicData uri="http://schemas.openxmlformats.org/drawingml/2006/table">
            <a:tbl>
              <a:tblPr/>
              <a:tblGrid>
                <a:gridCol w="3620880"/>
                <a:gridCol w="3948120"/>
                <a:gridCol w="35337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42:8, 48: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新宋体"/>
                          <a:ea typeface="Times New Roman"/>
                        </a:rPr>
                        <a:t>上帝的荣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约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17: 1;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41:4; 4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是首先的，末后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启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1:17; 2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新宋体"/>
                          <a:ea typeface="Times New Roman"/>
                        </a:rPr>
                        <a:t>何西亚先知书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新宋体"/>
                          <a:ea typeface="Times New Roman"/>
                        </a:rPr>
                        <a:t>13: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救赎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启示录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5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62:5, </a:t>
                      </a: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何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2: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新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启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21:2;</a:t>
                      </a: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太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2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诗篇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18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磐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林前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10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耶利米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31: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赦罪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马可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2:7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诗篇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148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新宋体"/>
                          <a:ea typeface="新細明體"/>
                        </a:rPr>
                        <a:t>被天使敬拜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新宋体"/>
                          <a:ea typeface="Times New Roman"/>
                        </a:rPr>
                        <a:t>希伯来书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新宋体"/>
                          <a:ea typeface="Times New Roman"/>
                        </a:rPr>
                        <a:t>1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新宋体"/>
                          <a:ea typeface="Times New Roman"/>
                        </a:rPr>
                        <a:t>旧约论耶和华上帝的经文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新宋体"/>
                          <a:ea typeface="Times New Roman"/>
                        </a:rPr>
                        <a:t>共同的称谓与上帝的工作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新宋体"/>
                          <a:ea typeface="Times New Roman"/>
                        </a:rPr>
                        <a:t>新约同样论及耶稣的经文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新宋体"/>
                          <a:ea typeface="Times New Roman"/>
                        </a:rPr>
                        <a:t>旧约从头直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新宋体"/>
                          <a:ea typeface="Times New Roman"/>
                        </a:rPr>
                        <a:t>被祈求的对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徒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7: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诗篇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新宋体"/>
                          <a:ea typeface="新細明體"/>
                        </a:rPr>
                        <a:t>148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新宋体"/>
                          <a:ea typeface="Times New Roman"/>
                        </a:rPr>
                        <a:t>创造天使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歌罗西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新宋体"/>
                          <a:ea typeface="新細明體"/>
                        </a:rPr>
                        <a:t>1: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E02C-C461-42E8-8BD9-4CE6F95A0E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4800" y="0"/>
          <a:ext cx="11306160" cy="6980400"/>
        </p:xfrm>
        <a:graphic>
          <a:graphicData uri="http://schemas.openxmlformats.org/drawingml/2006/table">
            <a:tbl>
              <a:tblPr/>
              <a:tblGrid>
                <a:gridCol w="3775320"/>
                <a:gridCol w="4290840"/>
                <a:gridCol w="324000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约书亚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5:14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赛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55: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耶和华的元帅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,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君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弗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 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9: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能的上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路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: 21; 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0: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5: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万膝跪拜，万口承认的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罗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4:7-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亚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4: 9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但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: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地的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1: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申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6:4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亚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4: 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独一的主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犹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创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9:10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结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1: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赐平安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4: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以赛亚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5:23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被称为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腓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: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DD6-D81F-4E0D-AF0D-F314B4D62E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0" y="0"/>
            <a:ext cx="12192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  <a:ea typeface="宋体"/>
              </a:rPr>
              <a:t>5.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耶稣随自己的意思行神迹，显示他是上帝的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大麻疯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8:2-4;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:40-45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12-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瘸腿者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9:2-9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2:3-12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18-2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热病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8:14-17;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:29-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大臣重病的孩子：约翰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4:46-5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瘫痪了三十八年的人：约翰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1-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枯乾的手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2:9-13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3:1-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聋子与哑巴：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7:31-3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瞎子：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8:22-25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约翰九章；而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0:11-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十个大麻疯：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7:11-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一根断了的耳朵：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22: 47-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患非漏病的女人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9:20-23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25-3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忠水鼓病的人：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4:2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4F17-0291-4EED-ABCA-67F41E341D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0"/>
            <a:ext cx="121921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必有童女怀孕生子，人要给他取名为以马内利（意思是上帝与我们同在）赛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」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弥迦先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伯利恒以法他阿，你在犹大诸城中为小。将来必有一位从你哪里出来，在以色列中为我作当权的。他的根源从恒古，从太初就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基督教信仰绝对是：信一位，独一真神的信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则是如此的教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:18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：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除了上帝一位之外，再没有良善的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2:29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：「以色列阿，你要听，主我们的上帝是独一的主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6977-AE7E-4939-8445-E45D31045C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0"/>
            <a:ext cx="121921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具有掌管自然界的</a:t>
            </a:r>
            <a:r>
              <a:rPr b="1" lang="zh-TW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权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转化物质结构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迦拿将清水变成美酒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支配自然界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平息狂风巨浪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3-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支配动物界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知道哪里有鱼；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差鱼送来税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掌管物质界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5-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使食物立刻培增，五饼二鱼喂饱五千，四个饼几条小鱼喂饱四千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32-3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45-52) .         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支配植物界的权力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8-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使无花果树立刻枯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超越及掌管死亡的权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叫管会堂女儿复活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41-56)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叫寡妇的儿子复活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1-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叫死了四天的拉撒路复活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-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E733-049C-4C68-A243-58D38B9D2D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宋体"/>
                <a:ea typeface="宋体"/>
              </a:rPr>
              <a:t>7 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  <a:ea typeface="宋体"/>
              </a:rPr>
              <a:t>耶稣的本体等同于上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  <a:ea typeface="宋体"/>
              </a:rPr>
              <a:t>7.1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耶稣等同上帝本体的真相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宋体"/>
                <a:ea typeface="宋体"/>
              </a:rPr>
              <a:t>来</a:t>
            </a:r>
            <a:r>
              <a:rPr b="1" lang="en-US" sz="3000" spc="-1" strike="noStrike">
                <a:solidFill>
                  <a:srgbClr val="006600"/>
                </a:solidFill>
                <a:latin typeface="宋体"/>
                <a:ea typeface="宋体"/>
              </a:rPr>
              <a:t>1:3</a:t>
            </a:r>
            <a:r>
              <a:rPr b="1" lang="zh-CN" sz="3000" spc="-1" strike="noStrike">
                <a:solidFill>
                  <a:srgbClr val="006600"/>
                </a:solidFill>
                <a:latin typeface="宋体"/>
                <a:ea typeface="宋体"/>
              </a:rPr>
              <a:t>「他（耶稣）是上帝荣耀所发的光辉，是上帝本体的真像，常用他权力和职能的命令托着万有。他洗净了人的罪，就坐在高天至大者的右边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宋体"/>
                <a:ea typeface="宋体"/>
              </a:rPr>
              <a:t>约一书</a:t>
            </a:r>
            <a:r>
              <a:rPr b="1" lang="en-US" sz="3000" spc="-1" strike="noStrike">
                <a:solidFill>
                  <a:srgbClr val="006600"/>
                </a:solidFill>
                <a:latin typeface="宋体"/>
                <a:ea typeface="宋体"/>
              </a:rPr>
              <a:t>5:20</a:t>
            </a:r>
            <a:r>
              <a:rPr b="1" lang="zh-CN" sz="3000" spc="-1" strike="noStrike">
                <a:solidFill>
                  <a:srgbClr val="006600"/>
                </a:solidFill>
                <a:latin typeface="宋体"/>
                <a:ea typeface="宋体"/>
              </a:rPr>
              <a:t>「我们也知道，上帝的儿子已经来到，且将智慧赐给我们，使我们认识那位真实的，我们也在那位真实的里面，就是在他儿子耶稣基督里面，这是真神，也是永生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  <a:ea typeface="宋体"/>
              </a:rPr>
              <a:t>7.2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耶稣等同上帝的荣耀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宋体"/>
                <a:ea typeface="宋体"/>
              </a:rPr>
              <a:t>林后</a:t>
            </a:r>
            <a:r>
              <a:rPr b="1" lang="en-US" sz="3000" spc="-1" strike="noStrike">
                <a:solidFill>
                  <a:srgbClr val="008000"/>
                </a:solidFill>
                <a:latin typeface="宋体"/>
                <a:ea typeface="宋体"/>
              </a:rPr>
              <a:t>4:6</a:t>
            </a:r>
            <a:r>
              <a:rPr b="1" lang="zh-CN" sz="3000" spc="-1" strike="noStrike">
                <a:solidFill>
                  <a:srgbClr val="008000"/>
                </a:solidFill>
                <a:latin typeface="宋体"/>
                <a:ea typeface="宋体"/>
              </a:rPr>
              <a:t>那吩咐光从黑暗里照出来的上帝，已经照在我们心里，叫我们得知上帝荣耀显在耶稣基督身上林前</a:t>
            </a:r>
            <a:r>
              <a:rPr b="1" lang="en-US" sz="3000" spc="-1" strike="noStrike">
                <a:solidFill>
                  <a:srgbClr val="008000"/>
                </a:solidFill>
                <a:latin typeface="宋体"/>
                <a:ea typeface="宋体"/>
              </a:rPr>
              <a:t>2:8</a:t>
            </a:r>
            <a:r>
              <a:rPr b="1" lang="zh-CN" sz="3000" spc="-1" strike="noStrike">
                <a:solidFill>
                  <a:srgbClr val="008000"/>
                </a:solidFill>
                <a:latin typeface="宋体"/>
                <a:ea typeface="宋体"/>
              </a:rPr>
              <a:t>这世上有智慧，有权有位的人，没有一个知道的，他们若知道，就不会把荣耀的主钉十字架上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C792-CB55-47E2-B630-885F48EA6A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  <a:ea typeface="宋体"/>
              </a:rPr>
              <a:t>7.3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耶稣等同上帝的形象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林后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4: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此等不信之人被这世界的神弄瞎心眼，不叫基督荣耀福音的光照着他们。基督本为上帝的像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西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5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爱子是那不能看见之上帝的像，是首生的，在一切被造的先」。耶稣等同上帝的显明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从来没有人看见上帝，只有在父怀里的独生子将他表明出来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太初有道，道与上帝同在，道就是上帝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道成了肉身，住在我们中间一充充满满的有恩典，有真理。我们也见过他的荣光，正是父独生子的荣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7.4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耶稣等同上帝的本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林前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2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在那蒙召的人，无论是犹太人，希腊人，基督总为上帝的智慧」。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3-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万物是藉着他造的，凡被造的没有一样不是藉着他造的。生命在他里头，这生命就是人的光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 UI"/>
                <a:ea typeface="Microsoft JhengHei U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9F81-C601-4CA0-8BC4-189147A1B5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520" y="0"/>
            <a:ext cx="119523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赛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9:6   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因有一婴孩为我们而生，有一子赐给我们。政权必担在他的肩上。他名称为奇妙策士，全能的上帝，永在的父，和平的君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 UI"/>
                <a:ea typeface="Microsoft JhengHei UI"/>
              </a:rPr>
              <a:t>8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 UI"/>
                <a:ea typeface="Microsoft JhengHei UI"/>
              </a:rPr>
              <a:t>耶稣的名超越一切的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8.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世人靠着得救的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徒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4:1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除他以外别无拯救；因为在天上人间，没有赐下别的名使我们可以靠着得救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8.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腓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2:9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上帝将他升为至高，又赐给他超乎万名之上的名，叫一切在天上的，地上的和地底下的，因耶稣的名无不屈膝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 UI"/>
                <a:ea typeface="Microsoft JhengHei U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8.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奉耶稣的名给病人膏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雅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5:1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你们中间有病了的呢，他就该请教会的长老来；他们可以奉主（耶稣）的名用油抹他，为他祷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46D2-D901-4695-A6E0-972938018B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0"/>
            <a:ext cx="119998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4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受洗归入耶稣的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:3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彼得说：你们各人要悔改，奉耶稣基督的名受洗，叫你们的罪得赦，就必领受所赐的圣灵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9:5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他们听见这话，就奉主耶稣的名受洗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5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藉耶稣基督的名罪得赦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4:46  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照经上所写，基督必受害，第三日从死里复活。并且人要奉他的名传悔改，赦罪的道，从耶路撒冷直传到万邦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:1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我写信给你们，因为你们的罪藉着主的名得了赦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6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得称为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:11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但如今你们奉主耶稣基督的名，并藉着我们上帝的灵，已经洗净，成圣，称义了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713E-0D41-4EDA-BCFD-7D79B06611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0"/>
            <a:ext cx="12072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7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集会敬拜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耶稣说：无论在哪里，有两三个人奉我的名聚会，就有我在他们当中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8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信靠耶稣之名的人能得永生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3:1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信他的人，不被定罪，不信的罪已经定了，因为他不信上帝独生子之名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3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凡不认子的，就没有父；认子的连父也有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:13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我将这些话写给你们信奉上帝儿子之名的人，要叫你们知道自己有永生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32C7-6B47-4046-99F5-6A57D32ED8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9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求告耶稣之名的必得救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0:1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凡求各主名的就必得救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9:21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现在你为什么耽延呢？起来，求告他的名受洗，洗去你的罪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0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行神迹奇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4:10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你们众人和以色列百姓都当知道，站在你们面前的这人得痊愈，是因你们所钉十字架，上帝却叫他从死里复活的拿撒人耶稣基督的名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6:17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耶稣说：信的人必有神迹奇事随着他们，就是奉我的名赶鬼，说新方言。手能拿蛇。若喝了什么毒物也必不受害，手按病人，病人就好了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B841-B94D-4AA1-9C83-673BE9045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0"/>
            <a:ext cx="12192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可赶鬼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0:17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那七十个人欢欢喜喜的回来说：主阿，因你的名，就是鬼也服了我们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6:18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她一连多日这样喊叫，保罗就心中厌烦，转身对那鬼说；我奉耶稣基督的名，吩咐你从她身上出来，那鬼当时就出来了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向上帝祷告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4:1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你们奉我的名无论求什么，我必成就，叫父因儿子得荣耀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6:2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你们若向父求什么，他必因我的名赐给你们。向来你们没有奉我的名求什么，如今你们求，就必得着；叫你们的喜乐可以满足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要为耶稣的名受苦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彼前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4;14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你们若为基督的名受辱骂，便是有福的；因为上帝荣耀的灵常住在你们身上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C677-FB33-430E-BCEA-2BAE8CE50D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0"/>
            <a:ext cx="119998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确认耶稣的身份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究竟是上帝的儿子，是骗子或是疯子？一度曾是不信耶稣是救主的前剑桥大学哲学教授，路易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 S LEWI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说：「自我确信耶稣基督是救世主以后，我总是阻止人们这样无知的论到耶稣说：「我相信耶稣是个伟大的道德家，但我不能接受耶稣自称是上帝儿子，及与上帝原为一的主宰之说法」。我总是告诉他们，这样的说法是不正确的。因为，一个纯粹是人的人，没有能说出像耶稣那样说话及教训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绝对不止是一个伟大的道德家而已。从耶稣所说，所做的，你只能说他就是上帝的儿子，是创造的主成了肉身，成为救主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从耶稣的教训，言论，行为中看见，他确实在私下或在公开的场合，宣称，他是上帝的儿子，他是自有永有的，他与上帝原为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668B-99C0-4722-BC8F-5519F99E7D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宣告他就是创造的主成了肉身。这宣称只有三个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icrosoft JhengHe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的宣称是假的，他是个骗子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是骗子的说法根本不能成立。若是骗子必然显出其虚伪的，自私的，堕落的，败坏的本性。根据人类的逻辑，常理，知识和纸包不住火，等原则来判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若是骗子，他又怎样自始至终，保持诚实良善，高贵的风度，有实际果效的行动，却丝毫不露出任何作假的破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骗子如何能瞒骗天下，又无私的广施善行，处处表现出无上的美德，伟大的品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5258-3B84-4308-8EA9-C1F996302F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3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：「认识你独一的的真神，并且认识你所差来的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这就是永生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此，基督徒从尔撒的教导中，可以作证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上帝以外，别无真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a-ilaha-illa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4A45-FA72-4290-ADC6-8C2BE16C94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0"/>
            <a:ext cx="121921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明知道作完这一切美善的结果，当他崇高的身份要被显露出来，他要被误会为亵渎神，而要牺牲生命，且死在痛苦的十字架上，一个骗子为何要坚持演完这场死亡游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，如果有人能效法耶稣当年所作的，全然为叫百姓得益处，那他在我们当中，也绝不会被人当作是个骗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若有这样的善人，不会被认为是骗子，那我们岂可以把当年的耶稣，归入是骗子的结论呢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7E60-0A60-4C17-B44E-975C90A389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-96840" y="0"/>
            <a:ext cx="1216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，他是个疯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耶稣不是骗子，那他有没有可能因为思想过度，热心过度陷入魔障自以为是上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成为疯子一个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控耶稣是个精神病，妄想者，是绝对不合理的。在耶稣一生当中有人能找出或看见，耶稣有这类病的痕迹吗？耶稣凭着权柄说话和教训人，从他所说的教训中，能察觉出有精神病的痕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能以非常简明的生活故事，比喻解说出崇高的真理；还能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身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显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更新的权柄。耶稣不单能说，也能行；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从中找到狂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痕迹吗？耶稣能测透人心所想，能预知人的未来；从他处处为了叫人得到益处，而找出这是出于精神病狂的痕迹吗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ABA1-A802-4EFD-A108-2B8450839F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，他诚然就是道成肉身的上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以上所列举的种种证据，明显的看出，耶稣既不是宗教骗子，也不是宗教的疯子；那么他就是上帝独生的爱子，是上帝的道成了肉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必须接受的事实。有些人以为这个结论，会牵涉到人类的自尊，道德，知识，而否定这些证据。但我们不能否定真理，而必须作个决定；耶稣他究竟是骗子，是疯子，还是他诚然就是爱我们的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201C-7C44-458A-A631-4B2D5626EE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人对「耶稣基督究竟是谁」这问题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下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结论，非常重要。这不能只是学术上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探讨。耶稣究竟是骗子，疯子，或者他是你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；你必须选择一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如使徒约翰所说：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但记这些事，是要叫你们信耶稣是基督（救主），是上帝的儿子，并叫你们信了他，就可以因他的名得生命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0:3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親愛的穆斯林弟兄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中的第二个帕子：称耶稣基督为上帝的儿子，为主宰，是以物配主。奉主的名，现在可以拿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FB10-3E72-4253-AC01-F2E42C089A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0"/>
            <a:ext cx="12192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没直接自称为上帝，为何基督徒却称他为上帝的儿子，为主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呢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人以为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跟随者，为了记念他们的老师，所以把他尊为主，尊为上帝的儿子。这绝对是错误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好相反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门徒在传道时，提到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儿子，是主；这只有加重他们的重担，逼迫，困难，加重犹太人对他们的拒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跟随者，却要如此称呼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上帝怀里的独身子呢？这是因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7CF5-A7A8-43F4-8655-354F6AE468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0"/>
            <a:ext cx="12288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为了宣传自己的神的儿子，而受了死刑的定罪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61-6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大祭司又问耶稣说：你是那当称颂者的儿子基督不是？耶稣说：我是。你们必看见人子，坐在那权力和职能者的右边，驾着天上的云降临。大祭司就撕开衣服说：我们何必再用见证人呢？你们已经听见他这僭妄的话了，你们的意见如何？他们都同声定他该死的罪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犹太人的议会被控时，控状就是：他曾否「亵渎了上帝的名」。这次的审讯非常特殊，他们要查询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身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回避这个问题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回答清楚承认，他有他们所提的三种身份：「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受膏者（弥赛亚），人子，神的儿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6697-6B54-4D7B-8A05-DD7CFB93BF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的回答，说明了三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上帝的儿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坐在全能者右边的基督（弥赛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将驾云从天，第二次再临的人子，大能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审判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大祭司，明白他回答的意思。因此，他们总括一句：「这样，你就是上帝的儿子么」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实实在在的回答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说的是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些犹太教长老的眼中，不需要其他的见证人了。他们亲耳听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口供，也根据这口供来判他死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CCF8-5E87-444E-9796-38C9EED4E6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0"/>
            <a:ext cx="12144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人类的救主）； 上帝的儿子（与父原为一）；是末世将从天降临的耶和华（撒迦利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言论不是他的门徒，不是世人，不是犹太人，不是他的敌人，给他定下的称呼。这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自己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親口向大祭司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的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大祭司的逼问下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知道承认自己为「上帝的儿子」，结果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死罪，但他还是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的犹太宗教领袖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犯了僭妄的罪：「他自己以为是上帝的儿子」，而把他钉死在十字架上（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01DB-E0F7-4DB8-9FE4-6FAC6DD382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从天上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说，当耶稣出来传道前，先去接受施洗约翰的受洗时，约翰就看见：「圣灵降临在他身上，形状彷佛如同鸽子。又有声音从天上来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你是我的爱子，我喜悦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这是第一次天上的神，亲口发出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从天上来有声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耶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「你是我的爱子」的见证是在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当时耶稣和门徒上山祷告时，有云彩围绕他们，突然看见摩西和以利亚出现和耶稣谈论，他将要上十字架的事。事后摩西和以利亚离开。突然天上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发出声音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是我的爱子，你们要听他说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3:56:40Z</dcterms:created>
  <dc:creator>Pastor Chan</dc:creator>
  <dc:description/>
  <dc:language>en-US</dc:language>
  <cp:lastModifiedBy>chan HK</cp:lastModifiedBy>
  <dcterms:modified xsi:type="dcterms:W3CDTF">2024-10-24T07:19:41Z</dcterms:modified>
  <cp:revision>39</cp:revision>
  <dc:subject/>
  <dc:title>Slide 1</dc:title>
</cp:coreProperties>
</file>