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AF24-DACD-4C0E-A8DF-7EA7001A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94C-6571-4951-B2B0-9970075F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A93-98A5-46C2-B361-E33D5451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7E2-6290-433A-9A9A-A2EB2E0C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02C-A3CE-4B1D-AB96-78FC2932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E4D-9DFD-493B-BBB0-21887E54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4AC-4425-44F1-8D20-E2708DC8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0FD-A7DA-4050-8B98-A7347395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7A2-6EB7-46CF-A62C-5F8E4BE5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0B3-2770-4D52-B25D-7B5958D9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DF1-0F25-491A-AE9C-5BACA01C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18C-F14C-44CA-8944-A1EF0E94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7681-A1DB-40CE-9E3A-869143F40E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基督教与伊斯兰教的核心差异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伊斯兰信有上帝，却不能有阿爸父上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伊斯兰信仰，宗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功修与生活，建立在它的一神主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uhi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础上。它宣称阿拉是独一的创造者，生命之主。这信念源自犹太与基督教。回教信安拉为尊为大，为主为王，却不敢称他为父。安拉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美名，唯独缺少了「阿爸天父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耶稣基督要信徒称上帝作「天父上帝」，对伊斯兰教这是个禁忌。以为是以物配主，或是高举人与神同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Arial"/>
              </a:rPr>
              <a:t>我们可以从这证明，这不是禁忌，而是救恩关系重建以後的和好。显示出基督信仰的超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63E8-CE2A-480B-9A6C-66A3B84458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)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伊斯兰讲道德，却缺乏舍已的爱，尤其对异教徒更是如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斯兰十分重视道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khlak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照伊斯兰的教导，如果能宽恕仇敌和罪犯，那是一件很美的事。但伊斯兰却有困难来爱他们的仇敌；因为有罪的必须接受处罚。以眼还眼，以牙还牙，这是天公地道的事。古兰经教导人对不信的异教徒探取「恐怖」主义，使仇敌惧怕。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强制他们来信伊斯兰，否则采取行动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末日要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杀死所有的异教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此，伊斯兰的教导并不能让人明白，上帝是公义圣洁，同时又是慈爱怜悯的上帝。上帝降世为人类舍身赎罪，这样的启示，对他们是件被蒙蔽和困难理解的事。因此穆斯林不能明白人如何能完成，和进入神的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3DEA-D099-4346-A4D3-716A0384FF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1)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伊斯兰遵行许多敬虔的行为与律法，却没法经历上帝如同父亲般的生命与性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穆斯林所表现的宗教敬虔，常是明显的，有时甚至震憾人心。看见他们千百人集体敬拜，许多宗教人士自叹不如。可惜的是，其教义却否定人类可以与上帝联合，不能明白人如何能借着从圣灵重生而成为属上帝的儿女。他们否认圣灵能住在人心中与人团契相交，否认人可以藉上帝的救恩，重生得着上帝的性情。对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彼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後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受後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3-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教导；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叫我们既脱离世上从情欲而来的败坏，就得以与上帝的性情有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」穆斯林被欺骗，把这最大的恩典认为是僭妄越轨的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4989-F3B6-4049-BFBC-E791E10E28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0" y="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2)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伊斯兰把宗教生活系统化，天天操行信仰的律法，却缺乏得救的把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斯兰教徒，虽然天天强调信仰的操行；然而绝大部份的伊斯兰教徒，对自己是否能得救缺乏把握。按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:18; 28:67, 66: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记载，那些天天遵守教规的敬虔人士，「或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a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」可期待来世的福份。因此，一般的穆斯林最多只能说：阿拉若愿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ha Alla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或者可以得救。唯一例外的是：圣战殉教者，他们可以立刻进入乐园享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觀新約所教導的：信子的人有永生，不信的罪已經定了，因為他不信上帝獨生兒子之名。信而受洗的必然得救。凡呼求主名的，必然得救。若有人在基督裡，他就是新造的人，舊事已過，都變成新的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E295-3216-4298-9F2A-D17A4C9BC4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3)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伊斯兰自认比前面的启示更前进，事实是开倒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斯兰自认为比犹太教，基督教更前进，完美，但事实上是开倒车：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神人关系层面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神创造人，原本就是要人类成为承受基业的众子。旧约时有用到神要成为「父亲或丈夫」，以此说明关系的亲切。有时取「人的形状」向人类显现。新约时，神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与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亲密关系更加突显；耶稣基督要人称神作父；神以道成肉身的方式（以马内利）与人同在。五旬节圣灵降临，住进信徒的里面，信徒基本上可以成为「神的殿」。这样一个完备与先进的真理，被伊斯兰教砍断，取而代之的是一些外表的礼拜规范，失去了天人合一的敬虔的实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147E-AD56-475D-B3E7-05AE36ED12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0" y="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长城细圆体"/>
                <a:ea typeface="经典楷体简"/>
              </a:rPr>
              <a:t>☆</a:t>
            </a:r>
            <a:r>
              <a:rPr b="1" lang="zh-CN" sz="2800" spc="-1" strike="noStrike">
                <a:solidFill>
                  <a:srgbClr val="ff3300"/>
                </a:solidFill>
                <a:latin typeface="长城细圆体"/>
                <a:ea typeface="经典楷体简"/>
              </a:rPr>
              <a:t>倫理層面：</a:t>
            </a:r>
            <a:r>
              <a:rPr b="1" lang="zh-TW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旧约</a:t>
            </a:r>
            <a:r>
              <a:rPr b="1" lang="zh-CN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時代上帝容忍多妻；新約時主耶穌將一夫一妻的制度拉</a:t>
            </a:r>
            <a:r>
              <a:rPr b="1" lang="zh-TW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紧</a:t>
            </a:r>
            <a:r>
              <a:rPr b="1" lang="en-US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若不是為</a:t>
            </a:r>
            <a:r>
              <a:rPr b="1" lang="zh-TW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淫乱</a:t>
            </a:r>
            <a:r>
              <a:rPr b="1" lang="zh-CN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的</a:t>
            </a:r>
            <a:r>
              <a:rPr b="1" lang="zh-TW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緣故</a:t>
            </a:r>
            <a:r>
              <a:rPr b="1" lang="zh-CN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不能</a:t>
            </a:r>
            <a:r>
              <a:rPr b="1" lang="zh-TW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离</a:t>
            </a:r>
            <a:r>
              <a:rPr b="1" lang="zh-CN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婚。婚姻是一夫一妻制（多妻者不能當領袖，任何信了主的不能多妻）。六百年後，古</a:t>
            </a:r>
            <a:r>
              <a:rPr b="1" lang="zh-TW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兰经</a:t>
            </a:r>
            <a:r>
              <a:rPr b="1" lang="zh-CN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卻宣稱可以休妻另</a:t>
            </a:r>
            <a:r>
              <a:rPr b="1" lang="zh-TW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娶</a:t>
            </a:r>
            <a:r>
              <a:rPr b="1" lang="zh-CN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；回教徒可以娶四個妻子，虜掠回來的妾還可以不算。宣称女人智力不如男人，不听话的妻子可以打</a:t>
            </a:r>
            <a:r>
              <a:rPr b="1" lang="en-US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长城细圆体"/>
                <a:ea typeface="经典楷体简"/>
              </a:rPr>
              <a:t>☆</a:t>
            </a:r>
            <a:r>
              <a:rPr b="1" lang="zh-CN" sz="2800" spc="-1" strike="noStrike">
                <a:solidFill>
                  <a:srgbClr val="ff3300"/>
                </a:solidFill>
                <a:latin typeface="长城细圆体"/>
                <a:ea typeface="经典楷体简"/>
              </a:rPr>
              <a:t>人際的關係：</a:t>
            </a:r>
            <a:r>
              <a:rPr b="1" lang="zh-CN" sz="2800" spc="-1" strike="noStrike">
                <a:solidFill>
                  <a:srgbClr val="000000"/>
                </a:solidFill>
                <a:latin typeface="长城细圆体"/>
                <a:ea typeface="经典楷体简"/>
              </a:rPr>
              <a:t>回教把人类分成「信徒与非信徒」。非信徒是阿拉所厌恶的，在回教掌权的国家中他们是二等公民；对反对回教扩展的人士，可以进行宗教逼迫或施行恐布主义。旧约虽曾有圣战，新约的基督却教导人要爱仇敌，为逼迫的人祷告。回教却宣称为上帝进行战争（圣战）者更能为自己蠃得天堂。旧约时代，人偷牛羊必须加倍赔偿，新约也要求认罪及偿还。回教却教导要砍手脚。从这一些比较来自，就知道回教宣称，以更好的取代先前的言语，只是自言其说，大开倒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48AC-7738-4306-AC79-41FD55C5A6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0"/>
            <a:ext cx="9144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长城细圆体"/>
              </a:rPr>
              <a:t>14)</a:t>
            </a:r>
            <a:r>
              <a:rPr b="1" lang="zh-CN" sz="2800" spc="-1" strike="noStrike">
                <a:solidFill>
                  <a:srgbClr val="0000ff"/>
                </a:solidFill>
                <a:latin typeface="长城细圆体"/>
              </a:rPr>
              <a:t>回教奋力想建立人间天国，却看不清耶稣基督已设立好承受天国的本质与特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长城细圆体"/>
              </a:rPr>
              <a:t>回教想藉着回教法与政治，要求人类绝对顺服，以为这样就能建立人间天国。却不明白上帝在旧约中只以律法来告知人有罪，罪的工价就是死。因此</a:t>
            </a:r>
            <a:r>
              <a:rPr b="1" lang="en-US" sz="2800" spc="-1" strike="noStrike">
                <a:solidFill>
                  <a:srgbClr val="000000"/>
                </a:solidFill>
                <a:latin typeface="长城细圆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长城细圆体"/>
              </a:rPr>
              <a:t>耶稣基督的教导是，人必须相信神藉着耶稣基督的赎罪，经历重生，圣灵内住。藉着顺服圣灵的引导，经历圣灵赐生命的律，成为新造的人，使律法的义刻在心板上。凭上帝爱的浇灌行事，比律法更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长城细圆体"/>
              </a:rPr>
              <a:t>神藉着圣灵的统治在人心，将来身体得赎，神才更新一切建立神国。回教以为靠着回教的律法（</a:t>
            </a:r>
            <a:r>
              <a:rPr b="1" lang="en-US" sz="2800" spc="-1" strike="noStrike">
                <a:solidFill>
                  <a:srgbClr val="000000"/>
                </a:solidFill>
                <a:latin typeface="长城细圆体"/>
              </a:rPr>
              <a:t>sharia)</a:t>
            </a:r>
            <a:r>
              <a:rPr b="1" lang="zh-CN" sz="2800" spc="-1" strike="noStrike">
                <a:solidFill>
                  <a:srgbClr val="000000"/>
                </a:solidFill>
                <a:latin typeface="长城细圆体"/>
              </a:rPr>
              <a:t>人可以减少犯罪或受到警戒而不会犯罪。这是对罪的权势与律法的功用不了解。律法为显出人有罪，律法反成了罪的权势。而且律法是引起忿怒的，律法只定人的罪，不给人恩典，不释放，不赦兔，不拯救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0EAE-FEB1-480F-9F35-8265869FCE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0" y="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5)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回教谓它所传的是喜讯，却否定了新约福音的喜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25; 5:19; 16:89; 48: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宣称所传的是喜讯（好消息），穆罕默德是报喜讯者。虽然套用了「喜讯」却不明白新旧约对这词的定义：旧新约圣经给这词所下的定义是：这是宣告神悦纳人的禧年。禧年是释放年，医治年，更新年，自由年，特赦年，被掳得释放，瞎眼得看见，受压制的得自由（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17-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:8-2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约将字义的带入灵义，藉着福音（喜讯）的救赎，神不再追讨悔改者的罪；神使人类有能力脱离罪与掌死权的撒旦。反观穆罕默德所传的是另类的喜讯（福音）。而所谓的「喜讯」的定义，几乎变成一个「受差来的仆人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B70A-5E51-47DB-971B-3BCA9ED0B2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0"/>
            <a:ext cx="9144000" cy="17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6)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伊斯兰教比犹太教更接近基督信仰，可惜却遗弃了耶稣基督的信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伊斯兰从犹太教，基督教得知一神论的信仰，同尊亚伯拉罕为信心之祖。在传统上宣称为同一个正统。伊斯兰比犹太教更进一步，承认耶稣基督为大先知之一，相信他由童女所生，行过许多没有人能行的神迹（比许多新派更靠近圣经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可惜穆罕默德不接受圣经的见证，拒绝相信耶稣基督具有全备的神人二性，否定创造者成为人，否定荣耀身体的复活，否定十字架救赎的福音。否定了耶稣基督是唯一的「道路，真理，生命」的中保地位。因此，否定了耶稣基督最主要的工作成果，脱离了基督教最主要的核心信仰。更糟的是：穆罕默德在古兰经中种下四重的帕子</a:t>
            </a:r>
            <a:r>
              <a:rPr b="1" lang="zh-CN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一）耶稣没有死在十字架上，也没有复活；（二）称耶稣是神是犯了以物配主的大罪；（三）古兰经与圣经所传的不同，是因为基督徙修改了神的经典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(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四）神不生养也不收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24E6-36EE-4862-A675-948A1B45D1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0" y="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7)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伊斯兰相信神的怜恤与恩典，却不能像基督教那样经历神的恩典与怜恤的偿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斯兰教因为看不见，神如何在律法以外，为人类开出一条得救的出路。他们以为人只能靠律法行义，靠礼拜集功德，靠行善得救。然而立志行善由得我，行出来却不由得我。所愿意的善行不出来，所不愿意的恶倒行出来。故，伊斯兰所期望神的恩典与怜恤，乃是一种神阿赦免我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督教所经历神的恩典与怜恤超越这些。因为，神最大的恩典与怜恤，已经藉着耶稣基督的道成肉身，以十字架上义的代替不义的赦罪，以圣灵的内住的启示引导人走义路，以听祷告允应人所求告的事，以天使护卫信道的人。以爱人如己的命令，赦免软弱跌倒的弟兄。父怎样赦免了你们，你们也当赦免你的弟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DFB1-C362-4410-8F99-460D4B8777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0"/>
            <a:ext cx="9144000" cy="267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长城细圆体"/>
              </a:rPr>
              <a:t>18) </a:t>
            </a:r>
            <a:r>
              <a:rPr b="1" lang="zh-CN" sz="2800" spc="-1" strike="noStrike">
                <a:solidFill>
                  <a:srgbClr val="0000ff"/>
                </a:solidFill>
                <a:latin typeface="长城细圆体"/>
              </a:rPr>
              <a:t>古兰经提醒人小心帕子，自己却包含了五大帕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长城细圆体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长城细圆体"/>
              </a:rPr>
              <a:t>2:7-9</a:t>
            </a:r>
            <a:r>
              <a:rPr b="1" lang="zh-TW" sz="2800" spc="-1" strike="noStrike">
                <a:solidFill>
                  <a:srgbClr val="000000"/>
                </a:solidFill>
                <a:latin typeface="长城细圆体"/>
              </a:rPr>
              <a:t>曾提醒世人，有些人的心地黑暗，耳朵發沉，灵眼被蒙闭；看不見真光，成为不能明白上帝作為的人。「真主已经封闭他們的心和耳，他們的眼上有翳膜，他們將受重大的刑罰。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长城细圆体"/>
              </a:rPr>
              <a:t>.</a:t>
            </a:r>
            <a:r>
              <a:rPr b="1" lang="zh-TW" sz="2800" spc="-1" strike="noStrike">
                <a:solidFill>
                  <a:srgbClr val="000000"/>
                </a:solidFill>
                <a:latin typeface="长城细圆体"/>
              </a:rPr>
              <a:t>他們想欺瞞真主和信士，其实他們只是自欺，卻不觉悟。他們心里有病，故真主加增他們的心病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长城细圆体"/>
              </a:rPr>
              <a:t>.</a:t>
            </a:r>
            <a:r>
              <a:rPr b="1" lang="zh-TW" sz="2800" spc="-1" strike="noStrike">
                <a:solidFill>
                  <a:srgbClr val="000000"/>
                </a:solidFill>
                <a:latin typeface="长城细圆体"/>
              </a:rPr>
              <a:t>（古</a:t>
            </a:r>
            <a:r>
              <a:rPr b="1" lang="en-US" sz="2800" spc="-1" strike="noStrike">
                <a:solidFill>
                  <a:srgbClr val="000000"/>
                </a:solidFill>
                <a:latin typeface="长城细圆体"/>
              </a:rPr>
              <a:t>2:7-9</a:t>
            </a:r>
            <a:r>
              <a:rPr b="1" lang="zh-TW" sz="2800" spc="-1" strike="noStrike">
                <a:solidFill>
                  <a:srgbClr val="000000"/>
                </a:solidFill>
                <a:latin typeface="长城细圆体"/>
              </a:rPr>
              <a:t>）」。新旧約圣经也有类似的警告。新約圣经，稱呼這类的「翳膜，蒙閉」作「帕子」。 </a:t>
            </a:r>
            <a:r>
              <a:rPr b="1" lang="zh-CN" sz="2800" spc="-1" strike="noStrike">
                <a:solidFill>
                  <a:srgbClr val="000000"/>
                </a:solidFill>
                <a:latin typeface="长城细圆体"/>
              </a:rPr>
              <a:t>古兰经对圣经的启示最少包含五大帕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00"/>
                </a:solidFill>
                <a:latin typeface="长城细圆体"/>
              </a:rPr>
              <a:t>帕子（一）犹太人曾將妥拉窜改过</a:t>
            </a:r>
            <a:r>
              <a:rPr b="1" lang="zh-CN" sz="2800" spc="-1" strike="noStrike">
                <a:solidFill>
                  <a:srgbClr val="ff3300"/>
                </a:solidFill>
                <a:latin typeface="长城细圆体"/>
              </a:rPr>
              <a:t>；</a:t>
            </a:r>
            <a:r>
              <a:rPr b="1" lang="zh-TW" sz="2800" spc="-1" strike="noStrike">
                <a:solidFill>
                  <a:srgbClr val="ff3300"/>
                </a:solidFill>
                <a:latin typeface="长城细圆体"/>
              </a:rPr>
              <a:t>帕子（二）稱耶穌為上帝之子為主宰，這是以物配主</a:t>
            </a:r>
            <a:r>
              <a:rPr b="1" lang="zh-CN" sz="2800" spc="-1" strike="noStrike">
                <a:solidFill>
                  <a:srgbClr val="ff3300"/>
                </a:solidFill>
                <a:latin typeface="长城细圆体"/>
              </a:rPr>
              <a:t>；</a:t>
            </a:r>
            <a:r>
              <a:rPr b="1" lang="zh-TW" sz="2800" spc="-1" strike="noStrike">
                <a:solidFill>
                  <a:srgbClr val="ff3300"/>
                </a:solidFill>
                <a:latin typeface="长城细圆体"/>
              </a:rPr>
              <a:t>帕子（三）真主上帝豈是三位一體</a:t>
            </a:r>
            <a:r>
              <a:rPr b="1" lang="zh-CN" sz="2800" spc="-1" strike="noStrike">
                <a:solidFill>
                  <a:srgbClr val="ff3300"/>
                </a:solidFill>
                <a:latin typeface="长城细圆体"/>
              </a:rPr>
              <a:t>；</a:t>
            </a:r>
            <a:r>
              <a:rPr b="1" lang="zh-TW" sz="2800" spc="-1" strike="noStrike">
                <a:solidFill>
                  <a:srgbClr val="ff3300"/>
                </a:solidFill>
                <a:latin typeface="长城细圆体"/>
              </a:rPr>
              <a:t>帕子（四）耶穌沒有被釘死在十字架上</a:t>
            </a:r>
            <a:r>
              <a:rPr b="1" lang="zh-CN" sz="2800" spc="-1" strike="noStrike">
                <a:solidFill>
                  <a:srgbClr val="ff3300"/>
                </a:solidFill>
                <a:latin typeface="长城细圆体"/>
              </a:rPr>
              <a:t>；</a:t>
            </a:r>
            <a:r>
              <a:rPr b="1" lang="zh-TW" sz="2800" spc="-1" strike="noStrike">
                <a:solidFill>
                  <a:srgbClr val="ff3300"/>
                </a:solidFill>
                <a:latin typeface="长城细圆体"/>
              </a:rPr>
              <a:t>帕子（五）圣经預告回教的來臨</a:t>
            </a:r>
            <a:r>
              <a:rPr b="1" lang="zh-CN" sz="2800" spc="-1" strike="noStrike">
                <a:solidFill>
                  <a:srgbClr val="ff3300"/>
                </a:solidFill>
                <a:latin typeface="长城细圆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长城细圆体"/>
              </a:rPr>
              <a:t>可惜今天每逢穆斯林读古兰经的时候，这些帕子蒙在他们的身上，看不见福音的真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1168-9CBF-4596-BC5A-537ED03124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194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穆斯林自称阿拉的仆人，却不敢承认为阿拉的儿女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伊斯兰传讲一种观念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阿拉与人类的关系是主仆的关系。受造的人与创造的神相差太远。所以伊斯兰要求人，要对神做出如仆人顺服主人那般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按耶稣基督的教导，创造的神绝对超越及难以相像。神非如人子，人类对上帝应该有仆人般的顺服。按耶稣基督天国比喻中的许多教导，我们可以得知，人类却是按神的形像造，是仆人也是管家，更是有得基业的後裔地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主耶稣</a:t>
            </a:r>
            <a:r>
              <a:rPr b="1" lang="zh-TW" sz="3000" spc="-1" strike="noStrike">
                <a:solidFill>
                  <a:srgbClr val="ff3300"/>
                </a:solidFill>
                <a:latin typeface="Arial"/>
              </a:rPr>
              <a:t>救赎中的超越，是使人类能因信他而「重生（约三章）」人类得以从灵而生，圣灵与我们灵印证我们是天父的儿女，而称他为阿爸天父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生命从上帝来，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从他而生，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称上帝作父，视自己为子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可以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是自然的说法。因为人类出於神，本於神，也必归於神才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0A7D-711D-4D0B-A037-70E6061D98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0" y="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长城细圆体"/>
              </a:rPr>
              <a:t>19. </a:t>
            </a:r>
            <a:r>
              <a:rPr b="1" lang="zh-CN" sz="3200" spc="-1" strike="noStrike">
                <a:solidFill>
                  <a:srgbClr val="0000ff"/>
                </a:solidFill>
                <a:latin typeface="长城细圆体"/>
              </a:rPr>
              <a:t>伊斯兰信仰，错把敌基督与假先知，当作来临的卡利发</a:t>
            </a:r>
            <a:r>
              <a:rPr b="1" lang="en-US" sz="3200" spc="-1" strike="noStrike">
                <a:solidFill>
                  <a:srgbClr val="0000ff"/>
                </a:solidFill>
                <a:latin typeface="长城细圆体"/>
              </a:rPr>
              <a:t>Marhdi</a:t>
            </a:r>
            <a:r>
              <a:rPr b="1" lang="zh-CN" sz="3200" spc="-1" strike="noStrike">
                <a:solidFill>
                  <a:srgbClr val="0000ff"/>
                </a:solidFill>
                <a:latin typeface="长城细圆体"/>
              </a:rPr>
              <a:t>与耶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长城细圆体"/>
              </a:rPr>
              <a:t>伊斯兰的末世论，令人惊讶地，错以敌基督为来临的伊斯兰末世救星</a:t>
            </a:r>
            <a:r>
              <a:rPr b="1" lang="en-US" sz="3200" spc="-1" strike="noStrike">
                <a:solidFill>
                  <a:srgbClr val="000000"/>
                </a:solidFill>
                <a:latin typeface="长城细圆体"/>
              </a:rPr>
              <a:t>Marhdi</a:t>
            </a:r>
            <a:r>
              <a:rPr b="1" lang="zh-CN" sz="3200" spc="-1" strike="noStrike">
                <a:solidFill>
                  <a:srgbClr val="000000"/>
                </a:solidFill>
                <a:latin typeface="长城细圆体"/>
              </a:rPr>
              <a:t>及假先知为耶稣基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长城细圆体"/>
              </a:rPr>
              <a:t>可悲的穆罕默德，被当年的犹太及基督徒，将他的宗教事工的结局，联接於末世的敌基督来述说。以致他错以为，圣经末世中假先知与敌基督的事件，这些都是他宗教末日成功的预言。在圣言录中，大言不愧的讲论，伊斯兰末世成功的情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长城细圆体"/>
              </a:rPr>
              <a:t>可悲末後的穆斯林，将受此误导，跟随假先知与敌基督，反对耶稣基督救赎，而成为世上最大的宗教受害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5486-5E93-4A33-9FE0-9FF5F821F9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0" y="0"/>
            <a:ext cx="9144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0 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伊斯兰只提到穆罕默德，不提其它旧约先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伊斯兰信仰虽然提到某些旧约的先知，使者；但从来就没有提出安拉透过他们教导了什么真理，有怎样的信息。这是因为古兰经中没有属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知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们明确的教导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他们是穆斯林的先知不过是要夺取圣经的宗教历史为自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伊斯兰只教导人要尊重与模仿穆罕默德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称他符合了摩西，耶稣的教导和见证。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没有叁考真主先前已启示过的真理，穆斯林又怎么知道穆罕默德是否符合，或者不符合先前先知与使徒的启示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026C-C54C-4F58-A7F4-224791DD67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DD3A-1C7E-4491-A92E-985686F81B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0" y="0"/>
            <a:ext cx="9144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伊斯兰信仰是敌基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敌基督的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圣经</a:t>
            </a:r>
            <a:r>
              <a:rPr b="1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敌基督的灵。这灵来</a:t>
            </a:r>
            <a:r>
              <a:rPr b="1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特意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否定耶稣</a:t>
            </a:r>
            <a:r>
              <a:rPr b="1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性、祂与父神的关系</a:t>
            </a:r>
            <a:r>
              <a:rPr b="1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约翰给敌基督下了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谁是说谎话的呢。不是那不认耶稣为基督的吗。不认父与子的，这就是敌基督的。凡不认子的就没有父。认子的连父也有了。（约一书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YLT=This one is the antichrist who is denying the Father and the Son;=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就是敌基督：那否认父与子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敌基督的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伊斯兰对福音的挑战　　　　　　　　　　　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BDB5-B324-41ED-AF99-033A718BAB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伊斯兰敌基督的灵</a:t>
            </a:r>
            <a:r>
              <a:rPr b="1" lang="zh-TW" sz="3200" spc="-1" strike="noStrike">
                <a:solidFill>
                  <a:srgbClr val="3366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怎样影响着穆斯林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伊斯兰</a:t>
            </a:r>
            <a:r>
              <a:rPr b="1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信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否认了</a:t>
            </a:r>
            <a:r>
              <a:rPr b="1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，基督教四个最重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教义</a:t>
            </a:r>
            <a:r>
              <a:rPr b="1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黑体"/>
                <a:ea typeface="黑体"/>
              </a:rPr>
              <a:t>「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三位一体</a:t>
            </a:r>
            <a:r>
              <a:rPr b="1" lang="zh-TW" sz="3200" spc="-1" strike="noStrike">
                <a:solidFill>
                  <a:srgbClr val="3333ff"/>
                </a:solidFill>
                <a:latin typeface="黑体"/>
                <a:ea typeface="黑体"/>
              </a:rPr>
              <a:t>」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黑体"/>
                <a:ea typeface="黑体"/>
              </a:rPr>
              <a:t>「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道成肉身</a:t>
            </a:r>
            <a:r>
              <a:rPr b="1" lang="zh-TW" sz="3200" spc="-1" strike="noStrike">
                <a:solidFill>
                  <a:srgbClr val="3333ff"/>
                </a:solidFill>
                <a:latin typeface="黑体"/>
                <a:ea typeface="黑体"/>
              </a:rPr>
              <a:t>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黑体"/>
                <a:ea typeface="黑体"/>
              </a:rPr>
              <a:t>「耶稣是神的的儿子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黑体"/>
                <a:ea typeface="黑体"/>
              </a:rPr>
              <a:t>「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耶稣十字架</a:t>
            </a:r>
            <a:r>
              <a:rPr b="1" lang="zh-TW" sz="3200" spc="-1" strike="noStrike">
                <a:solidFill>
                  <a:srgbClr val="3333ff"/>
                </a:solidFill>
                <a:latin typeface="黑体"/>
                <a:ea typeface="黑体"/>
              </a:rPr>
              <a:t>的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赎罪</a:t>
            </a:r>
            <a:r>
              <a:rPr b="1" lang="zh-TW" sz="3200" spc="-1" strike="noStrike">
                <a:solidFill>
                  <a:srgbClr val="3333ff"/>
                </a:solidFill>
                <a:latin typeface="黑体"/>
                <a:ea typeface="黑体"/>
              </a:rPr>
              <a:t>」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这符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约翰所定义</a:t>
            </a:r>
            <a:r>
              <a:rPr b="1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的：充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敌基督之灵</a:t>
            </a:r>
            <a:r>
              <a:rPr b="1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伊斯兰有先知，却没有救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斯兰以穆氏为「封印」先知。但按古兰经的教导，却不能称他为救主。人若要得救，必须靠自己的努力救自己。其实伊斯兰教徒期待穆氏末日的代祷，这已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待他成为救主，为中保了。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但是穆罕默德为自己的罪求赦免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求穆斯林为他祷告，可见他连成为祭司的资格都没有，更不用说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宣告他为「救主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古兰经中早已宣告了「救主」的身份。他就是尔撒麦西哈。只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穆罕默德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没有认定与认识这「麦西哈」的原本意义。「麦西哈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犹太人的宗教字眼，意思是神所膏立的「大先知，大祭司，大君王」。等同「永远的救世主」的意思。古兰经宣称尔撒是麦西哈，穆斯林却没有被告知这尊号乃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帝所赐给世人救主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的意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当年尔撒的门徒得了启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hib(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:110-111),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见证与传扬了尔撒救主（麦西哈）的身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E7A1-3328-4E0A-B45E-BDBC57CE06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)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穆罕默德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律法的功用，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麦西哈尔撒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却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完成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救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斯兰的律法称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ia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认为这是上帝给人类的指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d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遵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i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可能使人有得救的道路。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然而，律法真正的功用是指出人有罪，证明人的身体中被犯罪的律所捆绑，以致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志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行善由得我，行出来由不得我，什么时候想行善，什么时候恶就与我同在，捉我去作我不愿意作的恶（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-8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章）。故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穆斯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希望能仰赖阿拉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赦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旨意和悯恤。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却无法找到那赦免罪恶的根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认为耶稣基督十架的救赎是一种历史上的误解，不合道理，违背道德。阿拉有无上的权能，为何要流血赎罪呢？说声赦免不就够了吗！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伊斯兰律法体制的概念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旧约圣经；然而它整个的体现是引导我们去接受赎罪之恩，尔撒麦西哈就是「神的羔羊」除去世人罪孽的 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;29)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当他为人赎罪後第三天从死里复活，呈现不死的身体，证明死亡已废除，罪的问题已获得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12D9-0EC5-487A-99AC-FEB00C74D9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穆罕默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禁止把人神化；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尔撒麦西哈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神来作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斯兰为了强调神的独一与超越性；坚持一神主义。一切「以物配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r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」是大恶的死罪。这样的信念也是犹太教及基督教所坚信的。当基督徒称耶稣基督是创造的道成为肉身，伊斯兰教徒认为这是把人当神，以物配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实上基督教徒所信仰的，并不是把「人升格为神」。而是明白神的启示，耶稣基督乃是「神成为人类的救主」；人是按神的形象造的，神为何不能成为人呢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对把人当神，这是正确的信仰，但反对神来成为人，不信神来成为人类的救主，这是抵挡神，同样是罪。「人成为神」与「神成为人」；「由下而上」，与「由上而下」，在本质是大不相同的。若上帝是全能的，他若启示自己要「成为肉身」，难道他没有这个权能，没有这个权利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AF1C-9AFD-4CCE-BB3C-83E1DC43F4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)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伊斯兰有耶稣基督（尔撒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西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sa Al-masih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，却信一个有异於圣经记载的基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尔撒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麦西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a Al-masi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乃耶稣基督的亚拉伯文名称。古兰经虽然有记载关於他的事。而且宣称上帝赐给他真经（福音书）。但回教徒始终任凭自己误解，不全然明白关於耶稣基督的事迹。认为他是人，是个先知，是为穆斯林，没死在十字架上，不是神的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故此，回教徒不能从福音书中，认识基督的十字架与复活。虽然耶稣被称为「阿拉的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imah Allah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阿拉的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h Allah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阿拉的迹像，马利亚的儿子（女人的後裔）等。这样奇妙的尊称，由於不明白圣经，而心眼被蒙上了帕子，看不见基督的荣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931D-400A-4F67-B98E-FC6E5715A6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0"/>
            <a:ext cx="9144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)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伊斯兰能明白「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古兰经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道成经典」，却不能明白耶稣基督的「道成肉身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斯兰相信古兰经是上帝的话，是天上永恒的经书，降下给穆氏，被收集成为一本书，是神圣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道成为经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他们可以相信「道成经书」，却不能明白与接受「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肉身」的启示。古兰经宣称耶稣基督根源是从神发出的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imah alla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却不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愿接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耶稣基督是「道成肉身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斯兰教徒相信，古兰经中每一句话具有神性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，能力，能保护人免去凶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既然阿拉的话可以有神性，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能力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降世为经典，为何不能相信，不能接受阿拉永恒的道，也可以降世为人（耶稣基督）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4BDD-1C2D-4107-BE67-6D69FA2200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)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伊斯兰提到圣灵，却和新旧约圣经所说的圣灵有差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一般的穆斯林而言，「圣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h Qudu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」会被理解为天使长加百列。若对他们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h Qudu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会误解为是指天使长加百列。要对他们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h Alla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才会明白，那是指上帝之灵的意思。为了不肯认识「神，神的道，神的灵」所组成的三位一体，穆罕默德把神的灵，强解释为「天使长加百列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圣经的启示，圣灵是父上帝的灵，出於上帝，具有上帝完备的位格和属性。与上帝同等，同尊同荣。渗透上帝一切事的奥秘。若不藉着圣灵，人没法明白属上帝的事。圣灵被差到世界进行创造，启示，拯救，重生，充满，引导，医治，更新一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5D2D-F2F9-42EE-B498-4FDEAF1600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伊斯兰能体会阿拉有怜悯，期望被赦免，却不能体会十字架上最大的赦免与怜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斯兰教因为看不见，神如何在律法以外，为人类开出一条得救的出路。他们以为人只能靠律法行义，靠礼拜集功德，靠行善得救。然而立志行善由得我，行出来却不由得我。所愿意的善行不出来，所不愿意的恶倒行出来。故，伊斯兰教徒知道，真要靠守律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i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使人得救，没有多少人能有把握说能得救。穆氏死前非常惧怕自己的不义，多次开声求上帝赦免他所犯的一切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督教所经历神的恩典与怜恤超越这些。因为，神最大的恩典与怜恤，已经藉着耶稣基督的道成肉身，以十字架上义的代替不义的赦罪，以圣灵的内住的启示引导人走义路，以听祷告允应人所求告的事，以天使护卫信道的人。以爱人如己的命令，赦免软弱跌倒的弟兄。父怎样赦免了你们，你们也当赦免你的弟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2140-E3AF-4F81-B64D-D17FFE4000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督教与回教的核心差异 （曾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02:32:00Z</dcterms:created>
  <dc:creator>Pastor Chan</dc:creator>
  <dc:description/>
  <dc:language>en-US</dc:language>
  <cp:lastModifiedBy>ASUS</cp:lastModifiedBy>
  <dcterms:modified xsi:type="dcterms:W3CDTF">2012-04-14T01:02:28Z</dcterms:modified>
  <cp:revision>61</cp:revision>
  <dc:subject/>
  <dc:title>Slide 1</dc:title>
</cp:coreProperties>
</file>