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本土化宣教概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675F6-D5C7-463E-B3D4-FCA5419D3F0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938EA-0DED-4DA1-9A52-8B9297DF0A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本土化宣教概论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3" name="页脚占位符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本土化宣教概论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6DC6F-9788-48E7-ADEE-142BC0485D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F68-C608-49A6-B89C-8F721051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BF3-BDAB-4C96-9A64-A9080187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29F-3E15-4311-B6EC-C7B4630E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61E-2CEE-45B3-BAC4-143DC2A1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D122-ED9E-446F-8088-A2834120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73D0-2C6A-419A-9A06-A2502A77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911E-ED75-4201-8F41-33ADB6F5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F1F6-BAE7-44F3-B3D7-6A831083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6A98-DB19-426A-9026-B7B01823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3C34-1B41-4711-B357-5B36C929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B155-4806-40D4-81E4-B78497B6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247E-13B1-419C-A75A-4A6E1939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DEF9-2E73-40D5-AC95-DD59A43F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AE0A-0028-4782-9E69-F98CA565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363E-19AC-49FB-B487-7EF319E5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7577-47AA-44CE-BF41-017A02AB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4BB0-A55A-4A9F-A17C-973271F0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68D9A-FA7F-4C9E-AFFD-5FEAD02A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1E4E4-03A3-4F35-8E53-CA73FF18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4F053-91FF-4DF7-97C9-9A2F0535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8D3C-6C04-4F36-A70C-9692C77A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B0D65-F8E2-40A2-A9BC-E9B8D61A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5AA3-7ADE-4706-9218-3F6B5F6B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09959-8237-436C-97B8-670841F5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17C0B-96D9-4FFF-A4FC-B41EE67D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EFCBC-FBB6-4C4D-B450-BBD476A9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8D8FE-CA18-4CE1-A986-FAC41C1C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B675F-AB87-421B-BE94-B14D8FF1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EE6CC-6DF6-4C90-9E9F-9A8C29CD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CF732-2395-40FD-844D-BCE62921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6F1C4-405F-4609-A109-FE6D8434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D8C3F-4580-4888-8857-B3A88C5C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1BB7B-CE57-4065-82FB-A31422C5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837-4A35-4920-8198-5E3E6C79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ECC51-30E0-4A27-A706-320272ED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5AF79-1979-4AA8-AA47-B52B3A4F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B36C9-C5B8-4AC2-B838-3A938824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CFAA3-3826-4B16-B256-26BC883F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445C2-0491-4FD2-B0DD-BB117F7A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694DD-9BEA-4E7B-A5E1-0BF8E8AD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45CB3-98E7-429B-8E32-788480EE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7BFE2-D261-4BE0-80CB-032D3A70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86154-50BD-44D5-BF47-32996D8F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6DD-DC24-4BC9-9F65-D1180D42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603-20A4-403D-BD26-3EEDCFDA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BE0-B6DA-4F07-AA2B-FE0AE1E8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EAC-CA74-4721-8BAF-E63577A4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20A-F4F8-4147-8F5B-F2108248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  <a:ea typeface="YouYu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  <a:ea typeface="YouYuan"/>
              </a:rPr>
              <a:t>本土化宣教概论                                曾牧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f0a22e"/>
                </a:solidFill>
                <a:latin typeface="Times New Roman"/>
                <a:ea typeface="YouYu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0B009-6D61-4FCC-9B99-7D9E10935639}" type="slidenum">
              <a:rPr b="1" lang="en-US" sz="1200" spc="-1" strike="noStrike">
                <a:solidFill>
                  <a:srgbClr val="f0a22e"/>
                </a:solidFill>
                <a:latin typeface="Times New Roman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762120"/>
            <a:ext cx="9142560" cy="533376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9271080" y="762120"/>
            <a:ext cx="2923920" cy="533376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  <a:ea typeface="YouYu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  <a:ea typeface="YouYuan"/>
              </a:rPr>
              <a:t>本土化宣教概论                                曾牧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f0a22e"/>
                </a:solidFill>
                <a:latin typeface="Times New Roman"/>
                <a:ea typeface="YouYu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524D0-C6D8-4FAD-BBFF-E090AE711B40}" type="slidenum">
              <a:rPr b="1" lang="en-US" sz="1200" spc="-1" strike="noStrike">
                <a:solidFill>
                  <a:srgbClr val="f0a22e"/>
                </a:solidFill>
                <a:latin typeface="Times New Roman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  <a:ea typeface="YouYu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  <a:ea typeface="YouYuan"/>
              </a:rPr>
              <a:t>本土化宣教概论                                曾牧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f0a22e"/>
                </a:solidFill>
                <a:latin typeface="Times New Roman"/>
                <a:ea typeface="YouYu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39D6E-2661-4BC9-8591-F95DD4C66802}" type="slidenum">
              <a:rPr b="1" lang="en-US" sz="1200" spc="-1" strike="noStrike">
                <a:solidFill>
                  <a:srgbClr val="f0a22e"/>
                </a:solidFill>
                <a:latin typeface="Times New Roman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49884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  <a:ea typeface="YouYu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  <a:ea typeface="YouYuan"/>
              </a:rPr>
              <a:t>本土化宣教概论                                曾牧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f0a22e"/>
                </a:solidFill>
                <a:latin typeface="Times New Roman"/>
                <a:ea typeface="YouYu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9AC40-D243-4380-A002-281802570B9C}" type="slidenum">
              <a:rPr b="1" lang="en-US" sz="1200" spc="-1" strike="noStrike">
                <a:solidFill>
                  <a:srgbClr val="f0a22e"/>
                </a:solidFill>
                <a:latin typeface="Times New Roman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13A4A-E978-4FBE-925D-4D34AC3F0BF5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0" y="0"/>
            <a:ext cx="121921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第一章：本土化宣教概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基本问题：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「本土化」这词语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想到「当地的处境」。可意为：考量如何介入一个族群社会的整体；包括族群社会的模式，文化教育，经济政策，政治等相关范围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2) 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圣经的确存在着本土化布道法：                             </a:t>
            </a:r>
            <a:r>
              <a:rPr b="0" lang="en-MY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圣经记载了不同的布道法；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经典楷体简"/>
              </a:rPr>
              <a:t>传道者的目的，就是要使福音，能够在听道者中间发生最大的影响力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61501-FC1C-48B5-AB3A-C2D53BCACA0A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2388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0" y="0"/>
            <a:ext cx="12192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我甘心作了众人的仆人，为要多得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这是效法基督的行为，谦卑自己，为基督，为失丧者，主动放弃自己的某些权利。为要使人得福音的好处，甘心忍受患难，困苦，鞭打，刀 剑，监禁，劳役，饥饿之苦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 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向犹太人，我就作犹太人，为要得犹太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保罗是犹太人，自小学习犹太信仰，一心想作个宗教学者，为祖先的信仰大发热心。自从认识基督以後，看一切人为努力的信仰为「粪土」。然而，他却可以在犹太人中间，以没有可被指责的律法行为，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章遵行「割礼」，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章用「许愿」向犹太人见证耶稣是基督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FFEE8-3FFA-4F5E-BB96-45A9279B879B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3. 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向没有律法的人，我就作没有律法的人，为要得没有律法的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没有律法的人，指的应该是拜惯偶像的外邦人。这些人的生活，文化，风俗，习惯和保罗的犹太教背景，完全不同，甚至是对立的。保罗为了得他们，需要在生活，起居，衣着，食物方面，作出许多的调整，认同才能就近他们。就如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章，在亚略巴古传福音给外邦人的情况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4.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向软弱的人，我就作软弱的人，为要得软弱的人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经典楷体简"/>
              </a:rPr>
              <a:t>林前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经典楷体简"/>
              </a:rPr>
              <a:t>8:9-11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经典楷体简"/>
              </a:rPr>
              <a:t>保罗说：只是你们要谨慎，恐怕你们这自由竟成了那软弱人的绊脚石。若有人见你这有知识的，在偶像的庙里坐席，这人的良心若是软弱，岂不放胆去吃那祭偶像之物吗？因此，基督为他死的那软弱弟兄，也就因你的知识沉沦了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这是一个高超机智与真理的运用，但要小心运用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5A17F-975E-4D80-92E4-FA850476D691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19160" y="0"/>
            <a:ext cx="120729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要点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  <a:ea typeface="经典楷体简"/>
              </a:rPr>
              <a:t>⊕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  <a:ea typeface="经典楷体简"/>
              </a:rPr>
              <a:t>向什么人，就作什么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保罗认为基督的福音，可以进入任何一个地区与人群。在不混合真理的情况下，传道人必须主动的，协调，纠正，提升听道人之人的良心，文化，习惯上的拦阻。保罗确实鼓励本土化，但不鼓励混合主义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  <a:ea typeface="经典楷体简"/>
              </a:rPr>
              <a:t>⊕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  <a:ea typeface="经典楷体简"/>
              </a:rPr>
              <a:t>总要救些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保罗的本土化宣教，并没有要我们降低道德标准，也不鼓励混合主义；更不是讨每个人欢喜，而是要就近「信心软弱」的人群，使他们得见真光，让福音能进入当地扎根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9357A-7828-40F7-8B12-3CD9C05F92BC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0" y="0"/>
            <a:ext cx="12192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第二堂：混合主义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传道人因惧怕造成信仰混合，会对异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文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过份谴责，反过来可能将自身的信仰文化，传递给信仰者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传道人必须承认，本身的文化价值观与圣经的价值观，也曾经有过某些的调整与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合之处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这个事实使我们变得谦卑，对别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相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的文化，保留忍耐与谅解的态度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407B3-DCEA-41C1-B252-9896AFCD1A8B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19160" y="0"/>
            <a:ext cx="12025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混合主义的定义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「混合主义</a:t>
            </a:r>
            <a:r>
              <a:rPr b="0" lang="zh-TW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」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是有系统的尝试结合，调解不和谐，甚至是接纳互相抵触的元素，使它成为一个所谓的综合体」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Hendrik Kraem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「混合主义</a:t>
            </a:r>
            <a:r>
              <a:rPr b="0" lang="zh-TW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」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是试图将圣经所启示的基督教真理与基督教信仰不一样，或对立的信条与习俗，或否定基督教信仰的其它思想系统，互相结合或调解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威尔顿宣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Wheaton Declar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普世宣教的主要争议：                  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若「本土化」是宣教神学的正确与必要方式，而「混合主义会」则会造成福音的变质。那么要如何划分「本土化」与「混合主义」之间的界线呢 ？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71C6E-587C-48E9-9F64-9FDC1B789678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0" y="0"/>
            <a:ext cx="121921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经典楷体简"/>
              </a:rPr>
              <a:t>如何划分「本土化」与「混合主义」之间的界线：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经典楷体简"/>
              </a:rPr>
              <a:t>                            </a:t>
            </a:r>
            <a:r>
              <a:rPr b="0" lang="zh-CN" sz="3000" spc="-1" strike="noStrike">
                <a:solidFill>
                  <a:srgbClr val="3333ff"/>
                </a:solidFill>
                <a:latin typeface="Arial"/>
                <a:ea typeface="经典楷体简"/>
              </a:rPr>
              <a:t>「当福音最关键与最基本的要素，在尝试本土化的过程中失去时，就会</a:t>
            </a:r>
            <a:r>
              <a:rPr b="0" lang="zh-TW" sz="3000" spc="-1" strike="noStrike">
                <a:solidFill>
                  <a:srgbClr val="3333ff"/>
                </a:solidFill>
                <a:latin typeface="Arial"/>
                <a:ea typeface="经典楷体简"/>
              </a:rPr>
              <a:t>陷入了</a:t>
            </a:r>
            <a:r>
              <a:rPr b="0" lang="zh-CN" sz="3000" spc="-1" strike="noStrike">
                <a:solidFill>
                  <a:srgbClr val="3333ff"/>
                </a:solidFill>
                <a:latin typeface="Arial"/>
                <a:ea typeface="经典楷体简"/>
              </a:rPr>
              <a:t>混合主义」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跨越文化宣教的过程中，为了本土化的尝试，就在信息的传讲，经文的翻译，文化的认同中，通常会流失若干的内容。传道人必须谨慎地探索，所失去的内容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，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是否造成了福音的改变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或变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传另一位耶稣。混合主义是不能被容许与原谅的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宗教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罪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行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 。                   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009900"/>
                </a:solidFill>
                <a:latin typeface="Arial"/>
                <a:ea typeface="经典楷体简"/>
              </a:rPr>
              <a:t>加</a:t>
            </a:r>
            <a:r>
              <a:rPr b="0" lang="en-US" sz="3000" spc="-1" strike="noStrike">
                <a:solidFill>
                  <a:srgbClr val="009900"/>
                </a:solidFill>
                <a:latin typeface="Arial"/>
                <a:ea typeface="经典楷体简"/>
              </a:rPr>
              <a:t>1:6-8   </a:t>
            </a:r>
            <a:r>
              <a:rPr b="0" lang="zh-CN" sz="3000" spc="-1" strike="noStrike">
                <a:solidFill>
                  <a:srgbClr val="009900"/>
                </a:solidFill>
                <a:latin typeface="Arial"/>
                <a:ea typeface="经典楷体简"/>
              </a:rPr>
              <a:t>我希奇你们这麽快离开那藉著基督之恩召你们的，去从别的福音。那并不是福音，不过有些人搅扰你们，要把基督的福音更改了。但无论是我们，是天上来的使者，若传福音给你们，与我们所传给你们的不同，他就应当被咒诅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F79D5-A687-48D7-A786-0161F53D793D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0" y="0"/>
            <a:ext cx="12192120" cy="22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009900"/>
                </a:solidFill>
                <a:latin typeface="Arial"/>
                <a:ea typeface="经典楷体简"/>
              </a:rPr>
              <a:t>林後 </a:t>
            </a:r>
            <a:r>
              <a:rPr b="0" lang="en-US" sz="3000" spc="-1" strike="noStrike">
                <a:solidFill>
                  <a:srgbClr val="009900"/>
                </a:solidFill>
                <a:latin typeface="Arial"/>
                <a:ea typeface="经典楷体简"/>
              </a:rPr>
              <a:t>4:1-5   </a:t>
            </a:r>
            <a:r>
              <a:rPr b="0" lang="zh-CN" sz="3000" spc="-1" strike="noStrike">
                <a:solidFill>
                  <a:srgbClr val="009900"/>
                </a:solidFill>
                <a:latin typeface="Arial"/>
                <a:ea typeface="经典楷体简"/>
              </a:rPr>
              <a:t>我们既然蒙怜悯，受了这职分，就不丧胆，乃将那些暗昧可耻的事弃绝了；不行诡诈，不谬讲神的道理，只将真理表明出来，好在神面前把自己荐与各人的良心。如果我们的福音蒙蔽，就是蒙蔽在灭亡的人身上。此等不信之人被这世界的神弄瞎了心眼，不叫基督荣耀福音的光照著他们。基督本是神的像。我们原不是传自己，乃是传基督耶稣为主，并且自己因耶稣作你们的仆人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  <a:ea typeface="经典楷体简"/>
              </a:rPr>
              <a:t>「不谬传神的道」：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谬传」的意思是「掺杂」或「加入次等的物质」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BCC77-6D9B-4C8C-9137-7E373E5CE48F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0" y="0"/>
            <a:ext cx="1219212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本土化宣教中，五个不能妥协的基要真理： 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经典楷体简"/>
              </a:rPr>
              <a:t>        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经典楷体简"/>
              </a:rPr>
              <a:t>1. </a:t>
            </a:r>
            <a:r>
              <a:rPr b="0" lang="zh-TW" sz="3200" spc="-1" strike="noStrike">
                <a:solidFill>
                  <a:srgbClr val="0000ff"/>
                </a:solidFill>
                <a:latin typeface="Arial"/>
                <a:ea typeface="经典楷体简"/>
              </a:rPr>
              <a:t>神；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经典楷体简"/>
              </a:rPr>
              <a:t>圣父是上帝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加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照父上帝的旨意，为我们的罪舍已，要救我们脱离这罪恶的世代」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愿恩惠平安从上帝我们的父和主耶稣归于你们」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凡事要奉我们主耶稣基督的名常常感谢父上帝」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西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感谢父，叫我们能与众圣徒在光明中同得基业」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帖前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在上帝我们的父面前，不住的记念你们因信心所作的工夫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帖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好使你们当我们主耶稣同他众圣徒同来的时候，在我们父上帝面前，心里坚固，成为圣洁，无可指责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帖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但愿我们主耶稣基督和那爱我们，开恩将永远的安慰，并美好的盼望赐给我们的父上帝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                                                                                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们曾有生身的父管教我们，我们尚且敬重他，何况万灵的父，我们岂不更当顺服他得生吗」？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4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从今以后，你岂不向我呼叫：我父阿，你是我幼年的恩主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岂不是你们的父，将你买来的吗？他是创造你，建立你的」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0469A-C10E-49D5-AA8D-B4D8BE26C6BC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0" y="0"/>
            <a:ext cx="12192120" cy="557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宋体"/>
                <a:ea typeface="经典楷体简"/>
              </a:rPr>
              <a:t>2. </a:t>
            </a:r>
            <a:r>
              <a:rPr b="0" lang="zh-TW" sz="3000" spc="-1" strike="noStrike">
                <a:solidFill>
                  <a:srgbClr val="0000ff"/>
                </a:solidFill>
                <a:latin typeface="宋体"/>
                <a:ea typeface="经典楷体简"/>
              </a:rPr>
              <a:t>神的道；</a:t>
            </a:r>
            <a:r>
              <a:rPr b="0" lang="zh-CN" sz="3000" spc="-1" strike="noStrike">
                <a:solidFill>
                  <a:srgbClr val="0000ff"/>
                </a:solidFill>
                <a:latin typeface="宋体"/>
                <a:ea typeface="经典楷体简"/>
              </a:rPr>
              <a:t>圣子是上帝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约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1: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太初有道，道与神同在，道就是神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约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10:3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经典楷体简"/>
              </a:rPr>
              <a:t>「耶稣说：我与父原为一」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约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14:9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经典楷体简"/>
              </a:rPr>
              <a:t>「耶稣对他说：腓力，我与你们同在这么久，你还不认识我吗？人看见我，就是看见了父；你怎么说：将父显给我们看呢？」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约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16:2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经典楷体简"/>
              </a:rPr>
              <a:t>「我从父出来，到了世界；我又离开世界，往父哪里去」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约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3:35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经典楷体简"/>
              </a:rPr>
              <a:t>「父爱子，已将万有交在他手里」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约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5:2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经典楷体简"/>
              </a:rPr>
              <a:t>父怎样叫死人起来，使他们活着，子也照样随自己意思使人活着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约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5:26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经典楷体简"/>
              </a:rPr>
              <a:t>「父怎样在自己有生命，就赐给他儿子也照样在自己有生命」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约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11:5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经典楷体简"/>
              </a:rPr>
              <a:t>耶稣对他说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经典楷体简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经典楷体简"/>
              </a:rPr>
              <a:t>复活在我，生命也在我，信我的人虽然死了，也必复活，活着信我的人必永远不死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约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5:24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经典楷体简"/>
              </a:rPr>
              <a:t>我实实在在的告诉你们，那听我话，又信差我来者的，就有永生；不至于定罪，是已经出死入生了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太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18: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经典楷体简"/>
              </a:rPr>
              <a:t>无论在哪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经典楷体简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经典楷体简"/>
              </a:rPr>
              <a:t>若有两三个人奉我的名聚会，哪里就有我在他们当中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7528A-7643-4936-A891-E875350F28B1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经典楷体简"/>
              </a:rPr>
              <a:t>3.</a:t>
            </a:r>
            <a:r>
              <a:rPr b="0" lang="zh-TW" sz="2800" spc="-1" strike="noStrike">
                <a:solidFill>
                  <a:srgbClr val="0000ff"/>
                </a:solidFill>
                <a:latin typeface="宋体"/>
                <a:ea typeface="经典楷体简"/>
              </a:rPr>
              <a:t>神的灵：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经典楷体简"/>
              </a:rPr>
              <a:t>圣灵是上帝：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经典楷体简"/>
              </a:rPr>
              <a:t>徒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经典楷体简"/>
              </a:rPr>
              <a:t>5: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经典楷体简"/>
              </a:rPr>
              <a:t>「彼得说：亚拿尼亚，为什么撒旦充满你的心，叫你欺哄圣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经典楷体简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经典楷体简"/>
              </a:rPr>
              <a:t>.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经典楷体简"/>
              </a:rPr>
              <a:t>你不是欺哄人，是欺哄上帝了」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经典楷体简"/>
              </a:rPr>
              <a:t>林后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经典楷体简"/>
              </a:rPr>
              <a:t>3:1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经典楷体简"/>
              </a:rPr>
              <a:t>「主就是那灵，主的灵在哪里，哪里就有自由」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经典楷体简"/>
              </a:rPr>
              <a:t>来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经典楷体简"/>
              </a:rPr>
              <a:t>3: 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经典楷体简"/>
              </a:rPr>
              <a:t>「圣灵有话说：你们今日若听他的话，就不可硬着心，像在旷野惹他发怒，试探他的时候一样。在哪里，你们的祖宗试探我，并且观看我的作为有四十年之久」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经典楷体简"/>
              </a:rPr>
              <a:t>林前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经典楷体简"/>
              </a:rPr>
              <a:t>2: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经典楷体简"/>
              </a:rPr>
              <a:t>「只有上帝藉着圣灵向我们显明了，因为圣灵渗透万事，就是上帝深奥的事也都渗透了」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经典楷体简"/>
              </a:rPr>
              <a:t>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经典楷体简"/>
              </a:rPr>
              <a:t>6: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经典楷体简"/>
              </a:rPr>
              <a:t>「耶和华说：人既属乎血气，我的灵就不永远住在他里面」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经典楷体简"/>
              </a:rPr>
              <a:t>结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经典楷体简"/>
              </a:rPr>
              <a:t>36:2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经典楷体简"/>
              </a:rPr>
              <a:t>「我必将我的灵放在你们里面，使你们顺从我的律例，谨守遵行我的典章」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经典楷体简"/>
              </a:rPr>
              <a:t>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经典楷体简"/>
              </a:rPr>
              <a:t>8:1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经典楷体简"/>
              </a:rPr>
              <a:t>「因为凡被上帝的灵引导的，都是上帝的儿子」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经典楷体简"/>
              </a:rPr>
              <a:t>约一书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经典楷体简"/>
              </a:rPr>
              <a:t>4: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经典楷体简"/>
              </a:rPr>
              <a:t>「凡灵认耶稣基督是道成肉身来的，就是出于上帝的；从此你们可以认出上帝的灵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经典楷体简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经典楷体简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经典楷体简"/>
              </a:rPr>
              <a:t>」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82A25-2677-4FA9-A09B-D9AABA0EA067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0"/>
            <a:ext cx="1207296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耶稣基督按个别的情况，来与</a:t>
            </a:r>
            <a:r>
              <a:rPr b="0" lang="zh-TW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人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们接触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向井旁妇女作见证与向尼哥底母的方式不同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向年青的官传福音与向瞎子的方式也不同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耶稣所采取的布道法中，在最初步的见证中，他适当的面对了听者的切身需要，使他们被吸引，接受信息，进而闯进他们的世界观中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自由派神学有时为避免冒犯，将听众不能接受的部份删去，甚至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意让异教中某些教义代替圣经，作为本土化宣教的有效作法。这样的方法，不曾被初期的使徒们采用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B9ACF-78A5-4091-AB3E-CE6E24D9B416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27000" y="0"/>
            <a:ext cx="12138120" cy="374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  <a:ea typeface="经典楷体简"/>
              </a:rPr>
              <a:t>基督教的上帝却是独一的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经典楷体简"/>
              </a:rPr>
              <a:t>基督教威敏斯特信仰问答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经典楷体简"/>
              </a:rPr>
              <a:t>(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经典楷体简"/>
              </a:rPr>
              <a:t>Westminster Catechism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经典楷体简"/>
              </a:rPr>
              <a:t>给上帝所下的信仰定义，可以代表普世基督教徒，对上帝所持的共同信仰观点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「只有一位，独一永活的真神，创造天地万物的上帝，他是至善至美无限的存在，纯正的灵，无形，无肉身，无实体，无欲，不变，不朽，永存，无可测度，全能，全知，至善，无上自由，无上的绝对；为着自己的荣耀，随自己不变和绝对正确的旨意行事；至爱，恩惠，怜恤，恒久忍耐，丰盛的仁慈与真实，赦免过犯，邪恶和罪孽；凡恒心寻求他的，必得奖赏；同时，他的审判是无上公正，极其可畏；恨恶罪恶，又赦免过犯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…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」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BB71B-0BE9-4EE7-BF48-951C3FFFC3E7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27000" y="0"/>
            <a:ext cx="12165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旧约中三位一体的预示和明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三位一体的教义分布在旧约许多的经文当中；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例如，从旧约的一开头到结尾，复数的名词、代词、动词、和形容词就经常用于神，列举如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i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lohi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一词数千次用于「神」；「</a:t>
            </a:r>
            <a:r>
              <a:rPr b="1" i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dona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一词数百次地用于「主」；这两个词在希伯来语裡都是复数的名词。许多的章节说到了神众多的「面」，或众多的「同在」或众多的「位」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称呼祂自己为「我们」（宾格），「我们的」（所有格）和「我们」（主格）（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6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说：「我们要照著我们的形像、按著我们的样式造人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XX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－七十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译本）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1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E402B-B82C-410B-8F67-BFD6E9BA2F2B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119160" y="0"/>
            <a:ext cx="1207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我们下去，在那里变乱他们的口音，使他们的言语彼此不通。」；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8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我又听见主的声音说：「我可以差遣谁呢？谁肯为我们去呢？」我说：「我在这里，请差遣我！」；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4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）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这个现象实际上在每一个英译本中都有反映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旧约论到神，「他们叫我漂流在外」（创世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），「他们在那裡显现」（创世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），「他们接近」（申命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），「他们走了」（撒母耳记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），和「他们审判」（诗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5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1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2C9AD-C7F5-4EF7-9223-AEF17E5A4411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27000" y="0"/>
            <a:ext cx="12138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旧约称神为我们的「造物主们」（传道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），「製造者们」和「丈夫们」（约伯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；诗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14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；以赛亚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5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旧约说神是「圣洁的」（约书亚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；箴言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），又一处众数形式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旧约通过肯定三个位格的神性，从而进一步具体说明了神众数的本性。这三个位格彼此有别，而在各方面又被一样地看作是神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YouYuan"/>
              </a:rPr>
              <a:t>父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（例如申命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；以赛亚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6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6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，玛拉基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CBE77-E33F-4F7C-8150-84DCD03D8582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119160" y="0"/>
            <a:ext cx="12045960" cy="50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经典楷体简"/>
              </a:rPr>
              <a:t>上帝是独一的，却自显为「三位一体」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教会传统对三位一体描述：「圣父，圣子」和「圣父，圣子，圣灵」的内在关系。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）圣子是从圣父而出永恒的「道」；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）圣灵亦是圣父与圣子永恒的「呼吸与活动」。这论点在主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32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年尼西亚会议定立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经典楷体简"/>
              </a:rPr>
              <a:t>错误的三一神观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传统上，世人对理解基督教所持的「三位一体」观，常有三种严重的错误观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宋体"/>
                <a:ea typeface="经典楷体简"/>
              </a:rPr>
              <a:t>⊕</a:t>
            </a:r>
            <a:r>
              <a:rPr b="0" lang="zh-CN" sz="3200" spc="-1" strike="noStrike">
                <a:solidFill>
                  <a:srgbClr val="3333ff"/>
                </a:solidFill>
                <a:latin typeface="宋体"/>
                <a:ea typeface="经典楷体简"/>
              </a:rPr>
              <a:t>误以为是指「三神论」：                                ⊕误以为三位一体是指；上帝包括三位分离的上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1EA2C-3C92-4755-872D-B116E0653A88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47520" y="0"/>
            <a:ext cx="12025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  <a:ea typeface="经典楷体简"/>
              </a:rPr>
              <a:t>⊕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  <a:ea typeface="经典楷体简"/>
              </a:rPr>
              <a:t>误以为同一位上帝，以不同的身份显现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此说主张只有一位上帝，却藉着三种不同的形态，角色启示自己。如同上帝在旧约时带上圣父的「面具」，新约时带上圣子的面具，教会时代带上圣灵的「面具」出现。意思在时候，「没有上帝只有圣子，在某个时候，只有圣灵没有圣子」。这不是正统基督教的观点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9A748-3006-44F5-8570-4A8A231B6A49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0" y="0"/>
            <a:ext cx="12192120" cy="374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42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宋体"/>
                <a:ea typeface="经典楷体简"/>
              </a:rPr>
              <a:t>正确的三一神观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经典楷体简"/>
              </a:rPr>
              <a:t>上帝介入人类历史中，藉着新旧约圣经的启示，向世人自显：创造天地的主是独一的真神，除他以外，没有别神。创造的上帝，在他的自显中，启示给世人而得知；创造的上帝其位格，神性，荣耀，尊荣，全能全知，永恒，无限，属性，乃彰显于圣父，圣子，圣灵三个位格里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经典楷体简"/>
              </a:rPr>
              <a:t>圣父，圣子，圣灵，虽各自有位格，却是同尊，同荣，同工，同质，同源，合一，同心思，同意念，同性，三而一，永不分离，永不独断。圣父在圣子里面，圣子在圣父里面，圣灵从圣父，圣子而出，圣灵也是圣父，圣子的灵。圣父是计划创造，救赎，赐生命的独一主宰；圣子，圣灵则是计划创造，救赎，赐生命的独一主宰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7B76C-3FE1-4555-8735-C86CA35E9F12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52388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0" y="0"/>
            <a:ext cx="120729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  <a:ea typeface="经典楷体简"/>
              </a:rPr>
              <a:t>4. 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  <a:ea typeface="经典楷体简"/>
              </a:rPr>
              <a:t>圣经论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经典楷体简"/>
              </a:rPr>
              <a:t>提後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经典楷体简"/>
              </a:rPr>
              <a:t>3:16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经典楷体简"/>
              </a:rPr>
              <a:t>圣经都是神所默示的，於教训、督责、使人归正、教导人学义都是有益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基督教的圣经包括了旧约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3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卷书，新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卷。这是圣经的正典。任何尝试增加或减少其中书卷者，必会导致真理的更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许多基督教的异端，都是因为增加了新的书卷。  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经典楷体简"/>
              </a:rPr>
              <a:t>启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经典楷体简"/>
              </a:rPr>
              <a:t>22:18-19  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经典楷体简"/>
              </a:rPr>
              <a:t>我向一切听见这书上预言的作见证，若有人在这预言上加添什麽，神必将写在这书上的灾祸加在他身上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经典楷体简"/>
              </a:rPr>
              <a:t>…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经典楷体简"/>
              </a:rPr>
              <a:t>..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经典楷体简"/>
              </a:rPr>
              <a:t>若有人删去什麽，神必从这书上所写的生命树和圣城删去他的分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混合主义的危险，包括要留意如何「正确的翻译圣经」。把人的话，异教的名词与用词，写入圣经，取代原初圣经的意思，若造成圣经启示的意思被更改，这样的罪也是不能被赦免的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5AB10-D999-4DFA-8898-B1BA44B17044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27000" y="0"/>
            <a:ext cx="121651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  <a:ea typeface="经典楷体简"/>
              </a:rPr>
              <a:t>5. 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  <a:ea typeface="经典楷体简"/>
              </a:rPr>
              <a:t>救恩论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鼎中楷简"/>
                <a:ea typeface="文鼎中楷简"/>
              </a:rPr>
              <a:t>可 </a:t>
            </a:r>
            <a:r>
              <a:rPr b="0" lang="en-US" sz="2800" spc="-1" strike="noStrike">
                <a:solidFill>
                  <a:srgbClr val="000000"/>
                </a:solidFill>
                <a:latin typeface="文鼎中楷简"/>
                <a:ea typeface="文鼎中楷简"/>
              </a:rPr>
              <a:t>16:15-16</a:t>
            </a:r>
            <a:r>
              <a:rPr b="0" lang="zh-CN" sz="2800" spc="-1" strike="noStrike">
                <a:solidFill>
                  <a:srgbClr val="000000"/>
                </a:solidFill>
                <a:latin typeface="文鼎中楷简"/>
                <a:ea typeface="文鼎中楷简"/>
              </a:rPr>
              <a:t>耶稣又对他们说：你们往普天下去，传福音给万民听。信而受洗的，必然得救；不信的，必被定罪</a:t>
            </a:r>
            <a:r>
              <a:rPr b="0" lang="en-US" sz="2800" spc="-1" strike="noStrike">
                <a:solidFill>
                  <a:srgbClr val="000000"/>
                </a:solidFill>
                <a:latin typeface="文鼎中楷简"/>
                <a:ea typeface="文鼎中楷简"/>
              </a:rPr>
              <a:t>. </a:t>
            </a:r>
            <a:r>
              <a:rPr b="0" lang="zh-CN" sz="2800" spc="-1" strike="noStrike">
                <a:solidFill>
                  <a:srgbClr val="000000"/>
                </a:solidFill>
                <a:latin typeface="文鼎中楷简"/>
                <a:ea typeface="文鼎中楷简"/>
              </a:rPr>
              <a:t>约 </a:t>
            </a:r>
            <a:r>
              <a:rPr b="0" lang="en-US" sz="2800" spc="-1" strike="noStrike">
                <a:solidFill>
                  <a:srgbClr val="000000"/>
                </a:solidFill>
                <a:latin typeface="文鼎中楷简"/>
                <a:ea typeface="文鼎中楷简"/>
              </a:rPr>
              <a:t>1:12-13</a:t>
            </a:r>
            <a:r>
              <a:rPr b="0" lang="zh-CN" sz="2800" spc="-1" strike="noStrike">
                <a:solidFill>
                  <a:srgbClr val="000000"/>
                </a:solidFill>
                <a:latin typeface="文鼎中楷简"/>
                <a:ea typeface="文鼎中楷简"/>
              </a:rPr>
              <a:t>凡接待他</a:t>
            </a:r>
            <a:r>
              <a:rPr b="0" lang="en-US" sz="2800" spc="-1" strike="noStrike">
                <a:solidFill>
                  <a:srgbClr val="000000"/>
                </a:solidFill>
                <a:latin typeface="文鼎中楷简"/>
                <a:ea typeface="文鼎中楷简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文鼎中楷简"/>
                <a:ea typeface="文鼎中楷简"/>
              </a:rPr>
              <a:t>耶稣）的，就是信他名的人，他就赐他们权柄，作神的儿女。这等人不是从血气生的，不是从情欲生的，也不是从人意生的，乃是从神生的。                            约</a:t>
            </a:r>
            <a:r>
              <a:rPr b="0" lang="en-US" sz="2800" spc="-1" strike="noStrike">
                <a:solidFill>
                  <a:srgbClr val="000000"/>
                </a:solidFill>
                <a:latin typeface="文鼎中楷简"/>
                <a:ea typeface="文鼎中楷简"/>
              </a:rPr>
              <a:t>3:16  </a:t>
            </a:r>
            <a:r>
              <a:rPr b="0" lang="zh-CN" sz="2800" spc="-1" strike="noStrike">
                <a:solidFill>
                  <a:srgbClr val="000000"/>
                </a:solidFill>
                <a:latin typeface="文鼎中楷简"/>
                <a:ea typeface="文鼎中楷简"/>
              </a:rPr>
              <a:t>神爱世人，甚至将他的独生子赐给他们，叫一切信他的，不至灭亡反得永生。约 </a:t>
            </a:r>
            <a:r>
              <a:rPr b="0" lang="en-US" sz="2800" spc="-1" strike="noStrike">
                <a:solidFill>
                  <a:srgbClr val="000000"/>
                </a:solidFill>
                <a:latin typeface="文鼎中楷简"/>
                <a:ea typeface="文鼎中楷简"/>
              </a:rPr>
              <a:t>3:18   </a:t>
            </a:r>
            <a:r>
              <a:rPr b="0" lang="zh-CN" sz="2800" spc="-1" strike="noStrike">
                <a:solidFill>
                  <a:srgbClr val="000000"/>
                </a:solidFill>
                <a:latin typeface="文鼎中楷简"/>
                <a:ea typeface="文鼎中楷简"/>
              </a:rPr>
              <a:t>信他（耶稣）的人，不被定罪；不信的人，罪已经定了，因为他不信神独生子的名。                                                                                    徒 </a:t>
            </a:r>
            <a:r>
              <a:rPr b="0" lang="en-US" sz="2800" spc="-1" strike="noStrike">
                <a:solidFill>
                  <a:srgbClr val="000000"/>
                </a:solidFill>
                <a:latin typeface="文鼎中楷简"/>
                <a:ea typeface="文鼎中楷简"/>
              </a:rPr>
              <a:t>4:12 </a:t>
            </a:r>
            <a:r>
              <a:rPr b="0" lang="zh-CN" sz="2800" spc="-1" strike="noStrike">
                <a:solidFill>
                  <a:srgbClr val="000000"/>
                </a:solidFill>
                <a:latin typeface="文鼎中楷简"/>
                <a:ea typeface="文鼎中楷简"/>
              </a:rPr>
              <a:t>除他以外，别无拯救；因为在天下人间，没有赐下别的名，我们可以靠著得救。                                   罗 </a:t>
            </a:r>
            <a:r>
              <a:rPr b="0" lang="en-US" sz="2800" spc="-1" strike="noStrike">
                <a:solidFill>
                  <a:srgbClr val="000000"/>
                </a:solidFill>
                <a:latin typeface="文鼎中楷简"/>
                <a:ea typeface="文鼎中楷简"/>
              </a:rPr>
              <a:t>1:1-4</a:t>
            </a:r>
            <a:r>
              <a:rPr b="0" lang="zh-CN" sz="2800" spc="-1" strike="noStrike">
                <a:solidFill>
                  <a:srgbClr val="000000"/>
                </a:solidFill>
                <a:latin typeface="文鼎中楷简"/>
                <a:ea typeface="文鼎中楷简"/>
              </a:rPr>
              <a:t>耶稣基督的仆人保罗，奉召为使徒，特派传神的福音。这福音是神从前藉众先知在圣经上所应许的，论到他儿子我主耶稣基督。按肉体说，是从大卫後裔生的；按圣善的灵说，因从死里复活，以大能显明是神的儿子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1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EB1CB-1C40-43D0-98FC-D99C5034A4B7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0" y="-19080"/>
            <a:ext cx="12288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YouYuan"/>
              </a:rPr>
              <a:t>伊斯兰对立了基督教好几个基要的信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）反对耶稣是神儿子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）反对耶稣是道成了肉身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）反对基督的十字架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）反对三位一体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）反对从神生的信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YouYu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）圣经不再是神的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因此，对穆斯林来说，他们何等反对基要信仰，也何等需要明白基督教的基要信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E3E6D-8530-4C40-87E7-45780FDC8A95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52388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0" y="0"/>
            <a:ext cx="1228896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3) 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本土化与混合主义常引起争议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初期教会，曾遇见混合主义的试探。犹太人与外邦人不来往，靠行律法或信福音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守或不持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洁净之礼，割礼与不割礼，吃或不吃偶像之物等争议，显示福音要跨越文化的围墙时，常遇见压力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经典楷体简"/>
              </a:rPr>
              <a:t>教会最早的一个本土化议决：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经典楷体简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经典楷体简"/>
              </a:rPr>
              <a:t>徒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经典楷体简"/>
              </a:rPr>
              <a:t>15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经典楷体简"/>
              </a:rPr>
              <a:t>章外邦信徒对旧约律法礼仪当持什么立场？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使徒的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议会受圣灵的感动</a:t>
            </a:r>
            <a:r>
              <a:rPr b="0" lang="zh-TW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，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做出以下的判决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⊕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不容产生信仰的混合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福音已成就旧约一切的预表与应许。在这前题下，人们可以自由要守或不要守，犹太人的某些文化风俗（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15:7-10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38EB1-9DC9-487A-8CF8-5944DF5A3A7D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27000" y="0"/>
            <a:ext cx="1204596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第三堂：当基督遇见文化的意义与形式时           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大多数福音工作倾向于非关系的建立。工人们发放传单，并不生活在穆斯林中间，也不请穆斯林去他们家做客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宣教士们经常用堆积如山的辩论，攻击伊斯兰教是一个异端学说，试图说服穆斯林相信，伊斯兰教的种种错误和低劣，而不强调耶稣基督可以提升他们的文化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由於教会不能突破文化的隔墙，能动员起来的果效非常小。面临各种各样的阻碍：文化冲突，逼迫、种族主义、对苦难的恐惧，希望按自己的文化形象来制造信徒的倾向，令福音被视为外来物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基督徒，在文化和地理位置上与穆斯林生活很接近，却各自保留在自己的群体与文化之中；他们小心地避免与穆斯林接触。结果多数宣教工人，对他们周围的穆斯林群体，几乎没有任何影响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E0B40-5174-45D1-BF3D-539746717D7C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0"/>
            <a:ext cx="12192120" cy="3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Arial"/>
                <a:ea typeface="长城细圆体"/>
              </a:rPr>
              <a:t>文化的形式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长城细圆体"/>
              </a:rPr>
              <a:t>form</a:t>
            </a:r>
            <a:r>
              <a:rPr b="0" lang="zh-TW" sz="3200" spc="-1" strike="noStrike">
                <a:solidFill>
                  <a:srgbClr val="ff3300"/>
                </a:solidFill>
                <a:latin typeface="Arial"/>
                <a:ea typeface="长城细圆体"/>
              </a:rPr>
              <a:t>与文化的意义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长城细圆体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文化中的形式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form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，就是人所能看见的外在生活的习俗与习惯。文化形式的意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meaning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在形式的背後，而且是隐藏的。文化中外在的形式，常是令局外人误会的地方，因此需要从文化的意义来理解文化的形式（习俗与习惯）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文化的价值观，则是透过文化形式（习俗）背後的意义来确定。我们的理解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当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集中在「意义」上，而不只是在「形式」上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当耶稣与不同文化的人勾通时，祂采用了不同文化的形式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YouYuan"/>
              </a:rPr>
              <a:t>习俗与习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YouYuan"/>
              </a:rPr>
              <a:t>惯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  <a:ea typeface="Microsoft JhengHei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，来传达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天国的福音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。这就是他使用许多比喻的理由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经典楷体简"/>
              </a:rPr>
              <a:t>伊斯兰信仰是非常看重外在形式（习俗）的宗教，这些形式的形成，大部份是根据传统，惯例，</a:t>
            </a:r>
            <a:r>
              <a:rPr b="1" lang="zh-CN" sz="3000" spc="-1" strike="noStrike">
                <a:solidFill>
                  <a:srgbClr val="3333ff"/>
                </a:solidFill>
                <a:latin typeface="Arial"/>
                <a:ea typeface="经典楷体简"/>
              </a:rPr>
              <a:t>「穆圣曾如此作，穆圣不曾如此作</a:t>
            </a:r>
            <a:r>
              <a:rPr b="1" lang="en-US" sz="3000" spc="-1" strike="noStrike">
                <a:solidFill>
                  <a:srgbClr val="3333ff"/>
                </a:solidFill>
                <a:latin typeface="Arial"/>
                <a:ea typeface="经典楷体简"/>
              </a:rPr>
              <a:t>…</a:t>
            </a:r>
            <a:r>
              <a:rPr b="1" lang="zh-CN" sz="3000" spc="-1" strike="noStrike">
                <a:solidFill>
                  <a:srgbClr val="3333ff"/>
                </a:solidFill>
                <a:latin typeface="Arial"/>
                <a:ea typeface="经典楷体简"/>
              </a:rPr>
              <a:t>」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经典楷体简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88B89-E6DE-4138-B85C-6E492EA61D43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7520" y="0"/>
            <a:ext cx="12117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当我们的信息，见证，榜样与伊斯兰信仰的形式（习俗）越相近，穆斯林对我们所传讲的信息，反应便会更积极。当基督信仰被他们认为是激进，对抗，怪异，对立，他们更会有所保留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伊斯兰是最接近基督教信仰的宗教，却在许多基督教基要信仰中，成为最大的反方。若我们要以伊斯兰的某些信仰习俗，作为传扬福音的接触点，我们便要对这些习俗，重新作某程度的认知，欣赏刚和接纳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CEB1C-59E1-4A6E-B4E4-955777F85050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27000" y="0"/>
            <a:ext cx="121651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经典楷体简"/>
              </a:rPr>
              <a:t>当基督遇见文化习俗时，会有怎样的结果？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ff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  <a:ea typeface="经典楷体简"/>
              </a:rPr>
              <a:t>基督反文化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细圆简"/>
              </a:rPr>
              <a:t>人文的文化的习俗中，有些是不圣洁，不道德的。当遇见基督时，这些文化习俗必是冲突，必不能容许。例如印度的妇女陪葬文化；可以打妻子；多妻等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ff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  <a:ea typeface="经典楷体简"/>
              </a:rPr>
              <a:t>基督改造文化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细圆简"/>
              </a:rPr>
              <a:t>有些文化习俗存在「正邪之间」，像这样的文化遇见基督时，必须加以改造。例如重男轻女；孝道中的祭祖，无后为大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ff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  <a:ea typeface="经典楷体简"/>
              </a:rPr>
              <a:t>基督提升文化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细圆简"/>
              </a:rPr>
              <a:t>有些文化具有崇高的人文价值，是基督愿意提升的；尊师重道，孝敬父母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ff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  <a:ea typeface="经典楷体简"/>
              </a:rPr>
              <a:t>基督与文化相补相成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细圆简"/>
              </a:rPr>
              <a:t>许多的中庸之道，有了福音大能的力量，就更加能够相补相成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57A48-1F95-49E9-BBE7-C1A6CF32F059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-96840" y="0"/>
            <a:ext cx="12169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文化意识形态的运用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穆斯林履行五功的责任，借以获得功德，这与基督教的救恩论不同。首先需要要求的，不是形式上的改变，而是意义（核心，灵意）上的转变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当穆斯林向他所保留的形式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习俗与习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Microsoft JhengHei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，注入新的意义；在形式背後，若已蕴藏着崭新的基督灵意（新心），而这些形式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习俗与习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Microsoft JhengHei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与基督教基要信仰，没有抵处，若他还认为可以保留以同样的文化形式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YouYuan"/>
              </a:rPr>
              <a:t>习俗与习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Microsoft JhengHei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行事，通常这样的形式，在基督里可能已经不具混合的危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78BF0-6F69-4183-8044-16C1A58092C4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7000" y="0"/>
            <a:ext cx="12138120" cy="76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经典楷体简"/>
              </a:rPr>
              <a:t>例子讨论：一个波斯穆斯林的婚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新娘与新郎平排而坐，面向镜子，意味着他们看见的还是自己，并没有直接与完全认识对方，他们的前面铺着一块布，上面放着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1.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可兰经在中央，表示这是他们的信仰中心                                 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2.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新鲜的蔬菜，表示婚姻历久长青                                 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3.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金鱼，表示婚姻如鱼得水                                                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4.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面包，表示餐桌永不缺乏                                                         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5.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鸡蛋，表示生养众多                                                                 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6.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糖块，表示婚姻甜蜜                                                                 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7.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腊烛，表示神会带领指引他们光明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在这些形态之中，有那个需要从新基督灵意化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D3288-6E12-4573-AD0F-0E69FFCEE743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0" y="0"/>
            <a:ext cx="121651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文鼎中楷简"/>
              </a:rPr>
              <a:t>第四课：穆斯林的世界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  <a:ea typeface="文鼎中楷简"/>
              </a:rPr>
              <a:t>A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文鼎中楷简"/>
              </a:rPr>
              <a:t>）世界观的定义：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中楷简"/>
              </a:rPr>
              <a:t>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中楷简"/>
              </a:rPr>
              <a:t>行为’可被视为世界观的外显，属於文化的意义与形式（习俗）的层面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中楷简"/>
              </a:rPr>
              <a:t>世界观则是中心，处於文化与意义更深的层面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中楷简"/>
              </a:rPr>
              <a:t>要明白别人的世界，只要透过观察，分析他们行为模式的核心价值，中心点，就大概可以找到影响他的世界观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EE619-A0D7-49D1-8DCE-640584B89ADA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7000" y="0"/>
            <a:ext cx="1213812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文鼎中楷简"/>
              </a:rPr>
              <a:t>学者对世界观的定义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文鼎中楷简"/>
              </a:rPr>
              <a:t>奈达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文鼎中楷简"/>
              </a:rPr>
              <a:t>Eugenu Nida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文鼎中楷简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中楷简"/>
              </a:rPr>
              <a:t>                                                                                一个价值的系统；一个民族对世界的看法，它包含对人生普遍和全面的观念，目的与假设。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文鼎中楷简"/>
              </a:rPr>
              <a:t>2.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文鼎中楷简"/>
              </a:rPr>
              <a:t>罗伯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文鼎中楷简"/>
              </a:rPr>
              <a:t>Robert Redfiel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中楷简"/>
              </a:rPr>
              <a:t>                   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中楷简"/>
              </a:rPr>
              <a:t>世界观是以作为主角的「我」，用我个人的价值观，在短舞台上望向其它的人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文鼎中楷简"/>
              </a:rPr>
              <a:t>3.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文鼎中楷简"/>
              </a:rPr>
              <a:t>雅各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文鼎中楷简"/>
              </a:rPr>
              <a:t>James Si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中楷简"/>
              </a:rPr>
              <a:t>                             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中楷简"/>
              </a:rPr>
              <a:t>世界观是我们世界的基本结构，所持有的一套预先假设的价值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中楷简"/>
              </a:rPr>
              <a:t>世界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中楷简"/>
              </a:rPr>
              <a:t>=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文鼎中楷简"/>
              </a:rPr>
              <a:t>人所视为有核心价值的做法，讲法，想法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12164-7C05-486E-95D3-802C270DA39D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47520" y="0"/>
            <a:ext cx="12117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文鼎中楷简"/>
              </a:rPr>
              <a:t>B)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文鼎中楷简"/>
              </a:rPr>
              <a:t>穆斯林的世界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中楷简"/>
              </a:rPr>
              <a:t>你会惊讶的发现，不论穆斯林属那一种民族；言语，地理，文化有何等的差异，穆斯林的世界观是相当一致的；这形成了所谓「单一的穆斯林世界观」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中楷简"/>
              </a:rPr>
              <a:t>穆斯林的世界观，受其信仰与宗教操行的价值所主导；他们会带着自己的眼光，来看待其它文化与词语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中楷简"/>
              </a:rPr>
              <a:t>一个相同的宗教术语，在两个不同的宗教理解里，常会引起理解上的对立。基督徒要有效的传福音给他们，必须掌握这些异同之处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CDD8C-F195-42B1-80F8-F9F001E1C9E7}" type="slidenum">
              <a:rPr b="1" lang="en-US" sz="1200" spc="-1" strike="noStrike">
                <a:solidFill>
                  <a:srgbClr val="d38e27"/>
                </a:solidFill>
                <a:latin typeface="长城细圆体"/>
                <a:ea typeface="长城细圆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07880" y="0"/>
          <a:ext cx="11449080" cy="6765840"/>
        </p:xfrm>
        <a:graphic>
          <a:graphicData uri="http://schemas.openxmlformats.org/drawingml/2006/table">
            <a:tbl>
              <a:tblPr/>
              <a:tblGrid>
                <a:gridCol w="1576440"/>
                <a:gridCol w="5229360"/>
                <a:gridCol w="4643280"/>
              </a:tblGrid>
              <a:tr h="51840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长城细圆体"/>
                          <a:ea typeface="长城细圆体"/>
                        </a:rPr>
                        <a:t>穆斯林与基督教的某些宗教术语的异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长城细圆体"/>
                          <a:ea typeface="长城细圆体"/>
                        </a:rPr>
                        <a:t>词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长城细圆体"/>
                          <a:ea typeface="长城细圆体"/>
                        </a:rPr>
                        <a:t>穆斯林的认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长城细圆体"/>
                          <a:ea typeface="长城细圆体"/>
                        </a:rPr>
                        <a:t>基督教的认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长城细圆体"/>
                          <a:ea typeface="长城细圆体"/>
                        </a:rPr>
                        <a:t>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长城细圆体"/>
                          <a:ea typeface="长城细圆体"/>
                        </a:rPr>
                        <a:t>一位独立永远的创造者，不生养，不收养，遥不可及，拥有绝对主权，会报复，定善恶，大方，有怜悯，全知全能，变化莫测，使人上天堂下地狱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长城细圆体"/>
                          <a:ea typeface="长城细圆体"/>
                        </a:rPr>
                        <a:t>创造者，无所不知，无所不在，无所不能，与人同在，掌管万有，圣洁，充满爱心，众人的父，三位一体神，为人类预备了救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长城细圆体"/>
                          <a:ea typeface="长城细圆体"/>
                        </a:rPr>
                        <a:t>耶稣基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9900"/>
                          </a:solidFill>
                          <a:latin typeface="长城细圆体"/>
                          <a:ea typeface="长城细圆体"/>
                        </a:rPr>
                        <a:t>称他为尔撒麦西哈；表面尊重尔撒，心中憎恶基督教；为童女所生，无罪圣洁的先知，不是神的儿子，未见死而进天堂，还要以穆斯林身份回来帮助马帝建立回教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长城细圆体"/>
                          <a:ea typeface="长城细圆体"/>
                        </a:rPr>
                        <a:t>道成肉身，旧约所预言的基督救世主，神的独身子，完全的神完全的人，神的羔羊完成救赎，复活升天为大祭司，第二次再来建立神的国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9200B-7CCC-411D-B3E7-B517C34D62E5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0" y="0"/>
            <a:ext cx="121921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＊福音高於一切的文化，礼仪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把律法与任何的礼仪，规范，文化，强加在外邦信徒身上时，使徒认为这是一种为难（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15:19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＊使徒雅各提出合乎真理与文化并重的认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15: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「只要写信，吩咐他们禁戒偶像的污秽和奸淫，并勒死的牲畜和血」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＊使徒对本土化应用的原则是：考虑放下自己，好使别人能同得福音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要求信主的人，为别人良心软弱的原固，放下自己的自由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EA186-4780-4654-BE7C-F15766B4B3D1}" type="slidenum">
              <a:rPr b="0" lang="en-US" sz="1200" spc="-1" strike="noStrike">
                <a:solidFill>
                  <a:srgbClr val="d38e27"/>
                </a:solidFill>
                <a:latin typeface="长城细圆体"/>
                <a:ea typeface="长城细圆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07880" y="44280"/>
          <a:ext cx="11520720" cy="6834240"/>
        </p:xfrm>
        <a:graphic>
          <a:graphicData uri="http://schemas.openxmlformats.org/drawingml/2006/table">
            <a:tbl>
              <a:tblPr/>
              <a:tblGrid>
                <a:gridCol w="862200"/>
                <a:gridCol w="5170320"/>
                <a:gridCol w="5488200"/>
              </a:tblGrid>
              <a:tr h="2651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长城细圆体"/>
                          <a:ea typeface="长城细圆体"/>
                        </a:rPr>
                        <a:t>圣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长城细圆体"/>
                          <a:ea typeface="长城细圆体"/>
                        </a:rPr>
                        <a:t>认为圣经包括摩西五经，大卫的诗篇，耶稣的福音。由於古兰经与圣经有矛盾之处，结果把圣经说成已经被篡改，变质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长城细圆体"/>
                          <a:ea typeface="长城细圆体"/>
                        </a:rPr>
                        <a:t>圣经旧约为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长城细圆体"/>
                          <a:ea typeface="长城细圆体"/>
                        </a:rPr>
                        <a:t>39</a:t>
                      </a: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长城细圆体"/>
                          <a:ea typeface="长城细圆体"/>
                        </a:rPr>
                        <a:t>卷，新约为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长城细圆体"/>
                          <a:ea typeface="长城细圆体"/>
                        </a:rPr>
                        <a:t>27</a:t>
                      </a: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长城细圆体"/>
                          <a:ea typeface="长城细圆体"/>
                        </a:rPr>
                        <a:t>卷，是神所默示的话，考古证实圣经流传至今并没有误差。任何增加经书的举动必导至异端的产生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长城细圆体"/>
                          <a:ea typeface="长城细圆体"/>
                        </a:rPr>
                        <a:t>三位一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长城细圆体"/>
                          <a:ea typeface="长城细圆体"/>
                        </a:rPr>
                        <a:t>虽然有提到神，神的道，神的灵，却不了解三位一体；误以为三位一体是：上帝，玛利亚，耶稣；坚决反对三位一体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长城细圆体"/>
                          <a:ea typeface="长城细圆体"/>
                        </a:rPr>
                        <a:t>上帝以圣父，圣子，圣灵向人类启示他自己。三位同尊同荣，这是基督教的基要信仰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长城细圆体"/>
                          <a:ea typeface="长城细圆体"/>
                        </a:rPr>
                        <a:t>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长城细圆体"/>
                          <a:ea typeface="长城细圆体"/>
                        </a:rPr>
                        <a:t>没有原罪的观点，视罪为人性的软弱无知，重视罪的刑罚，面子与羞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长城细圆体"/>
                          <a:ea typeface="长城细圆体"/>
                        </a:rPr>
                        <a:t>认为人有罪性，必须重生，顺服圣灵才能脱离肉体中犯罪的律；重视内疚良心，懊悔，悔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3F43B-35F5-47F9-AC30-28E563B88A03}" type="slidenum">
              <a:rPr b="1" lang="en-US" sz="1200" spc="-1" strike="noStrike">
                <a:solidFill>
                  <a:srgbClr val="d38e27"/>
                </a:solidFill>
                <a:latin typeface="长城细圆体"/>
                <a:ea typeface="长城细圆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19160" y="0"/>
          <a:ext cx="11880720" cy="5730840"/>
        </p:xfrm>
        <a:graphic>
          <a:graphicData uri="http://schemas.openxmlformats.org/drawingml/2006/table">
            <a:tbl>
              <a:tblPr/>
              <a:tblGrid>
                <a:gridCol w="1655640"/>
                <a:gridCol w="4753080"/>
                <a:gridCol w="5472000"/>
              </a:tblGrid>
              <a:tr h="307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长城细圆体"/>
                          <a:ea typeface="长城细圆体"/>
                        </a:rPr>
                        <a:t>因信称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长城细圆体"/>
                          <a:ea typeface="长城细圆体"/>
                        </a:rPr>
                        <a:t>基本信仰操行为六大信条，五大修功，三项义务。相信除了安拉，没有别神，穆罕默德是他的先知。把信心完全放在效法穆罕默德的榜样。教法规就是圣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长城细圆体"/>
                          <a:ea typeface="长城细圆体"/>
                        </a:rPr>
                        <a:t>基督教的信是基於上帝为人类计划了救恩：将他的独身子赐给他们，叫一切信他的不致灭亡反得永生。基督徒把信靠放在耶稣基督身上。信靠基督的神就以此为我们的义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2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长城细圆体"/>
                          <a:ea typeface="长城细圆体"/>
                        </a:rPr>
                        <a:t>救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长城细圆体"/>
                          <a:ea typeface="长城细圆体"/>
                        </a:rPr>
                        <a:t>类似旧约，靠宗教操行与善功救自己，接受穆罕默德的说法与榜样。要到复活日的审判以後，才知道是否能得救。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长城细圆体"/>
                          <a:ea typeface="长城细圆体"/>
                        </a:rPr>
                        <a:t>救恩在旧约是顺从神，加上信靠礼拜的赎罪与善行。新约则是信福音重生，成为新造的人，被圣灵引导，活出义行。救恩是确定的：信而受洗的，必然得救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030A2-7C07-4597-A83E-C3F5E8929A51}" type="slidenum">
              <a:rPr b="1" lang="en-US" sz="1200" spc="-1" strike="noStrike">
                <a:solidFill>
                  <a:srgbClr val="d38e27"/>
                </a:solidFill>
                <a:latin typeface="长城细圆体"/>
                <a:ea typeface="长城细圆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07880" y="0"/>
          <a:ext cx="11376000" cy="6242040"/>
        </p:xfrm>
        <a:graphic>
          <a:graphicData uri="http://schemas.openxmlformats.org/drawingml/2006/table">
            <a:tbl>
              <a:tblPr/>
              <a:tblGrid>
                <a:gridCol w="2124360"/>
                <a:gridCol w="4338360"/>
                <a:gridCol w="4913280"/>
              </a:tblGrid>
              <a:tr h="230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长城细圆体"/>
                          <a:ea typeface="长城细圆体"/>
                        </a:rPr>
                        <a:t>成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长城细圆体"/>
                          <a:ea typeface="长城细圆体"/>
                        </a:rPr>
                        <a:t>透过顺服真主，宗教礼仪，善行，清真合法，五大功修为主要的操行。鲜少有个人经历神同在的经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长城细圆体"/>
                          <a:ea typeface="长城细圆体"/>
                        </a:rPr>
                        <a:t>得救是起点，成圣则是迈向圣洁的生活；人须顺服神，渴慕神同在，追求真理，体贴圣灵的引导，过荣耀神的生活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长城细圆体"/>
                          <a:ea typeface="长城细圆体"/>
                        </a:rPr>
                        <a:t>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长城细圆体"/>
                          <a:ea typeface="长城细圆体"/>
                        </a:rPr>
                        <a:t>穆斯林不能宣称神就是爱。伊斯兰教导不能和异教徒来往；甚至要异教徒交重的丁税。故穆斯林主要重视大家庭中关系的爱，他们很少会关心，负担家庭以外之人的责任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长城细圆体"/>
                          <a:ea typeface="长城细圆体"/>
                        </a:rPr>
                        <a:t>基督教强调神就是爱，耶稣的命令是要求「爱人如己，要为仇敌祷告」，爱超越律法也完全律法的义。怜恤人是基督徒强调的美德，故基督信仰重视相爱，平等，尊重，不会主动去把异教徒从团契中割除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06FDC-D3DF-493C-9D07-D10A96A7A1E1}" type="slidenum">
              <a:rPr b="1" lang="en-US" sz="1200" spc="-1" strike="noStrike">
                <a:solidFill>
                  <a:srgbClr val="d38e27"/>
                </a:solidFill>
                <a:latin typeface="长城细圆体"/>
                <a:ea typeface="长城细圆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63520" y="0"/>
          <a:ext cx="11665080" cy="7010280"/>
        </p:xfrm>
        <a:graphic>
          <a:graphicData uri="http://schemas.openxmlformats.org/drawingml/2006/table">
            <a:tbl>
              <a:tblPr/>
              <a:tblGrid>
                <a:gridCol w="1371600"/>
                <a:gridCol w="5216400"/>
                <a:gridCol w="5077080"/>
              </a:tblGrid>
              <a:tr h="307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长城细圆体"/>
                          <a:ea typeface="长城细圆体"/>
                        </a:rPr>
                        <a:t>从神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长城细圆体"/>
                          <a:ea typeface="长城细圆体"/>
                        </a:rPr>
                        <a:t>重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长城细圆体"/>
                          <a:ea typeface="长城细圆体"/>
                        </a:rPr>
                        <a:t>神不收养也不生养，说神有儿女或人能借助重生成为神的儿女，被穆斯林视为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长城细圆体"/>
                          <a:ea typeface="长城细圆体"/>
                        </a:rPr>
                        <a:t>『</a:t>
                      </a: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长城细圆体"/>
                          <a:ea typeface="长城细圆体"/>
                        </a:rPr>
                        <a:t>为主举伴，以物配主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长城细圆体"/>
                          <a:ea typeface="长城细圆体"/>
                        </a:rPr>
                        <a:t>』</a:t>
                      </a: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长城细圆体"/>
                          <a:ea typeface="长城细圆体"/>
                        </a:rPr>
                        <a:t>。然而，朝觐者却能得初生（重生）般纯洁的概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长城细圆体"/>
                          <a:ea typeface="长城细圆体"/>
                        </a:rPr>
                        <a:t>从肉身生就是肉身，从灵生就是灵。人必须接受耶稣基督的救恩，从神生，才能进神的国，见神的国，拥有圣灵，得救的新生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长城细圆体"/>
                          <a:ea typeface="长城细圆体"/>
                        </a:rPr>
                        <a:t>神国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长城细圆体"/>
                          <a:ea typeface="长城细圆体"/>
                        </a:rPr>
                        <a:t>穆斯林没有明确的神国观念。却有神权统治的观念。认为一个国家若被穆斯林用伊斯兰法来统治，人人按伊斯兰教法规来生活，那就是平安之地，进入神权统治，等同神国降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长城细圆体"/>
                          <a:ea typeface="长城细圆体"/>
                        </a:rPr>
                        <a:t>一个人接受福音，重生，有圣灵的引导，在爱中行事，那就是有了神国的治理。他的心就是神国的地土，他就成了神国的子民。神国完全的实现，要等到身体得赎，新天新地才完全的实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BC05F-006D-4BB6-8E17-F0FB7EC8EEC2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27000" y="0"/>
            <a:ext cx="119728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Microsoft JhengHei"/>
              </a:rPr>
              <a:t>伊斯兰民间宗教：超自然的力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Microsoft JhengHei"/>
              </a:rPr>
              <a:t>⊕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Microsoft JhengHei"/>
              </a:rPr>
              <a:t>伊斯兰的世界观，充满对精灵的意识，这并不局限於某国的穆斯林。在许多地方，皆对圣人产生崇拜；当然他们不会同意那是崇拜，只是为得到圣人中保式的祝福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Microsoft JhengHei"/>
              </a:rPr>
              <a:t>⊕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Microsoft JhengHei"/>
              </a:rPr>
              <a:t>许多穆斯林喜戴着宗教饰物，或写有古兰经文的护身符。目的是阻挡恶魔，带来好运。他们相信旁晚时间，恶精灵会出来工作，要使用古兰经文与祷告就能抵挡它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Microsoft JhengHei"/>
              </a:rPr>
              <a:t>⊕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Microsoft JhengHei"/>
              </a:rPr>
              <a:t>许多时候，穆斯林的领袖，运用人们的顺从，迷信，宗教习俗和权柄，支配着人们。非洲的穆斯林会采取诅咒的方式，来攻击欺骗和冒犯他们的人。亚洲的穆斯林会用下降头，用咒语使仇敌遭受严重打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icrosoft JhengHei"/>
              </a:rPr>
              <a:t>⊕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Microsoft JhengHei"/>
              </a:rPr>
              <a:t>穆斯林认为若有人存贪婪的眼，看着别人的东西，那东西就可以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YouYuan"/>
              </a:rPr>
              <a:t>为有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Microsoft JhengHei"/>
              </a:rPr>
              <a:t>「凶恶的眼」而遭遇打击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152388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27000" y="0"/>
            <a:ext cx="121381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Microsoft JhengHei"/>
              </a:rPr>
              <a:t>世界观所引起的障礙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Arial"/>
                <a:ea typeface="Microsoft JhengHei"/>
              </a:rPr>
              <a:t>⊕</a:t>
            </a:r>
            <a:r>
              <a:rPr b="1" lang="zh-TW" sz="3200" spc="-1" strike="noStrike">
                <a:solidFill>
                  <a:srgbClr val="3333ff"/>
                </a:solidFill>
                <a:latin typeface="Arial"/>
                <a:ea typeface="Microsoft JhengHei"/>
              </a:rPr>
              <a:t>与宗教有关的：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Microsoft JhengHei"/>
              </a:rPr>
              <a:t>                                                                                    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Microsoft JhengHei"/>
              </a:rPr>
              <a:t>敬拜的日期；教会组织；基督徒的名字，十字军历史；神职人员；教会建筑；十字架；三位一体；耶稣是主；圣经地位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Arial"/>
                <a:ea typeface="Microsoft JhengHei"/>
              </a:rPr>
              <a:t>⊕</a:t>
            </a:r>
            <a:r>
              <a:rPr b="1" lang="zh-TW" sz="3200" spc="-1" strike="noStrike">
                <a:solidFill>
                  <a:srgbClr val="3333ff"/>
                </a:solidFill>
                <a:latin typeface="Arial"/>
                <a:ea typeface="Microsoft JhengHei"/>
              </a:rPr>
              <a:t>与文化有关的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Microsoft JhengHei"/>
              </a:rPr>
              <a:t>                                                   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Microsoft JhengHei"/>
              </a:rPr>
              <a:t>有没有受割礼，出生仪式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YouYuan"/>
              </a:rPr>
              <a:t>（献羊赎孩子）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Microsoft JhengHei"/>
              </a:rPr>
              <a:t>；婚礼；丧礼，洁净与清真；西方人身份；老人的地位；家庭的架构；群体主义；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新宋体"/>
                <a:ea typeface="Microsoft JhengHei"/>
              </a:rPr>
              <a:t>⊕</a:t>
            </a:r>
            <a:r>
              <a:rPr b="1" lang="zh-TW" sz="3200" spc="-1" strike="noStrike">
                <a:solidFill>
                  <a:srgbClr val="3333ff"/>
                </a:solidFill>
                <a:latin typeface="新宋体"/>
                <a:ea typeface="Microsoft JhengHei"/>
              </a:rPr>
              <a:t>与生活有关的：                            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Microsoft JhengHei"/>
              </a:rPr>
              <a:t>喝酒；吃猪肉；约会；女人的地位；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Microsoft JhengHei"/>
              </a:rPr>
              <a:t>音乐，电视与电影，穿着；不洁净的食物，婚姻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FC6C7-BBBF-4D2B-BB88-150C9FCD264E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5D567-DE51-41B2-ACDE-A718995E198F}" type="slidenum">
              <a:rPr b="1" lang="en-US" sz="1200" spc="-1" strike="noStrike">
                <a:solidFill>
                  <a:srgbClr val="f0a22e"/>
                </a:solidFill>
                <a:latin typeface="Corbe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0" y="0"/>
            <a:ext cx="1216512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教向伊斯兰教文化背景中的人群宣教时，应采取本土化策略，以尊重对方的文化、语言和宗教背景，同时保持福音的核心信息不变。以下是一些建议措施：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icrosoft JhengHe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尊重文化与宗教背景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深入了解伊斯兰文化：理解伊斯兰教的信仰核心（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五功等）和当地风俗习惯，以避免无意冒犯。                      </a:t>
            </a:r>
            <a:r>
              <a:rPr b="1" lang="en-US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使用包容性语言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避免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或穆罕默德的直接批评，而是通过尊重的对话，引发思想交流。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JhengHe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. 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注重语言与表达 </a:t>
            </a:r>
            <a:r>
              <a:rPr b="1" lang="en-US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用熟悉的术语：比如用“先知耶稣”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sa al-Masih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而非陌生的称呼，帮助听众更容易接受。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提供翻译的圣经和基督教材料：将内容翻译成目标群体的母语，如阿拉伯语、乌尔都语等。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3. 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建立关系为基础的宣教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开展对话而非争论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采用问答形式，与他们分享福音，而非试图赢得辩论。 </a:t>
            </a:r>
            <a:r>
              <a:rPr b="1" lang="en-US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注重关怀行动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通过教育、医疗或社会服务展示基督教爱心，吸引穆斯林的注意和信任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1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EE324-608B-4BAA-B383-958601F5146F}" type="slidenum">
              <a:rPr b="1" lang="en-US" sz="1200" spc="-1" strike="noStrike">
                <a:solidFill>
                  <a:srgbClr val="f0a22e"/>
                </a:solidFill>
                <a:latin typeface="Corbe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0" y="44280"/>
            <a:ext cx="12072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Corbel"/>
              </a:rPr>
              <a:t>4. </a:t>
            </a:r>
            <a:r>
              <a:rPr b="0" lang="en-MY" sz="2800" spc="-1" strike="noStrike">
                <a:solidFill>
                  <a:srgbClr val="ff0000"/>
                </a:solidFill>
                <a:latin typeface="Corbel"/>
              </a:rPr>
              <a:t>强调共同点 • </a:t>
            </a:r>
            <a:r>
              <a:rPr b="0" lang="en-MY" sz="2800" spc="-1" strike="noStrike">
                <a:solidFill>
                  <a:srgbClr val="000000"/>
                </a:solidFill>
                <a:latin typeface="Corbel"/>
              </a:rPr>
              <a:t>从共同信仰出发：如双方都尊重独一真神（</a:t>
            </a:r>
            <a:r>
              <a:rPr b="0" lang="en-MY" sz="2800" spc="-1" strike="noStrike">
                <a:solidFill>
                  <a:srgbClr val="000000"/>
                </a:solidFill>
                <a:latin typeface="Corbel"/>
              </a:rPr>
              <a:t>Allah</a:t>
            </a:r>
            <a:r>
              <a:rPr b="0" lang="en-MY" sz="2800" spc="-1" strike="noStrike">
                <a:solidFill>
                  <a:srgbClr val="000000"/>
                </a:solidFill>
                <a:latin typeface="Corbel"/>
              </a:rPr>
              <a:t>）和许多相同的先知（亚伯拉罕、摩西、耶稣）。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800" spc="-1" strike="noStrike">
                <a:solidFill>
                  <a:srgbClr val="3333ff"/>
                </a:solidFill>
                <a:latin typeface="Corbel"/>
              </a:rPr>
              <a:t>• </a:t>
            </a:r>
            <a:r>
              <a:rPr b="0" lang="en-MY" sz="2800" spc="-1" strike="noStrike">
                <a:solidFill>
                  <a:srgbClr val="3333ff"/>
                </a:solidFill>
                <a:latin typeface="Corbel"/>
              </a:rPr>
              <a:t>桥接文化：</a:t>
            </a:r>
            <a:r>
              <a:rPr b="0" lang="en-MY" sz="2800" spc="-1" strike="noStrike">
                <a:solidFill>
                  <a:srgbClr val="000000"/>
                </a:solidFill>
                <a:latin typeface="Corbel"/>
              </a:rPr>
              <a:t>以伊斯兰文化中的故事或概念为起点，比如谈论亚伯拉罕献祭的信心。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Corbel"/>
              </a:rPr>
              <a:t>5. </a:t>
            </a:r>
            <a:r>
              <a:rPr b="0" lang="en-MY" sz="2800" spc="-1" strike="noStrike">
                <a:solidFill>
                  <a:srgbClr val="ff0000"/>
                </a:solidFill>
                <a:latin typeface="Corbel"/>
              </a:rPr>
              <a:t>小组与社区策略 </a:t>
            </a:r>
            <a:r>
              <a:rPr b="0" lang="en-MY" sz="2800" spc="-1" strike="noStrike">
                <a:solidFill>
                  <a:srgbClr val="000000"/>
                </a:solidFill>
                <a:latin typeface="Corbel"/>
              </a:rPr>
              <a:t>• 以家庭为单位传福音：穆斯林文化倾向于重视家庭，因此可以通过家庭探访或小组聚会传递信息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800" spc="-1" strike="noStrike">
                <a:solidFill>
                  <a:srgbClr val="3333ff"/>
                </a:solidFill>
                <a:latin typeface="Corbel"/>
              </a:rPr>
              <a:t> • </a:t>
            </a:r>
            <a:r>
              <a:rPr b="0" lang="en-MY" sz="2800" spc="-1" strike="noStrike">
                <a:solidFill>
                  <a:srgbClr val="3333ff"/>
                </a:solidFill>
                <a:latin typeface="Corbel"/>
              </a:rPr>
              <a:t>尊重群体文化</a:t>
            </a:r>
            <a:r>
              <a:rPr b="0" lang="en-MY" sz="2800" spc="-1" strike="noStrike">
                <a:solidFill>
                  <a:srgbClr val="000000"/>
                </a:solidFill>
                <a:latin typeface="Corbel"/>
              </a:rPr>
              <a:t>：鼓励群体决策，而非单独个体转换信仰。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Corbel"/>
              </a:rPr>
              <a:t>6. </a:t>
            </a:r>
            <a:r>
              <a:rPr b="0" lang="en-MY" sz="2800" spc="-1" strike="noStrike">
                <a:solidFill>
                  <a:srgbClr val="ff0000"/>
                </a:solidFill>
                <a:latin typeface="Corbel"/>
              </a:rPr>
              <a:t>调整礼拜与聚会形式 </a:t>
            </a:r>
            <a:r>
              <a:rPr b="0" lang="en-MY" sz="2800" spc="-1" strike="noStrike">
                <a:solidFill>
                  <a:srgbClr val="000000"/>
                </a:solidFill>
                <a:latin typeface="Corbel"/>
              </a:rPr>
              <a:t>• 采用当地风格的敬拜：如使用符合伊斯兰文化的音乐或建筑风格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800" spc="-1" strike="noStrike">
                <a:solidFill>
                  <a:srgbClr val="3333ff"/>
                </a:solidFill>
                <a:latin typeface="Corbel"/>
              </a:rPr>
              <a:t> • </a:t>
            </a:r>
            <a:r>
              <a:rPr b="0" lang="en-MY" sz="2800" spc="-1" strike="noStrike">
                <a:solidFill>
                  <a:srgbClr val="3333ff"/>
                </a:solidFill>
                <a:latin typeface="Corbel"/>
              </a:rPr>
              <a:t>适应伊斯兰礼拜时间</a:t>
            </a:r>
            <a:r>
              <a:rPr b="0" lang="en-MY" sz="2800" spc="-1" strike="noStrike">
                <a:solidFill>
                  <a:srgbClr val="000000"/>
                </a:solidFill>
                <a:latin typeface="Corbel"/>
              </a:rPr>
              <a:t>：避免与穆斯林礼拜冲突的时间安排活动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651F1-E88F-43A4-B7E9-A5D9D3E484B3}" type="slidenum">
              <a:rPr b="1" lang="en-US" sz="1200" spc="-1" strike="noStrike">
                <a:solidFill>
                  <a:srgbClr val="f0a22e"/>
                </a:solidFill>
                <a:latin typeface="Corbe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0" y="0"/>
            <a:ext cx="12165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Corbel"/>
              </a:rPr>
              <a:t>7. </a:t>
            </a:r>
            <a:r>
              <a:rPr b="0" lang="en-MY" sz="2800" spc="-1" strike="noStrike">
                <a:solidFill>
                  <a:srgbClr val="ff0000"/>
                </a:solidFill>
                <a:latin typeface="Corbel"/>
              </a:rPr>
              <a:t>长期陪伴与耐心 •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orbel"/>
              </a:rPr>
              <a:t>不急于求成：穆斯林的宗教转换常面临巨大压力，需要长期的陪伴和耐心。 •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800" spc="-1" strike="noStrike">
                <a:solidFill>
                  <a:srgbClr val="3333ff"/>
                </a:solidFill>
                <a:latin typeface="Corbel"/>
              </a:rPr>
              <a:t>培养本地信徒：</a:t>
            </a:r>
            <a:r>
              <a:rPr b="0" lang="en-MY" sz="2800" spc="-1" strike="noStrike">
                <a:solidFill>
                  <a:srgbClr val="000000"/>
                </a:solidFill>
                <a:latin typeface="Corbel"/>
              </a:rPr>
              <a:t>让信仰成熟的本地人来带领宣教事工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Corbel"/>
              </a:rPr>
              <a:t>8. </a:t>
            </a:r>
            <a:r>
              <a:rPr b="0" lang="en-MY" sz="2800" spc="-1" strike="noStrike">
                <a:solidFill>
                  <a:srgbClr val="ff0000"/>
                </a:solidFill>
                <a:latin typeface="Corbel"/>
              </a:rPr>
              <a:t>祷告与圣灵引导 •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orbel"/>
              </a:rPr>
              <a:t>依靠祷告：为穆斯林朋友的心灵敞开祷告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800" spc="-1" strike="noStrike">
                <a:solidFill>
                  <a:srgbClr val="3333ff"/>
                </a:solidFill>
                <a:latin typeface="Corbel"/>
              </a:rPr>
              <a:t> • </a:t>
            </a:r>
            <a:r>
              <a:rPr b="0" lang="en-MY" sz="2800" spc="-1" strike="noStrike">
                <a:solidFill>
                  <a:srgbClr val="3333ff"/>
                </a:solidFill>
                <a:latin typeface="Corbel"/>
              </a:rPr>
              <a:t>信靠圣灵的工作：</a:t>
            </a:r>
            <a:r>
              <a:rPr b="0" lang="en-MY" sz="2800" spc="-1" strike="noStrike">
                <a:solidFill>
                  <a:srgbClr val="000000"/>
                </a:solidFill>
                <a:latin typeface="Corbel"/>
              </a:rPr>
              <a:t>深信圣灵可以打破一切文化和宗教障碍。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orbel"/>
              </a:rPr>
              <a:t>注意事项 • 避免强制或诱导：尊重每个人的自由选择。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800" spc="-1" strike="noStrike">
                <a:solidFill>
                  <a:srgbClr val="3333ff"/>
                </a:solidFill>
                <a:latin typeface="Corbel"/>
              </a:rPr>
              <a:t>• </a:t>
            </a:r>
            <a:r>
              <a:rPr b="0" lang="en-MY" sz="2800" spc="-1" strike="noStrike">
                <a:solidFill>
                  <a:srgbClr val="3333ff"/>
                </a:solidFill>
                <a:latin typeface="Corbel"/>
              </a:rPr>
              <a:t>遵守当地法律</a:t>
            </a:r>
            <a:r>
              <a:rPr b="0" lang="en-MY" sz="2800" spc="-1" strike="noStrike">
                <a:solidFill>
                  <a:srgbClr val="000000"/>
                </a:solidFill>
                <a:latin typeface="Corbel"/>
              </a:rPr>
              <a:t>：在宣教时，确保不违反所在国家的宗教政策。  通过尊重、智慧和爱心传递福音，才能更有效地在伊斯兰文化中开展宣教工作</a:t>
            </a:r>
            <a:r>
              <a:rPr b="0" lang="en-MY" sz="1800" spc="-1" strike="noStrike">
                <a:solidFill>
                  <a:srgbClr val="000000"/>
                </a:solidFill>
                <a:latin typeface="Corbe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55F89-529A-475D-B359-37C0B449BB82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47520" y="0"/>
            <a:ext cx="12096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经典楷体简"/>
              </a:rPr>
              <a:t>⊕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经典楷体简"/>
              </a:rPr>
              <a:t>保罗在哥林多城所遇见的本土化考量：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经典楷体简"/>
              </a:rPr>
              <a:t>                                                     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经典楷体简"/>
              </a:rPr>
              <a:t>吃祭偶像之物（林前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经典楷体简"/>
              </a:rPr>
              <a:t>8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经典楷体简"/>
              </a:rPr>
              <a:t>＆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经典楷体简"/>
              </a:rPr>
              <a:t>10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经典楷体简"/>
              </a:rPr>
              <a:t>章）　　　　　　　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经典楷体简"/>
              </a:rPr>
              <a:t>　　　　　　　　　　　　　　　　　　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Arial"/>
                <a:ea typeface="经典楷体简"/>
              </a:rPr>
              <a:t>不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  <a:ea typeface="经典楷体简"/>
              </a:rPr>
              <a:t>涉及</a:t>
            </a:r>
            <a:r>
              <a:rPr b="0" lang="zh-TW" sz="2800" spc="-1" strike="noStrike">
                <a:solidFill>
                  <a:srgbClr val="009900"/>
                </a:solidFill>
                <a:latin typeface="Arial"/>
                <a:ea typeface="经典楷体简"/>
              </a:rPr>
              <a:t>敬拜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  <a:ea typeface="经典楷体简"/>
              </a:rPr>
              <a:t>团契</a:t>
            </a:r>
            <a:r>
              <a:rPr b="0" lang="zh-TW" sz="2800" spc="-1" strike="noStrike">
                <a:solidFill>
                  <a:srgbClr val="009900"/>
                </a:solidFill>
                <a:latin typeface="Arial"/>
                <a:ea typeface="经典楷体简"/>
              </a:rPr>
              <a:t>的情况下，偶像之物不算的什么</a:t>
            </a:r>
            <a:r>
              <a:rPr b="0" lang="zh-CN" sz="2800" spc="-1" strike="noStrike">
                <a:solidFill>
                  <a:srgbClr val="660033"/>
                </a:solidFill>
                <a:latin typeface="Arial"/>
                <a:ea typeface="经典楷体简"/>
              </a:rPr>
              <a:t>       </a:t>
            </a:r>
            <a:r>
              <a:rPr b="0" i="1" lang="zh-CN" sz="2800" spc="-1" strike="noStrike">
                <a:solidFill>
                  <a:srgbClr val="660033"/>
                </a:solidFill>
                <a:latin typeface="Arial"/>
                <a:ea typeface="经典楷体简"/>
              </a:rPr>
              <a:t>     </a:t>
            </a:r>
            <a:r>
              <a:rPr b="0" lang="zh-CN" sz="2800" spc="-1" strike="noStrike">
                <a:solidFill>
                  <a:srgbClr val="660033"/>
                </a:solidFill>
                <a:latin typeface="Arial"/>
                <a:ea typeface="经典楷体简"/>
              </a:rPr>
              <a:t>                                                                              林前 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  <a:ea typeface="经典楷体简"/>
              </a:rPr>
              <a:t>8: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经典楷体简"/>
              </a:rPr>
              <a:t>论到吃祭偶像之物，我们知道偶像在世上算不得什麽，也知道神只有一位，再没有别的神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Arial"/>
                <a:ea typeface="经典楷体简"/>
              </a:rPr>
              <a:t>林前 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  <a:ea typeface="经典楷体简"/>
              </a:rPr>
              <a:t>8:7-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经典楷体简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经典楷体简"/>
              </a:rPr>
              <a:t>但人不都有这等知识。有人到如今因拜惯了偶像，就以为所吃的是祭偶像之物。他们的良心既然软弱，也就污秽了。其实食物不能叫神看中我们，因为我们不吃也无损，吃也无益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Arial"/>
                <a:ea typeface="经典楷体简"/>
              </a:rPr>
              <a:t>                                         </a:t>
            </a:r>
            <a:r>
              <a:rPr b="0" lang="zh-CN" sz="2800" spc="-1" strike="noStrike">
                <a:solidFill>
                  <a:srgbClr val="660033"/>
                </a:solidFill>
                <a:latin typeface="Arial"/>
                <a:ea typeface="经典楷体简"/>
              </a:rPr>
              <a:t>林前 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  <a:ea typeface="经典楷体简"/>
              </a:rPr>
              <a:t>10:23-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经典楷体简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经典楷体简"/>
              </a:rPr>
              <a:t>凡事都可行，但不都有益处。凡事都可行，但不都造就人。无论何人，不要求自己的益处，乃要求别人的益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经典楷体简"/>
              </a:rPr>
              <a:t>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经典楷体简"/>
              </a:rPr>
              <a:t>凡市上所卖的，你们只管吃，不要为良心的缘故问什麽话，因为地和其中所充满的都属乎主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74842-CE3E-4561-8AC4-FC802EF6CC8B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7520" y="0"/>
            <a:ext cx="1214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在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涉及共同</a:t>
            </a:r>
            <a:r>
              <a:rPr b="0" lang="zh-TW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敬拜的情况下，偶像之物是鬼筵                                   </a:t>
            </a:r>
            <a:r>
              <a:rPr b="0" lang="zh-CN" sz="3200" spc="-1" strike="noStrike">
                <a:solidFill>
                  <a:srgbClr val="660033"/>
                </a:solidFill>
                <a:latin typeface="Arial"/>
                <a:ea typeface="经典楷体简"/>
              </a:rPr>
              <a:t>＊林前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  <a:ea typeface="经典楷体简"/>
              </a:rPr>
              <a:t>10:14</a:t>
            </a:r>
            <a:r>
              <a:rPr b="0" lang="zh-CN" sz="3200" spc="-1" strike="noStrike">
                <a:solidFill>
                  <a:srgbClr val="660033"/>
                </a:solidFill>
                <a:latin typeface="Arial"/>
                <a:ea typeface="经典楷体简"/>
              </a:rPr>
              <a:t>；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  <a:ea typeface="经典楷体简"/>
              </a:rPr>
              <a:t>20-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我所亲爱的弟兄啊，你们要逃避拜偶像的事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乃是说，外邦人所献的，是祭鬼，不是祭神。我不愿意你们与鬼相交。你们不能喝主的杯又喝鬼的杯，不能吃主的筵席又吃鬼的筵席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Arial"/>
                <a:ea typeface="经典楷体简"/>
              </a:rPr>
              <a:t>林前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  <a:ea typeface="经典楷体简"/>
              </a:rPr>
              <a:t>8:9-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只是你们要谨慎，恐怕你们这自由竟成了那软弱人的绊脚石。若有人见你这有知识的，在偶像的庙里坐席，这人的良心，若是软弱，岂不放胆去吃那祭偶像之物吗？因此，基督为他死的那软弱弟兄，也就因你的知识沉沦了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18A20-D344-405E-9982-DEB7E6C7984C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-96840" y="0"/>
            <a:ext cx="1216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符合人良心的情况下引用真理：</a:t>
            </a:r>
            <a:r>
              <a:rPr b="0" lang="zh-TW" sz="3200" spc="-1" strike="noStrike">
                <a:solidFill>
                  <a:srgbClr val="660033"/>
                </a:solidFill>
                <a:latin typeface="Arial"/>
                <a:ea typeface="经典楷体简"/>
              </a:rPr>
              <a:t>                                                                 </a:t>
            </a:r>
            <a:r>
              <a:rPr b="0" lang="zh-CN" sz="3200" spc="-1" strike="noStrike">
                <a:solidFill>
                  <a:srgbClr val="660033"/>
                </a:solidFill>
                <a:latin typeface="Arial"/>
                <a:ea typeface="经典楷体简"/>
              </a:rPr>
              <a:t>林前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  <a:ea typeface="经典楷体简"/>
              </a:rPr>
              <a:t>10:2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中行书简"/>
              </a:rPr>
              <a:t>倘有一个不信的人请你们赴席，你们若愿意去，凡摆在你们面前的，只管吃，不要为良心的缘故问什麽话。若有人对你们说：「这是献过祭的物」，就要为那告诉你们的人，并为良心的缘故不吃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Arial"/>
                <a:ea typeface="经典楷体简"/>
              </a:rPr>
              <a:t>荣耀神造就人的情况下运用真理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Arial"/>
                <a:ea typeface="经典楷体简"/>
              </a:rPr>
              <a:t>林前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  <a:ea typeface="经典楷体简"/>
              </a:rPr>
              <a:t>10:31-3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所以，你们或吃或喝，无论做什麽，都要为荣耀神而行。不拘是犹太人，是希利尼人，是神的教会，你们都不要使他跌倒；就好像我凡事都叫众人喜欢，不求自己的益处，只求众人的益处，叫他们得救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C9BD1-0D71-423D-9034-0FEC99688C2F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0" y="0"/>
            <a:ext cx="121921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经典楷体简"/>
              </a:rPr>
              <a:t>总结保罗在以上的本土化运用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⊕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不容产生信仰的混合：                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不能喝主的杯又喝鬼的杯，不能吃主的筵席又吃鬼的筵席。不能在庙里坐席吃饭。没有直接叁与的「偶像之物」算不得什么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⊕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需要考虑自己的自由不绊倒人：        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倘若那争议的做法，只是在某些人眼中视为错误，禁忌，基督徒就必须在这些人面前避免作这些事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⊕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需要考虑放下自己，好使别人能同得福音：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凡事都叫众人喜欢，不求自己的益处，只求众人的益处，叫他们可以有机会接触福音而得救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FCCA5-7E8B-482A-B767-580A7561C8E9}" type="slidenum">
              <a:rPr b="1" lang="en-US" sz="1200" spc="-1" strike="noStrike">
                <a:solidFill>
                  <a:srgbClr val="d38e27"/>
                </a:solidFill>
                <a:latin typeface="Arial"/>
                <a:ea typeface="YouYu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19160" y="0"/>
            <a:ext cx="120729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经典楷体简"/>
              </a:rPr>
              <a:t>）使徒保罗自身的本土化见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  <a:ea typeface="经典楷体简"/>
              </a:rPr>
              <a:t>林前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  <a:ea typeface="经典楷体简"/>
              </a:rPr>
              <a:t>9:19-23 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  <a:ea typeface="经典楷体简"/>
              </a:rPr>
              <a:t>我虽是自由的，无人辖管；然而我甘心作了众人的仆人，为要多得人。向犹太人，我就作犹太人，为要得犹太人；向律法以下的人，我虽不在律法以下，还是作律法以下的人，为要得律法以下的人。向没有律法的人，我就作没有律法的人，为要得没有律法的人；其实我在神面前，不是没有律法；在基督面前，正在律法之下。向软弱的人，我就作软弱的人，为要得软弱的人。向什麽样的人，我就作什麽样的人。无论如何总要救些人。凡我所行的，都是为福音的缘故，为要与人同得这福音的好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楷体简"/>
              </a:rPr>
              <a:t>保罗期望能向不同的人传福音，他采用四个截然不同的本土化角色。他不妥协福音，但他乐意调整自己，来克服所有的文化处境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00:36:08Z</dcterms:created>
  <dc:creator>Pastor Chan</dc:creator>
  <dc:description/>
  <dc:language>en-US</dc:language>
  <cp:lastModifiedBy>chan HK</cp:lastModifiedBy>
  <dcterms:modified xsi:type="dcterms:W3CDTF">2024-12-26T03:19:50Z</dcterms:modified>
  <cp:revision>87</cp:revision>
  <dc:subject/>
  <dc:title>Slide 1</dc:title>
</cp:coreProperties>
</file>