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54D6-5624-42C3-96B6-ECA8D96E6C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0B13-71B8-41D1-A841-4AD89395D8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BA0-4FF1-498C-8E66-DDBCF232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D14-C321-4877-9170-105A4CD6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193-C97B-4D54-B44E-0B7F06B4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1F4-1454-454E-B428-FE84747C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2E9-29C5-4DD7-BED3-8B2F6FAF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607-52F0-402C-9508-279A5094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061-A9B8-4CC6-BAFB-8950B8C4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5AA-C72A-4120-8BCA-31CA43B6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FA1-7945-4AB7-87DA-5D76DEBB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978-C07C-4C50-8188-1C72E14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465-5264-461E-8478-B5E01E4B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6F7-3547-467A-949C-C1AEBC3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BF85-163D-4215-B848-34453C7AD4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B9A2-1910-4875-BEFB-CF18F75D97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0"/>
            <a:ext cx="91440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麦西哈尔撒（耶稣）比穆罕默德优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麦西哈尔撒（耶稣）比穆氏有更优越的名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1 Ibn Marya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利亚之子（古兰经中唯一女性之名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:87; 5:75; 21:9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2 Al-Masi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弥赛亚，基督（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哈神的受膏者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:45; 4:157; 5:17,72,75; 9:30-3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3 Nab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人，先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:30 ; 2:136 ; 4:1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4 Rasu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钦差，使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:87 ; 3:49 ; 4:17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5 Kalima Alla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拉口里的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:45 ; 4:17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6 Ruh Alla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拉的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:171 ; 2:91 ; 66: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7Ay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人的兆头，典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:21 ; 21:19 ; 23:50 ; 43:6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3BC-F3DC-473D-8A1A-F1C670DC81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0"/>
            <a:ext cx="9144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麦西哈尔撒；比穆罕默德更清楚的表达身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约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6:35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1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耶稣说：我就是生命的粮。到我这里来的，必定不饿；信我的，永远不渴。我是从天上降下来生命的粮；人若吃这粮，就必永远活著。我所要赐的粮就是我的肉，为世人之生命所赐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约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8:12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耶稣又对众人说：「我是世界的光。跟从我的，就不在黑暗里走，必要得著生命的光。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约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0:7-10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所以，耶稣又对他们说：「我实实在在的告诉你们，我就是羊的门。凡在我以先来的都是贼，是强盗；羊却不听他们我就是门；凡从我进来的，必然得救，并且出入得草吃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FEB2-2722-47C9-951A-550D54D593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0" y="0"/>
            <a:ext cx="914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约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0:10-11  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盗贼来，无非要偷窃，杀害，毁坏；我来了，是要叫羊（或作：人）得生命，并且得的更丰盛。我是好牧人；好牧人为羊舍命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约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1:25-26  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耶稣对他说：「复活在我，生命也在我。信我的人虽然死了，也必复活，凡活著信我的人必永远不死。你信这话吗？」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约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4:6  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耶稣说「我就是道路、真理、生命；若不藉著我，没有人能到父那里去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4:10-11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我在父里面，父在我里面，你不信吗？我对你们所说的话，不是凭著自己说的，乃是住在我里面的父做他自己的事。你们当信我，我在父里面，父在我里面；即或不信，也当因我所做的事信我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584B-CB4C-41FE-84AD-C7A8438CD5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约 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5:1; 5  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「我是真葡萄树，我父是栽培的人</a:t>
            </a:r>
            <a:r>
              <a:rPr b="1" lang="en-US" sz="3000" spc="-1" strike="noStrike">
                <a:solidFill>
                  <a:srgbClr val="0066ff"/>
                </a:solidFill>
                <a:latin typeface="新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我是葡萄树，你们是枝子。常在我里面的，我也常在他里面，这人就多结果子；因为离了我，你们就不能做什麽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约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8:37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彼拉多就对他说：这样，你是王吗？耶稣回答说：你说我是王。我为此而生，也为此来到世间，特为给真理作见证。凡属真理的人就听我的话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启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:8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；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7 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主神说：「我是阿拉法，我是俄梅戛，（阿拉法，俄梅戛：是希利尼字母首末二字），是昔在、今在、以後永在的全能者。」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.....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我一看见，就仆倒在他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耶稣）脚前，像死了一样。他用右手按著我，说：「不要惧怕！我是首先的，我是末後的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CA06-0DED-42E8-9589-D6D03E38CF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0"/>
            <a:ext cx="914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启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:18  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又是那存活的；我曾死过，现在又活了，直活到永永远远；并且拿著死亡和阴间的钥匙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启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3:20 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看哪，我站在门外叩门，若有听见我声音就开门的，我要进到他那里去，我与他，他与我一同坐席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⊕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可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4:62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耶稣说：「我是。你们必看见人子坐在那权能者的右边，驾著天上的云降临。」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54A7-FF07-4E03-868C-D0F5B1B02C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18900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0"/>
            <a:ext cx="91440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穆罕默德对自己所受的职分见证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宋体"/>
                <a:ea typeface="宋体"/>
              </a:rPr>
              <a:t>∮</a:t>
            </a:r>
            <a:r>
              <a:rPr b="1" lang="zh-CN" sz="3000" spc="-1" strike="noStrike">
                <a:solidFill>
                  <a:srgbClr val="0066ff"/>
                </a:solidFill>
                <a:latin typeface="宋体"/>
                <a:ea typeface="宋体"/>
              </a:rPr>
              <a:t>穆罕默德只是个警告者，报喜者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：“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我只是一个警告者和对信道者的人民的报喜者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古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7:188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27082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宋体"/>
                <a:ea typeface="宋体"/>
              </a:rPr>
              <a:t>∮</a:t>
            </a:r>
            <a:r>
              <a:rPr b="1" lang="zh-CN" sz="3000" spc="-1" strike="noStrike">
                <a:solidFill>
                  <a:srgbClr val="0066ff"/>
                </a:solidFill>
                <a:latin typeface="宋体"/>
                <a:ea typeface="宋体"/>
              </a:rPr>
              <a:t>穆罕默德不是监护者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这部经是真理，而你的宗族否认它。你说：我（穆氏）不是监护你们的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古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6:66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429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宋体"/>
                <a:ea typeface="宋体"/>
              </a:rPr>
              <a:t>∮</a:t>
            </a:r>
            <a:r>
              <a:rPr b="1" lang="zh-CN" sz="3000" spc="-1" strike="noStrike">
                <a:solidFill>
                  <a:srgbClr val="0066ff"/>
                </a:solidFill>
                <a:latin typeface="宋体"/>
                <a:ea typeface="宋体"/>
              </a:rPr>
              <a:t>穆罕默德只是某信仰的追随者：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你说：不信道的人们阿，我不敬拜你们所崇拜的；你们也不崇拜我所崇拜的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.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你的信仰是你的，我的信仰是我的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.(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古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09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8477-760D-48AF-ACA2-316B126AA2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耶稣基督赐给人生命；穆罕默德却带来流血的宗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:24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实实在在的告诉你们，那听我话、又信差我来者的，就有永生；不至於定罪，是已经出死入生了。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:35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耶稣说：「我就是生命的粮。到我这里来的，必定不饿；信我的，永远不渴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约一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:9-10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凡从神生的，就不犯罪，因神的道（原文作种）存在他心里；他也不能犯罪，因为他是由神生的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此就显出谁是神的儿女，。谁是魔鬼的儿女。凡不行义的就不属神，不爱弟兄的也是如此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新宋体"/>
              </a:rPr>
              <a:t>穆罕默德当年要求穆斯林对非穆斯林要这样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禁月逝去的时候，杀戮，俘虏，围攻，侦候他们；如果他们谨守拜功，完纳天课，就放走他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16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。群起而抵抗他们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36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斩他们的首级，断他们的指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1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杀戮，射击他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17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斩杀他们；既战胜他们，就俘虏他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9FAB-679C-447D-877E-60F4A28546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II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麦西哈尔撒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耶稣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成就更优越的救恩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麦西哈尔撒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耶稣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);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是更优越的救主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更优越的预言，降生，身份（道成肉身），品格，事迹，启示，结局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肯定知道自己所说的真理（以在地如在天的地位说出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肯定那信的人必永不灭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观穆氏他在临终前遗言，自己不能救任何人，并不断呼求安拉的赦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4F7C-7B5B-405F-90F1-6AE88D6648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麦西哈尔撒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耶稣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，有更优越的救法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字架的救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是真主创世以来所预定，预备并于历史中所完成的救法。以义的代替不义的，大能复活，赐下圣灵与重生；进入至圣所，还要再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督教的救恩，完美地解决了人类的各种重要问题如：生，老，病，死，罪，复活，被造的目的，将来的命运，新天地等。这是更美的救恩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8A49-7D70-45C6-AF70-B818461CF7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麦西哈尔撒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耶稣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，所赐的救法更有能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信徒里有更新的重生，得着能不犯罪的生命，成为不愿意犯罪的人，从属肉体的成为属灵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圣灵的内住，引导，光照，帮助，漸渐成圣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神的王权在信者身上恢复主权，关系，及功能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AA33-D529-48AC-9C0A-C2B70AAF2C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麦西哈尔耶稣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所赐的救恩，具有双重的保证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: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「我又赐给他们永生，他们永不灭亡，谁也不能从我手中把他们夺去，我父把羊赐给我，他比万有都大，谁也不能从我父手里把他们夺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部份的回教徒，都没有把握不受火狱的刑罚。寄望圣人或穆氏的代求，这最后的道路，并没有可兰经的明文支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834B-C2F6-45A4-B95F-8371C8B3C2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8 Rahm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拉的慈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:2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9 Abd Alla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拉的「仆人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3:5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10 Matha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色列人的模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3:5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11Waji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生来世的尊崇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:4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12 Min Al-Maqarrabi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近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:4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.13 Min Al-Salihi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直者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3:4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.14 Mubarak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蒙福者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9:3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.15 Sahi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见证者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4:159 ; 5:1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穆氏没被称为弥赛亚，真主的道，真主之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耶稣是「弥赛亚」指的是真主的受膏者，耶稣是真主在创世以前，早已立为人类的救主和君王。    而「真主的道」及「真主的灵」则显示尔撒与真主之间极亲密的合一关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D703-1FD3-422B-A082-F9164144FE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0"/>
            <a:ext cx="914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5.</a:t>
            </a:r>
            <a:r>
              <a:rPr b="1" lang="zh-CN" sz="3000" spc="-1" strike="noStrike">
                <a:solidFill>
                  <a:srgbClr val="990099"/>
                </a:solidFill>
                <a:latin typeface="Arial"/>
              </a:rPr>
              <a:t>麦西哈尔撒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; </a:t>
            </a:r>
            <a:r>
              <a:rPr b="1" lang="zh-CN" sz="3000" spc="-1" strike="noStrike">
                <a:solidFill>
                  <a:srgbClr val="990099"/>
                </a:solidFill>
                <a:latin typeface="Arial"/>
              </a:rPr>
              <a:t>所赐的救法是更容易的方法；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基督里，人是凭信心而不是凭行为称义的（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: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。基督教的救法可简易为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.B.C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人只要认罪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Admit) 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相信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live)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悔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Change)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人只要口里承认耶稣的代赎，心里相信上帝叫他从死里复活，接受耶稣为救主，就能因信重生得救（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:9 ;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:12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真是对老，少，智，弱，好，坏，有没条件之人都合宜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回教的方法则讲究有没有条件，善功，礼拜中的仪式，动作的细节，都能给人定生死，果效。脱离不了律法，立功，仪式主义。盼望藉着外表的动作，善行，苦修，少受一点火狱的苦。这样的立功之方法，首先会叫那先天没健康身体的人，不能作出礼拜动作的人，哑吧的人等深感绝望，得不着功德而灭亡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EA20-FD8C-49B1-8064-0447F99405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0"/>
            <a:ext cx="914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6.</a:t>
            </a:r>
            <a:r>
              <a:rPr b="1" lang="zh-CN" sz="3000" spc="-1" strike="noStrike">
                <a:solidFill>
                  <a:srgbClr val="990099"/>
                </a:solidFill>
                <a:latin typeface="Arial"/>
              </a:rPr>
              <a:t>麦西哈尔撒所赐的救恩，有更完全的历史根据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旧约整个献祭，律法体制，先知启示的焦点，都预先为耶稣基督作了见证。耶稣来到人间时，是有凭有据的。他所作，所言的，乃成全了整个旧约所谈论的，叫上帝与人，人与人，得以和好。旧约是人类历史中救赎的影子，新约中的耶稣基督，则是那历史中救赎实体的落实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回教宣称所传的是符合亞伯拉罕的道，與摩西的律法书及耶稣的福音书，同为一源流。但可兰经卻無法顯示历史性的进展，失去歷史進程的证据。当被问及为何所传，所言的与新旧约正统有所不符时，则否定新旧约历史真实性的鉴定权威，反指说新旧约被修改了（永远提不出被修改的证据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8E40-BA78-4DE6-9B7B-B7842339AE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0"/>
            <a:ext cx="914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7 </a:t>
            </a:r>
            <a:r>
              <a:rPr b="1" lang="zh-CN" sz="3000" spc="-1" strike="noStrike">
                <a:solidFill>
                  <a:srgbClr val="990099"/>
                </a:solidFill>
                <a:latin typeface="Arial"/>
              </a:rPr>
              <a:t>麦西哈尔撒的救法，有更优越的结果；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回教的得救，像王给他子民恩典，而得以脱离火狱，进入乐园。得救的终极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是人生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享受：享受灵性，面见安拉及肉体的乐趣；有美女服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基督里，得救乃是 ：人如浪子归家，不但见主的面，更要灵，魂，体合一，成为神的殿；天地间有美好的和谐与交通；圣徒敬拜主及与主同管万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十字架的救赎，让人看见神的圣洁与公义，慈爱与悯恤，人的无助，白白的恩典，神无条件的接纳，使人蒙圣灵重生引导，将来身体要得赎，在生命性情上要像主等，活在新天地无罪的新世界里。这肯定是更美好的救法与终极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A60E-50D2-4058-837B-D893161B90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0"/>
            <a:ext cx="91440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回教的救赎，没有认真交待人的罪性所引发的问题（罪的工价是死）。一般上，回教认为人本性是善的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 30:30 ?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可藉善行得救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这（性本善）并没有可兰经明确的支持。但却有许多可兰经见证说，人是软弱和败坏的，如：亚当背叛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:115, 12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人生来薄弱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:2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忘恩负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:34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好争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: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犯各样罪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6:6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急躁，乐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:1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人性偏向恶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:5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由于没有重视可兰经中有关「人性已经堕落」的暗示，回教就没有认真明白，人所需要的不但是道路，真理，更需要的是重生的生命。结果，要求不能行善的人去行善（坏树怎能结好果子）。这样的救法能有多少的成效呢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62B7-7EF9-4652-91F7-99ECC8CF24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0"/>
            <a:ext cx="9144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可兰经的真主，则是以人类不听他的话，行不好的事。真主的反应则是，以他的话（道）来预定精灵与世人要进入充满火狱（道使它如此），而真主使得这话果然应验（道成为定罪者）（古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:116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可见真主并不在乎软弱的人类灭亡。若是这样，就像它所说的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9.9%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人要预定灭亡（这是真主命定他话所成就的），既然灭亡已经预定，他们（作礼拜的人）真的能凭行礼拜，善功，聚德来得救吗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反过来说：能凭善功，聚德得救，那么可兰经就另说神的道，神的预定将要失败。若说神的预定绝不能改，人只能按可兰经的讲法；不管回教如何传，有多少人信，结果将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9.9%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人类要灭亡。则这救法（礼拜，善功，聚德等救法还是失败的），并不合乎世人的需要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6769-AB16-43F8-A697-FFB118434C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0"/>
            <a:ext cx="914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结论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麦西哈尔撒的生平，生命，身份，地位，使命；与穆氏在本质上有绝大的不同。就以上比较看来，耶稣基督是超越中的超越，谁能与其争锋比较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可兰经对耶稣的认识完全是残缺的，片面的。回教徒若要认识耶稣，只有从圣经里，才能看见有关历史中耶稣的全貌，荣耀与光辉。虽然如此，可兰经所说的耶稣，还算是优越的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穆氏一生为一神信仰奋斗，然而，犹太教，基督教的信仰早就是一神论信仰。穆氏在创教初期受他们不少的指教与恩惠。但他所传的并不合呼上帝在历史中所启示的正统。基督教所传的不只是一神论，更是根据旧约，也完成旧约所有的启示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1F16-6497-4A2F-BD22-73D0E6DE31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0" y="0"/>
            <a:ext cx="914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按宗教比较，基督教所传的真正合乎历史， 旧约整个的系统。所成就的符合各层人士的需要。是更超越和优越的宗教，更优越的救主，更优越的救法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面对决定永生，永死的宗教选择，这是一个要深思熟虑的重要问题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亲爱的朋友，你当跟随穆汗默德或归信耶稣基督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答案是明显的：「除他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耶稣）以外别无拯救，因为在天下人间，没有赐下别的名，使我们可以靠着得救」（徒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:12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A0CA-4C68-426F-88F8-88489C8396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麦西哈尔撒，比穆罕默德有更优越的降生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圣经论到人类生育的方法共有五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男无女生亚当；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男无女生夏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男有女生你我；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女无男生耶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男无女我重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兰经同意耶稣是由童贞女所生。马利亚是由于真主将「道」投在她身上，并有真主之灵，吹进她里面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使她怀孕生下耶稣（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41-63 ; 4:171 ; 19:16-36 ; 66: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世人一般性的讲法：决定生育与遗传的，不是由于女人；乃由于男人。因此，我们应该视耶稣乃「真主之道与真主之灵」直接的产品。就真理的了解，耶稣乃是神的道与神的灵，所化成的肉身；或者通俗的讲法：是上帝的儿子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5891-294F-4171-86A1-7F383DD02B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麦西哈尔撒，比穆罕默德有更优越的圣洁生命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19:19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他说：我只是你主的一个使者，我为的是要把一个纯洁的童子（耶稣）赏给你（马里亚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3:46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「他（耶稣）在摇篮中并在成年时期，将对人谈话，且属于清廉的一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方穆罕默德却需要为自己的罪求主赦免。据他的妻子说，他将死前再三求上帝赦免他所犯的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40:55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你当忍耐，安拉的应许是真实的，你（穆氏）当为自己的罪求保佑吧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54CE-BB93-4871-90FA-9E61F161E8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260280"/>
            <a:ext cx="914400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麦西哈尔撒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(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耶稣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)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比穆氏有更优越的启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耶稣直接从安拉领受了全备的启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3:48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「安拉教给他（耶稣）经典，智慧，妥拉（律法书），引支勒（福音书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方面当穆氏宣称他从天使得到启示时，被吓个半死。天使多次叫他念经文，他则多次宣称自己不会念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5B4F-EEEA-4D9A-9BAF-27D76F7BA6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0"/>
            <a:ext cx="914400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5.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麦西哈尔撒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耶稣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，比穆氏有更优越的神迹印证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旧约律法书与先知书谓，有神迹，奇事，兆头乃是印证真先知的一个方法。可兰经里也说耶稣行了许多神迹奇事。请特别注意下列的可兰经经文中，耶稣行神迹时与真主和圣灵的三合一行动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Arial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Arial"/>
              </a:rPr>
              <a:t>5:110</a:t>
            </a:r>
            <a:r>
              <a:rPr b="1" lang="zh-CN" sz="3000" spc="-1" strike="noStrike">
                <a:solidFill>
                  <a:srgbClr val="009900"/>
                </a:solidFill>
                <a:latin typeface="Arial"/>
              </a:rPr>
              <a:t>那时候，真主说：马利亚之子尔撒（耶稣）！你要记念我对你并对你母的恩典。那时候，我以圣灵加强你，你在摇篮中并在成年的时候对人接谈；那时候，我把经典，智慧，妥拉，引支勒教给你，那时候你依照我的应许由泥制造一个像鸟形的，你向它吹气，它便照我的应许化为飞鸟；你依我的允许治好瞎眼的人和患大麻疯的；那时候，你依我的允许使死人复活；那时候，你显给他们各样的异迹，我阻止以斯拉衣的子孙对付你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BB4B-61F9-443A-B1B6-71A3183D4B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0"/>
            <a:ext cx="9144000" cy="40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耶稣也能从天供应食物 加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:112-115 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知道各种隐密的事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:49 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修定（成全）摩西的律法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:5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观穆氏没有行过一件神迹，或显明有能力发出准确的预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人们问及他为何不能做，这些先知必能做的事时，他只能回答，他所领受的可兰经就是最大的神迹（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:5-6 ; 17:59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0D45-1BC7-44E9-B766-5C6C8D3B44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6. 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麦西哈尔撒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耶稣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，比穆氏更有优越的结局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*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耶稣超越死亡的加害与囚禁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4:157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「与他们说：我们已经杀死马里亚之子尔撒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安拉的使者。他们原未杀死他，也未使他在十字架上死去；只是他们看着是如此。那些因此争议的人，不过是怀疑而已。他们对此不知真情，不过是依循揣测，他们实在未曾杀死他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*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耶稣未死，被提到安拉面前去了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4 : 158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「确是安拉教他升至自己了。安拉是大能的，明哲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麦西哈尔撒比穆罕默德更优越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BE7F-A794-45E3-AB80-5DDCF294D4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0"/>
            <a:ext cx="9144000" cy="215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Arial"/>
              </a:rPr>
              <a:t>*</a:t>
            </a:r>
            <a:r>
              <a:rPr b="1" lang="zh-CN" sz="3000" spc="-1" strike="noStrike">
                <a:solidFill>
                  <a:srgbClr val="990099"/>
                </a:solidFill>
                <a:latin typeface="Arial"/>
              </a:rPr>
              <a:t>耶稣一生的工作永远有功效；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Arial"/>
              </a:rPr>
              <a:t>3: 55</a:t>
            </a:r>
            <a:r>
              <a:rPr b="1" lang="zh-CN" sz="3000" spc="-1" strike="noStrike">
                <a:solidFill>
                  <a:srgbClr val="009900"/>
                </a:solidFill>
                <a:latin typeface="Arial"/>
              </a:rPr>
              <a:t>「彼时，安拉呼叫尔撒说：我将成全你（使你成功），教你升至我的面前，并使你离开不信的人们；并使那追随你的人超越不信的人们直到复生日；然后使你们归我，以便使我对你们所争议的加以判断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Arial"/>
              </a:rPr>
              <a:t>19: 33</a:t>
            </a:r>
            <a:r>
              <a:rPr b="1" lang="zh-CN" sz="3000" spc="-1" strike="noStrike">
                <a:solidFill>
                  <a:srgbClr val="009900"/>
                </a:solidFill>
                <a:latin typeface="Arial"/>
              </a:rPr>
              <a:t>「我（耶稣）的生日平安，死日平安，复活日也平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穆氏是病死的（有怀疑被人慢性下毒）。有遗言说：各人须尽力修道，为要承受上主的恩典，我无权柄救你们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行路需路费，后世的路费就是善行。临死前曾发高热，有挣扎，多次昏倒，痛苦中不断呼求说：主啊，饶恕我吧，主啊饶恕我吧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据说其灵魂尚在预备的居间阶段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zakh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等待复活日。（犹太及基督教，视这为审判前的阴间，而不是乐园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5:30:32Z</dcterms:created>
  <dc:creator>Pastor Chan</dc:creator>
  <dc:description/>
  <dc:language>en-US</dc:language>
  <cp:lastModifiedBy>user</cp:lastModifiedBy>
  <dcterms:modified xsi:type="dcterms:W3CDTF">2018-12-07T07:23:30Z</dcterms:modified>
  <cp:revision>18</cp:revision>
  <dc:subject/>
  <dc:title>Slide 1</dc:title>
</cp:coreProperties>
</file>