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283B-B696-42F0-9397-E8541E2E5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BCFC-0F1A-49F7-9644-04163C6E8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4204-DA6E-4415-B7BB-A231AC50A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5E31-DDCF-4576-9A27-049B971EB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21FE-DDB4-496D-B16B-BFFC977BF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9EAA-DB40-41CF-B3FE-693C3E679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6B29-F61F-4C1C-B379-1F40DBF97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BF83-C179-4051-B3C1-A5F5D99F0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4229-C5DD-4646-AF92-AEAA0548F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F137-1D69-4884-9009-92CCD3C58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2818-13A8-4EF9-A59C-2F8389C29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4ED4-2399-44FE-90B1-2729039A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0D0C8-9E42-4D55-B2C3-A0146CAAF9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ooter Placeholder 4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Slide Number Placeholder 5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6FCB5-DA1E-477B-876D-21B921CAE00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穆斯林的五大帕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4224240" y="1600200"/>
            <a:ext cx="42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4FB8C-78A4-4222-840E-4848B328850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0" y="0"/>
            <a:ext cx="12192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新宋体"/>
              </a:rPr>
              <a:t>犹太人</a:t>
            </a:r>
            <a:r>
              <a:rPr b="1" lang="zh-TW" sz="3200" spc="-1" strike="noStrike">
                <a:solidFill>
                  <a:srgbClr val="ff0000"/>
                </a:solidFill>
                <a:latin typeface="Arial"/>
                <a:ea typeface="新宋体"/>
              </a:rPr>
              <a:t>这怪异反应，是为了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新宋体"/>
              </a:rPr>
              <a:t>政治</a:t>
            </a:r>
            <a:r>
              <a:rPr b="1" lang="zh-TW" sz="3200" spc="-1" strike="noStrike">
                <a:solidFill>
                  <a:srgbClr val="ff0000"/>
                </a:solidFill>
                <a:latin typeface="Arial"/>
                <a:ea typeface="新宋体"/>
              </a:rPr>
              <a:t>，社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新宋体"/>
              </a:rPr>
              <a:t>与宗教</a:t>
            </a:r>
            <a:r>
              <a:rPr b="1" lang="zh-TW" sz="3200" spc="-1" strike="noStrike">
                <a:solidFill>
                  <a:srgbClr val="ff0000"/>
                </a:solidFill>
                <a:latin typeface="Arial"/>
                <a:ea typeface="新宋体"/>
              </a:rPr>
              <a:t>的自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新宋体"/>
              </a:rPr>
              <a:t>我</a:t>
            </a:r>
            <a:r>
              <a:rPr b="1" lang="zh-TW" sz="3200" spc="-1" strike="noStrike">
                <a:solidFill>
                  <a:srgbClr val="ff0000"/>
                </a:solidFill>
                <a:latin typeface="Arial"/>
                <a:ea typeface="新宋体"/>
              </a:rPr>
              <a:t>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新宋体"/>
              </a:rPr>
              <a:t>护</a:t>
            </a:r>
            <a:r>
              <a:rPr b="1" lang="zh-TW" sz="3200" spc="-1" strike="noStrike">
                <a:solidFill>
                  <a:srgbClr val="ff0000"/>
                </a:solidFill>
                <a:latin typeface="Arial"/>
                <a:ea typeface="新宋体"/>
              </a:rPr>
              <a:t>意图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新宋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第一：他们知道穆罕默德所说的与讨拉特有许多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新宋体"/>
              </a:rPr>
              <a:t>不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，而穆罕默德是不会接受他们的辩证，他们不想对穆罕默德误传来讨拉特内容，作出指责和纠正，免得冒犯对立或指出穆罕默德的错误，令他不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新宋体"/>
              </a:rPr>
              <a:t>第二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若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新宋体"/>
              </a:rPr>
              <a:t>私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向穆斯林显明默氏说错了圣经的事实，穆斯林会去默罕默德那里告状说，告状穆罕默德讲错了圣经的教导。带来从冲击和矛盾就会非常严重。因此，犹太人只好在穆斯林要求请示圣经的说法和立场时，就宣称不知道，或者故意扭曲与隐藏讨拉特的真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A6768-C90F-4064-A886-6C681940722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0" y="0"/>
            <a:ext cx="1199988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第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新宋体"/>
              </a:rPr>
              <a:t>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：大部份犹太人， 没把穆罕默德所说的当作真理，甚至他们在引用穆罕默德的话语时，讲给没有听过的同胞时，便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改变了其中的话语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。他们说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新宋体"/>
              </a:rPr>
              <a:t>：</a:t>
            </a:r>
            <a:r>
              <a:rPr b="1" lang="zh-CN" sz="3200" spc="-1" strike="noStrike">
                <a:solidFill>
                  <a:srgbClr val="333399"/>
                </a:solidFill>
                <a:latin typeface="新宋体"/>
                <a:ea typeface="新宋体"/>
              </a:rPr>
              <a:t>“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新宋体"/>
              </a:rPr>
              <a:t>如果穆罕默德给你们说了话，你们当假意接受。如果没有，就不要认同接受。也不要告诉穆斯林，讨拉特的真理，免得和他们引起争论与宗教冲突</a:t>
            </a:r>
            <a:r>
              <a:rPr b="1" lang="zh-CN" sz="3200" spc="-1" strike="noStrike">
                <a:solidFill>
                  <a:srgbClr val="333399"/>
                </a:solidFill>
                <a:latin typeface="新宋体"/>
                <a:ea typeface="新宋体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犹太人认为自己已有真经，不肯接受穆罕默德先知身份和他的道理。又不敢明明得罪这位有政治与宗教力量的先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因此，表面顺从，私下对犹太人同胞却将穆罕默德的话改变了，或者批评了一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AD06C-9050-4252-9DE8-E7C581E86F6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0" y="0"/>
            <a:ext cx="120729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新宋体"/>
              </a:rPr>
              <a:t>为什么他们的反应会那么扭曲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因为有妇女与男诗人，因批评先知的穆罕默德的先知身份，地位，品格而被处死。穆罕默德也曾攻打反对他的犹太族群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公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宋体"/>
              </a:rPr>
              <a:t>62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年，穆罕默德亲自监督了一场大屠杀的行动。穆罕默德和他的军队，将犹太巴尼古利杂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宋体"/>
              </a:rPr>
              <a:t>Bani-Quryz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村庄包围。二十五天之后，村民们投降，希望穆罕默德放他们一条生路。相反的是，穆罕默德命令他的士兵挖了几个大的壕沟，将约九百个犹太人的头斩下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081A8-1708-462D-B8CA-2207710767F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0" y="0"/>
            <a:ext cx="120729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从这些历史事实，我们就可以清楚的知道，为什么犹太人会那样的扭曲，要将自己经典的内容隐藏，同时以口舌变更，窜改，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新宋体"/>
              </a:rPr>
              <a:t>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只能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新宋体"/>
              </a:rPr>
              <a:t>私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扭曲所听见穆罕默德的真理内容。这一切都是为了避免宗教的对立；避免对穆罕默德的冒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然而，这都只犹太人口头上的，态度上对真理的窜改，而不是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新宋体"/>
              </a:rPr>
              <a:t>字面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，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新宋体"/>
              </a:rPr>
              <a:t>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他们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宋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讨拉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宋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改变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穆罕默德作为有权柄的宗教与政治人物，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新宋体"/>
              </a:rPr>
              <a:t>看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犹太人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新宋体"/>
              </a:rPr>
              <a:t>如此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扭曲真理，不忠於神的启示，听见了他所传的道，还加以扭曲，更变。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新宋体"/>
              </a:rPr>
              <a:t>当然就会指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犹太人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新宋体"/>
              </a:rPr>
              <a:t>的窜改与扭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新宋体"/>
              </a:rPr>
              <a:t>若从这历史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背景的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新宋体"/>
              </a:rPr>
              <a:t>事实去理解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就能理解古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宋体"/>
              </a:rPr>
              <a:t>2:75;78-7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的指责原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0B3EF-CB12-4792-83FE-5486960C0CD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0" y="0"/>
            <a:ext cx="119998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至於古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宋体"/>
              </a:rPr>
              <a:t>2:7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；古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宋体"/>
              </a:rPr>
              <a:t>3:77-7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指控有些犹太生意人，抄写圣经拿到市场去卖。默罕默德认为，犹太人这么做，不知不觉就错写圣经，误导「买，读，教」的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抄写经文的犹太人被控「变更」圣经的话，乃是由于犹太人在市场上，以手抄卷当商品作买卖。那是轻视不尊重圣经的话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问题是：在市场上出售手抄本的圣经，就是一种「变更」讨拉特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宋体"/>
              </a:rPr>
              <a:t>TORAH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）必然的结果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CCAF8-B2C0-4D77-9666-C0C6DB15E3F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0" y="0"/>
            <a:ext cx="1214424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我们必须明白，当时在市场上出卖手抄的旧约经卷，这是非常正常的现象。犹太人抄写圣经，以便流传下去的习惯，距离穆罕默德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宋体"/>
              </a:rPr>
              <a:t>10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年前的犹太人，就已经那么做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纪元前第三世纪时，旧约讨拉特的三十九卷书，早已被犹太社会鉴定为正典。来到穆氏的时代，旧约讨拉特正典，已经被全体的犹太人共同复制，诵读超过一千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古代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新宋体"/>
              </a:rPr>
              <a:t>还没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印刷业，只能用手来抄写。有人在市场出售手抄写的经卷，就像今天有人在市场，教堂，书店里，出售圣经与古兰经那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若把经文制造成书本，精品等出售，是得罪神的作法，那等于说，今天人在市场上出售古兰经，或出售用经文制成的精品，乃是得罪神的作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6740B-A502-44B7-9F40-5515B1C62CD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0" y="0"/>
            <a:ext cx="1219212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那么，今天所有回教徒的书店，出售的书本，精品，也就沦落为作恶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了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他们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么做，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是「变更经卷」的恶人么？ 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因此，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抄写经卷，导致旧约内容窜改，这是假设性的说法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如果穆氏或穆斯林，知道犹太人是如何看重妥拉，他们抄写卷经书的严谨态度，就不会轻易的，指责「市场所卖的经卷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是被窜改过的」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指责犹太人将圣经抄写，结果变成伪造圣经。这样的指控，已被历史学家，考古学家，圣经学者所鉴定：这是不曾发生过的事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当时新旧约圣经，已经流传整个罗马帝国，并译为几种文字流传，绝对没有全被窜改的可能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试问犹太人及基督徒为何要窜改他们的圣经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315D9-CD65-4AFF-BD25-F76361B29D4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0" y="0"/>
            <a:ext cx="120729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古 </a:t>
            </a: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5:14-15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指责尔撒的新约记载，放弃了旧约中许多律法的引用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是由於新约圣经启示尔撒的救赎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功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效，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使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信的人得以重生（约三章），神的律法不再是字句的，而是已刻在心上。新约里的人遵守神的律法，是藉着爱与圣灵的引导。按尔撒的教导，一切律法的总纲就是尽心尽力爱神与爱人如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新约带给基督徒新的诫命总纲是；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约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书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6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爱弟兄，为弟兄舍命」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是新约的新命令。如果一个人能爱人如己，就已经守全律法。而且基督徒的圣经还包含了旧约圣经，组成整本的新旧约圣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爱的诫命肯定会比规条的律法更高。基督徒认为在弟兄，为弟兄放下自己（舍命），这肯定比律法还要更高。然而，基督徒并没有丢弃任何穆沙（摩西）的律法内容。基督徒看摩西的整个律法系统为启蒙的老师，引导人类去寻求基督的重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DA612-688E-464C-9A38-A33D0DE546B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0" y="0"/>
            <a:ext cx="12192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废除新旧约与圣经被窜改之说，来自伊斯兰中期学者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回教学者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khund Mulla Muhammad Taqqiyi Kashani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于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285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，在他所完成的波斯语的着作中写到（页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66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；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「伊斯兰教的人，承认穆罕默德是先知，并且他的宗教废除了以前所有的宗教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样的观点，被无知者及一些人云则云的伊斯兰者所接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但事实乃是：古兰经里没有这样的教导；在逊尼派，或什叶派教徒中，流传的穆罕默德是圣训中，也没有支持这样的观点与论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页脚占位符 1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灯片编号占位符 2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6D9C9-C83C-49A5-B95A-A3E72F71DFA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3"/>
          <p:cNvSpPr/>
          <p:nvPr/>
        </p:nvSpPr>
        <p:spPr>
          <a:xfrm>
            <a:off x="0" y="0"/>
            <a:ext cx="121442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后来伊斯兰者还加入另一些推理而说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新旧约圣经被废除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今天犹太教及基督教徒所使用的圣经，已是不同于古兰经所描述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现今的新旧约圣经，没有真正在古兰经中被提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18B03-FE2E-41FF-98BB-4FDD4C1B3EB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0" y="0"/>
            <a:ext cx="120729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新宋体"/>
                <a:ea typeface="经典长宋简"/>
              </a:rPr>
              <a:t>古兰经中的五大帕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新宋体"/>
                <a:ea typeface="经典长宋简"/>
              </a:rPr>
              <a:t>引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经典长宋简"/>
              </a:rPr>
              <a:t>☆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经典长宋简"/>
              </a:rPr>
              <a:t>古兰经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经典长宋简"/>
              </a:rPr>
              <a:t>2:7-9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经典长宋简"/>
              </a:rPr>
              <a:t>曾提醒世人，有些人的心地黑暗，耳朵发沉，灵眼被蒙闭；</a:t>
            </a:r>
            <a:r>
              <a:rPr b="1" lang="zh-CN" sz="3200" spc="-1" strike="noStrike">
                <a:solidFill>
                  <a:srgbClr val="009900"/>
                </a:solidFill>
                <a:latin typeface="新宋体"/>
                <a:ea typeface="经典长宋简"/>
              </a:rPr>
              <a:t>「真主已经封闭他们的心和耳，他们的眼上有翳膜，他们将受重大的刑罚。</a:t>
            </a:r>
            <a:r>
              <a:rPr b="1" lang="en-US" sz="3200" spc="-1" strike="noStrike">
                <a:solidFill>
                  <a:srgbClr val="009900"/>
                </a:solidFill>
                <a:latin typeface="新宋体"/>
                <a:ea typeface="经典长宋简"/>
              </a:rPr>
              <a:t>…</a:t>
            </a:r>
            <a:r>
              <a:rPr b="1" lang="en-US" sz="3200" spc="-1" strike="noStrike">
                <a:solidFill>
                  <a:srgbClr val="009900"/>
                </a:solidFill>
                <a:latin typeface="新宋体"/>
                <a:ea typeface="经典长宋简"/>
              </a:rPr>
              <a:t>.</a:t>
            </a:r>
            <a:r>
              <a:rPr b="1" lang="zh-CN" sz="3200" spc="-1" strike="noStrike">
                <a:solidFill>
                  <a:srgbClr val="009900"/>
                </a:solidFill>
                <a:latin typeface="新宋体"/>
                <a:ea typeface="经典长宋简"/>
              </a:rPr>
              <a:t>他们想欺瞒真主和信士，其实他们只是自欺，却不觉悟。他们心里有病，故真主加增他们的心病</a:t>
            </a:r>
            <a:r>
              <a:rPr b="1" lang="en-US" sz="3200" spc="-1" strike="noStrike">
                <a:solidFill>
                  <a:srgbClr val="009900"/>
                </a:solidFill>
                <a:latin typeface="新宋体"/>
                <a:ea typeface="经典长宋简"/>
              </a:rPr>
              <a:t>…</a:t>
            </a:r>
            <a:r>
              <a:rPr b="1" lang="en-US" sz="3200" spc="-1" strike="noStrike">
                <a:solidFill>
                  <a:srgbClr val="009900"/>
                </a:solidFill>
                <a:latin typeface="新宋体"/>
                <a:ea typeface="经典长宋简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经典长宋简"/>
              </a:rPr>
              <a:t>古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经典长宋简"/>
              </a:rPr>
              <a:t>2:7-9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经典长宋简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经典长宋简"/>
              </a:rPr>
              <a:t>新旧约圣经也有类似的警告。新约圣经，称呼这类的「翳膜，蒙闭」作「帕子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91C83-6BCF-450A-8585-796933307A3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0" y="0"/>
            <a:ext cx="12192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Microsoft JhengHei"/>
                <a:ea typeface="Microsoft JhengHei"/>
              </a:rPr>
              <a:t>摩西的讨拉特，大卫的宰不尔，新约（引支勒），是否真的被篡改或废除了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意为「停止，废除」的动词「拿撒卡</a:t>
            </a:r>
            <a:r>
              <a:rPr b="1" lang="en-US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Nasakha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」，这字在古兰经里出现过两次（古</a:t>
            </a:r>
            <a:r>
              <a:rPr b="1" lang="en-US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2:106; 22:52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2:106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「凡我所废弃的</a:t>
            </a:r>
            <a:r>
              <a:rPr b="1" lang="en-US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Nasakha 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，或使人忘记的启示 必以更好的，同样的启示代替它。难道你不知道真主对万事是全能的吗？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22:52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「在你我之前所派遣的使者和先知，没有一个不是这样的：当他愿望的时候，恶魔对于他的愿望有一种的建议，但真主破除（废除）恶魔的建议</a:t>
            </a:r>
            <a:r>
              <a:rPr b="1" lang="en-US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Nasakha 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，然后真主使自己的迹象成为坚确的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27C4A-E59D-4D58-B142-C2BD030CE5F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0" y="0"/>
            <a:ext cx="120729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两次提到「废除</a:t>
            </a:r>
            <a:r>
              <a:rPr b="1" lang="en-US" sz="28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Nasakha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」的经文，都不是用来指「停止，废除」新旧圣经。反而是指废除古兰经一些的经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早期顶尖穆斯林的教师说：古兰经有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25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节经文被废除。一个最好的证明是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Baizawi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自己对古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2:52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评论。他指出真主怎样废除了古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3:19-20</a:t>
            </a:r>
            <a:r>
              <a:rPr b="1" lang="zh-CN" sz="28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「这些是有高贵的天鹅。他们的代祷确实是有希望的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认为：撒旦曾使穆罕默德对「拉特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Lat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欧萨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Usa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和麦娜苔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ana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」这三尊亚拉伯女神，说出尊敬的话，在这方面，撒旦已经欺骗，迷惑了穆罕默德</a:t>
            </a: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说出对偶像尊敬的话。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因此，相关的经文必须被废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因此，古兰经中有关「停止，废除」一词，所指的都是</a:t>
            </a: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废除某些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的经文</a:t>
            </a: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18541-E484-45ED-9160-61733751CAD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0" y="0"/>
            <a:ext cx="1207296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 </a:t>
            </a:r>
            <a:r>
              <a:rPr b="1" lang="zh-CN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研究圣经的伊斯兰学者</a:t>
            </a:r>
            <a:r>
              <a:rPr b="1" lang="zh-TW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反对圣经被废除的观点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指「讨拉特（律法书），被宰不尔（诗篇）废除；宰不尔（诗篇）被引支勒（福音书），废除；引支勒又被古兰经废除，而古兰经永不废除。这样的观点，完全没有获得被古兰经及穆罕默德言论支持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凡对圣经有研究的伊斯兰学者，都会极力反对这样的说法。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Shaikh Haji Rahmatu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‘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llah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他的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Izharu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’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l Haqq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第一卷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1-12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页中，指出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『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关于「讨拉特，被宰不尔废除，宰不尔，被引支勒废除」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这样的说法是无知，错谬及误导的。古兰经文及圣言录中都找不到这样的说法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』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2FE2E-F555-42FE-8A2E-6767F8282A4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0" y="0"/>
            <a:ext cx="1207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Shaikh Haji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主张：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只有无知和没深度的穆斯林，才会持有那些错误观点。穆斯林相信，上帝的道是立定在天，永不改变的。试问：「上帝既是全知全能，他所启示的话，既是真理，就必立定在天，成为永不改变的话」，它岂能需要被「停止与废除吗」？若全能上帝的话，需要被废除；那表示，上帝的话不完全，不正确，继续有亏缺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页脚占位符 1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灯片编号占位符 2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D6324-0A55-49AF-8F86-434F5866EF4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3"/>
          <p:cNvSpPr/>
          <p:nvPr/>
        </p:nvSpPr>
        <p:spPr>
          <a:xfrm>
            <a:off x="0" y="189000"/>
            <a:ext cx="12192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3300"/>
                </a:solidFill>
                <a:latin typeface="Arial"/>
                <a:ea typeface="新宋体"/>
              </a:rPr>
              <a:t>圣经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新宋体"/>
              </a:rPr>
              <a:t>从没有以新约，取代</a:t>
            </a:r>
            <a:r>
              <a:rPr b="1" lang="zh-TW" sz="3200" spc="-1" strike="noStrike">
                <a:solidFill>
                  <a:srgbClr val="ff3300"/>
                </a:solidFill>
                <a:latin typeface="Arial"/>
                <a:ea typeface="新宋体"/>
              </a:rPr>
              <a:t>（废除）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新宋体"/>
              </a:rPr>
              <a:t>旧经文的立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Microsoft JhengHei"/>
                <a:ea typeface="Microsoft JhengHei"/>
              </a:rPr>
              <a:t>＊旧约民数记 </a:t>
            </a:r>
            <a:r>
              <a:rPr b="1" lang="en-US" sz="3200" spc="-1" strike="noStrike">
                <a:solidFill>
                  <a:srgbClr val="333399"/>
                </a:solidFill>
                <a:latin typeface="Microsoft JhengHei"/>
                <a:ea typeface="Microsoft JhengHei"/>
              </a:rPr>
              <a:t>23:19</a:t>
            </a:r>
            <a:r>
              <a:rPr b="1" lang="zh-CN" sz="3200" spc="-1" strike="noStrike">
                <a:solidFill>
                  <a:srgbClr val="333399"/>
                </a:solidFill>
                <a:latin typeface="Microsoft JhengHei"/>
                <a:ea typeface="Microsoft JhengHei"/>
              </a:rPr>
              <a:t>「上帝非人，必不致说谎，也非人子，必不致后悔。他说话岂不照着行呢？他发言岂不要成就呢？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Microsoft JhengHei"/>
                <a:ea typeface="Microsoft JhengHei"/>
              </a:rPr>
              <a:t>＊旧约以赛亚书</a:t>
            </a:r>
            <a:r>
              <a:rPr b="1" lang="en-US" sz="3200" spc="-1" strike="noStrike">
                <a:solidFill>
                  <a:srgbClr val="333399"/>
                </a:solidFill>
                <a:latin typeface="Microsoft JhengHei"/>
                <a:ea typeface="Microsoft JhengHei"/>
              </a:rPr>
              <a:t>46:9-11</a:t>
            </a:r>
            <a:r>
              <a:rPr b="1" lang="zh-CN" sz="3200" spc="-1" strike="noStrike">
                <a:solidFill>
                  <a:srgbClr val="333399"/>
                </a:solidFill>
                <a:latin typeface="Microsoft JhengHei"/>
                <a:ea typeface="Microsoft JhengHei"/>
              </a:rPr>
              <a:t>「你们要追想上古的事，因为我是上帝，并无别神。我是上帝再没有能比我的。我从起初指明末后的事，说我的筹算必立定，凡我所喜悦的，我必成就</a:t>
            </a:r>
            <a:r>
              <a:rPr b="1" lang="en-US" sz="3200" spc="-1" strike="noStrike">
                <a:solidFill>
                  <a:srgbClr val="333399"/>
                </a:solidFill>
                <a:latin typeface="Microsoft JhengHei"/>
                <a:ea typeface="Microsoft JhengHei"/>
              </a:rPr>
              <a:t>…</a:t>
            </a:r>
            <a:r>
              <a:rPr b="1" lang="en-US" sz="3200" spc="-1" strike="noStrike">
                <a:solidFill>
                  <a:srgbClr val="333399"/>
                </a:solidFill>
                <a:latin typeface="Microsoft JhengHei"/>
                <a:ea typeface="Microsoft JhengHei"/>
              </a:rPr>
              <a:t>.</a:t>
            </a:r>
            <a:r>
              <a:rPr b="1" lang="zh-CN" sz="3200" spc="-1" strike="noStrike">
                <a:solidFill>
                  <a:srgbClr val="333399"/>
                </a:solidFill>
                <a:latin typeface="Microsoft JhengHei"/>
                <a:ea typeface="Microsoft JhengHei"/>
              </a:rPr>
              <a:t>我已说出，也必成就，我已谋定也必作成」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新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3BE29-F304-4062-92D8-B5CE2045DED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0" y="0"/>
            <a:ext cx="1219212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＊普世的犹太，基督徒都铁定的说：上帝说过的话，绝不需要废除或更改。为什么伊斯兰学者，会继续相信毫无理由的话</a:t>
            </a:r>
            <a:r>
              <a:rPr b="1" lang="zh-CN" sz="3000" spc="-1" strike="noStrike">
                <a:solidFill>
                  <a:srgbClr val="333399"/>
                </a:solidFill>
                <a:latin typeface="Microsoft JhengHei"/>
                <a:ea typeface="Microsoft JhengHei"/>
              </a:rPr>
              <a:t>：「上帝启示在讨拉特，宰不尔，引支勒所记录的话，已经被废除了呢？」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理由（一）：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们单把古兰经的地位，放在第一位，又不照古兰经的命令，去研读新旧约圣经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理由（二）：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在启示的过程中，出现「废除」的问题。他们认为其它先知的经典启示，也应该会出现这样的情况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理由（三）：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后期穆斯林憎恶犹太教，而不愿读他们的经卷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我们不能以「憎恶」为理由，来拒绝上帝的启示。因为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曾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为新旧约圣经作了这些见证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78B2D-E3BB-4F8B-B352-9596435944E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0" y="0"/>
            <a:ext cx="1219212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古兰经为新旧约圣经的权威</a:t>
            </a:r>
            <a:r>
              <a:rPr b="1" lang="zh-TW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作了这些见证：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古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:154-155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见证摩西的律法书及耶稣的福音书，有崇高的启示权威，且是出于安拉的主动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古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:110-111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见证耶稣基督领受了智慧，能力与恩典，连他的门徒也得到安拉的启示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wahi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古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:136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见证律法书与福音书，不单为犹太人和基督徒，也是为全人类而赐下的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古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:136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见证穆斯林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也必须接受先前所降下的圣经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torah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及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Injial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55EB4-7CFF-4EEC-92EF-0E3A9160262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0" y="0"/>
            <a:ext cx="1219212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古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0:94 ;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6:43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见证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若有不明白之处，应当向先前领受经典之人求问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若回教学者以古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78-79; 3:77-78; 5:14-15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不明显经文，说圣经已被窜改；则古兰经命令人要去读，去查，去听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经的讲解，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就成为没有意义的古兰经命令了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主耶稣的教导，只提成全，没提废弃的论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＊引支勒圣经，共引证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51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次旧约的经文，以此说明引支勒（新约）是如何「承先启后」，与旧约合为一体。引支勒见证它成全了，讨拉特的一切应许，真理与教训。就引支勒成全了讨拉特的真理，这是古兰经也加以肯定的事实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：古</a:t>
            </a:r>
            <a:r>
              <a:rPr b="1" lang="en-US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5:46 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我继他们之后，继派玛利亚之子尔撒（耶稣），以证实在他之前的讨拉特，并把引支勒对他赐于，其中蕴含向导和光辉的真谛，以证实在他之前的讨拉特，以便向敬畏者指导和劝谕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20D4B-CA79-46B9-947E-AC2D3438426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0" y="0"/>
            <a:ext cx="1219212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*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:46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正确的解法：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耶稣基督来，他要证明及成全旧约的真理。        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正是新约的精神。旧约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中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某些宗教的仪式，如献祭与守节期等，对新约的基督徒没有遵守的约束力，这是因为它所预表的真理，被耶稣基督在救恩的救赎中成全了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＊新约希伯来书说：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律法既是将来美事的影儿，不是本物的真像」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＊新约加拉太书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23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这因信得救的道理还未来以先，我们被看守在律法之下，直圈到那将来的真理显明出来。这律法是我们训蒙的的师傅，引我们到基督哪里，使我们因信称义」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3CF76-9AD2-498F-B412-8F203F9812C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0" y="0"/>
            <a:ext cx="1219212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＊旧约所献祭的羊羔，预表耶稣基督，他要为世人赎罪。旧约以赛亚先知曾启示出这真理（赛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3:1-12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就如神许可羔羊的血能赎罪，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基督来了，以无罪的代替有罪的受死复活，就解除了律法中对罪一切的仇恨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＊基督徒为何不遵守一些不可摸，不可吃的律法；这是因为基督徒从主耶稣受了更大的律法总纲：「要尽心，尽性，尽力，爱主你的上帝；其次也要爱人如同自己」。全心爱上帝，又爱人如已，就守全了律法（路 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0:26-28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许多旧约中的礼仪，已从字义进入了精义，从影子进入实体，被成全了；故此外在的一些仪式，象徵，就不再需要固守了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2B461-013E-4738-BC83-21F7DEF98C6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47520" y="0"/>
            <a:ext cx="1202544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新宋体"/>
              </a:rPr>
              <a:t>☆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新宋体"/>
              </a:rPr>
              <a:t>使徒保罗的帕子：</a:t>
            </a:r>
            <a:r>
              <a:rPr b="1" lang="zh-TW" sz="3200" spc="-1" strike="noStrike">
                <a:solidFill>
                  <a:srgbClr val="333399"/>
                </a:solidFill>
                <a:latin typeface="Arial"/>
                <a:ea typeface="新宋体"/>
              </a:rPr>
              <a:t>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保罗因看见主的荣光，眼睛立刻瞎掉。有基督徒前来为他祷告，眼中掉出如同鳞片的帕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新宋体"/>
              </a:rPr>
              <a:t>犹太人的帕子：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新宋体"/>
              </a:rPr>
              <a:t>                                                               </a:t>
            </a:r>
            <a:r>
              <a:rPr b="1" lang="en-MY" sz="3200" spc="-1" strike="noStrike">
                <a:solidFill>
                  <a:srgbClr val="000000"/>
                </a:solidFill>
                <a:latin typeface="Arial"/>
                <a:ea typeface="新宋体"/>
              </a:rPr>
              <a:t>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犹太人心里刚硬，在诵读旧约的时候，心灵的帕子还没有揭开（错误的弥赛亚观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保罗感叹的说：「他们的心几时归向基督，帕子（翳膜）就几时除去（林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宋体"/>
              </a:rPr>
              <a:t>3:12-1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）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CC88A-DF61-4588-A6D5-34FB83A363A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0" y="0"/>
            <a:ext cx="121921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＊主耶稣基督把他一生的事迹联结于旧约</a:t>
            </a:r>
            <a:r>
              <a:rPr b="1" lang="zh-CN" sz="2800" spc="-1" strike="noStrike">
                <a:solidFill>
                  <a:srgbClr val="333399"/>
                </a:solidFill>
                <a:latin typeface="Microsoft JhengHei"/>
                <a:ea typeface="Microsoft JhengHei"/>
              </a:rPr>
              <a:t>：「你们如果信摩西也必信我。他书上有指着我而写的话。你们若不信他的书，怎能信我的话呢（约</a:t>
            </a:r>
            <a:r>
              <a:rPr b="1" lang="en-US" sz="2800" spc="-1" strike="noStrike">
                <a:solidFill>
                  <a:srgbClr val="333399"/>
                </a:solidFill>
                <a:latin typeface="Microsoft JhengHei"/>
                <a:ea typeface="Microsoft JhengHei"/>
              </a:rPr>
              <a:t>5:46-47</a:t>
            </a:r>
            <a:r>
              <a:rPr b="1" lang="zh-CN" sz="2800" spc="-1" strike="noStrike">
                <a:solidFill>
                  <a:srgbClr val="333399"/>
                </a:solidFill>
                <a:latin typeface="Microsoft JhengHei"/>
                <a:ea typeface="Microsoft JhengHei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主耶稣曾公开的说</a:t>
            </a:r>
            <a:r>
              <a:rPr b="1" lang="zh-CN" sz="2800" spc="-1" strike="noStrike">
                <a:solidFill>
                  <a:srgbClr val="333399"/>
                </a:solidFill>
                <a:latin typeface="Microsoft JhengHei"/>
                <a:ea typeface="Microsoft JhengHei"/>
              </a:rPr>
              <a:t>：「莫想我来要废掉律法和先知：我来不是要废掉，乃是要成全。我实在告诉你们，就是到天地都废弃了，律法的一点一划也不能废弃，都要成全（太</a:t>
            </a:r>
            <a:r>
              <a:rPr b="1" lang="en-US" sz="2800" spc="-1" strike="noStrike">
                <a:solidFill>
                  <a:srgbClr val="333399"/>
                </a:solidFill>
                <a:latin typeface="Microsoft JhengHei"/>
                <a:ea typeface="Microsoft JhengHei"/>
              </a:rPr>
              <a:t>5:17-18</a:t>
            </a:r>
            <a:r>
              <a:rPr b="1" lang="zh-CN" sz="2800" spc="-1" strike="noStrike">
                <a:solidFill>
                  <a:srgbClr val="333399"/>
                </a:solidFill>
                <a:latin typeface="Microsoft JhengHei"/>
                <a:ea typeface="Microsoft JhengHei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与古兰经中关于上帝的话是不能被废弃，是完全一样的道理（古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:34,115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0:65; 18:26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上帝超越一切，他是全知，全能的，他的计划不是任何事物所能改变。上帝非人，必不致说谎，也非人子，必不致后悔。他说话岂不照着行呢？他发言岂不要成就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06E1C-14F1-4F67-A795-70F6B0BF018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0" y="0"/>
            <a:ext cx="12072960" cy="57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古兰经</a:t>
            </a:r>
            <a:r>
              <a:rPr b="1" lang="zh-TW" sz="36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见证圣经没有被窜改</a:t>
            </a:r>
            <a:r>
              <a:rPr b="1" lang="zh-CN" sz="36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1.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古兰经见证</a:t>
            </a:r>
            <a:r>
              <a:rPr b="1" lang="zh-TW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信仰真经的基督徒没有失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3:113-115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有真经的基督徒，在夜间诵读真主上帝的经典，为真神而叩头；确信真主和未日，劝善戒恶，争先行善；无论他们作什么善功，绝不会徒劳无酬</a:t>
            </a:r>
            <a:r>
              <a:rPr b="1" lang="en-US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3:199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这些人信仰真主和他们从真主所受的启示，敬畏事奉主，不以真主的迹像换取些微的代价（“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这些人”按上文是指信圣经的基督徒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）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当他们听见所降示的经文，他们为自己所认识的真理而眼泪汪汪，他们信真主和降临在他们中的真理，真主要以乐园报酬他们（古</a:t>
            </a:r>
            <a:r>
              <a:rPr b="1" lang="en-US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5:82-85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页脚占位符 1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灯片编号占位符 2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540DC-1CA4-4470-8BB8-FDAF894BCC8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3"/>
          <p:cNvSpPr/>
          <p:nvPr/>
        </p:nvSpPr>
        <p:spPr>
          <a:xfrm>
            <a:off x="0" y="0"/>
            <a:ext cx="12192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2.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古兰经见证</a:t>
            </a:r>
            <a:r>
              <a:rPr b="1" lang="zh-TW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信仰真经的犹太人没有失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＊古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7:159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穆萨（摩西）的宗族中，有一伙人，本着真理引导他们，因真理而主持公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＊古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7:170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犹太人坚守真经，谨守拜功者，真主必不会使他们当中的行善者徒劳无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结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古兰经见证，基督徒，犹太人，信真主所启示的经典，按照教导行真理现善行。能使他们受乐园的报酬。这说明，犹太人的旧约，基督徒的新约</a:t>
            </a:r>
            <a:r>
              <a:rPr b="1" lang="zh-TW" sz="3200" spc="-1" strike="noStrike">
                <a:solidFill>
                  <a:srgbClr val="ff3300"/>
                </a:solidFill>
                <a:latin typeface="宋体"/>
                <a:ea typeface="宋体"/>
              </a:rPr>
              <a:t>，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宋体"/>
              </a:rPr>
              <a:t>没有失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353D4-DD6C-48F8-BB34-AC521BA3276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"/>
          <p:cNvSpPr/>
          <p:nvPr/>
        </p:nvSpPr>
        <p:spPr>
          <a:xfrm>
            <a:off x="0" y="0"/>
            <a:ext cx="12192120" cy="35060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． 古兰经表明，在尔撒时代的</a:t>
            </a: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讨拉特</a:t>
            </a: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》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还是是真实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伊历</a:t>
            </a:r>
            <a:r>
              <a:rPr b="1" lang="en-US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7</a:t>
            </a:r>
            <a:r>
              <a:rPr b="1" lang="zh-CN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年，古</a:t>
            </a:r>
            <a:r>
              <a:rPr b="1" lang="en-US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19:12</a:t>
            </a:r>
            <a:r>
              <a:rPr b="1" lang="zh-CN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节：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真主说：叶哈雅啊！你应当坚持经典。他在童年时代我已赏赐他智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2. </a:t>
            </a:r>
            <a:r>
              <a:rPr b="1" lang="zh-CN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伊历</a:t>
            </a:r>
            <a:r>
              <a:rPr b="1" lang="en-US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2-3</a:t>
            </a:r>
            <a:r>
              <a:rPr b="1" lang="zh-CN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年</a:t>
            </a:r>
            <a:r>
              <a:rPr b="1" lang="zh-TW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3:48</a:t>
            </a:r>
            <a:r>
              <a:rPr b="1" lang="zh-CN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节：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在尔撒降生前，迦百列天使对玛利亚（麦尔彦）谈到尔撒时说“他要教他书法和智慧，讨拉特和引支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3. </a:t>
            </a:r>
            <a:r>
              <a:rPr b="1" lang="zh-CN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伊历</a:t>
            </a:r>
            <a:r>
              <a:rPr b="1" lang="en-US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7</a:t>
            </a:r>
            <a:r>
              <a:rPr b="1" lang="zh-CN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年，古</a:t>
            </a:r>
            <a:r>
              <a:rPr b="1" lang="en-US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66</a:t>
            </a:r>
            <a:r>
              <a:rPr b="1" lang="zh-CN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12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：“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……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麦尔彦为通道的人们的模范，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……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她信她的主的言辞和天经，她是一个服从的人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581A3-5A4A-4B30-9CB1-9F618DF19F9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"/>
          <p:cNvSpPr/>
          <p:nvPr/>
        </p:nvSpPr>
        <p:spPr>
          <a:xfrm>
            <a:off x="0" y="0"/>
            <a:ext cx="12192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4. </a:t>
            </a:r>
            <a:r>
              <a:rPr b="1" lang="zh-CN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伊历</a:t>
            </a:r>
            <a:r>
              <a:rPr b="1" lang="en-US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2-3</a:t>
            </a:r>
            <a:r>
              <a:rPr b="1" lang="zh-CN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年，古</a:t>
            </a:r>
            <a:r>
              <a:rPr b="1" lang="en-US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3</a:t>
            </a:r>
            <a:r>
              <a:rPr b="1" lang="zh-CN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49-50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……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（我</a:t>
            </a:r>
            <a:r>
              <a:rPr b="1" lang="zh-TW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尔撒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奉命来）证实在我之前降示的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讨拉特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》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，并为你们解除一部分禁令。我已昭示你们从真主发出的一种迹象，故你们应当敬畏真主，应当服从我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5. </a:t>
            </a:r>
            <a:r>
              <a:rPr b="1" lang="zh-CN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伊历</a:t>
            </a:r>
            <a:r>
              <a:rPr b="1" lang="en-US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3</a:t>
            </a:r>
            <a:r>
              <a:rPr b="1" lang="zh-CN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年，古</a:t>
            </a:r>
            <a:r>
              <a:rPr b="1" lang="en-US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61</a:t>
            </a:r>
            <a:r>
              <a:rPr b="1" lang="zh-CN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6</a:t>
            </a:r>
            <a:r>
              <a:rPr b="1" lang="zh-CN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“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当时，麦尔彦之子尔撒曾说：以色列的后裔啊！我确是真主派来教化你们的使者，他派我来证实在我之前的讨拉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6.</a:t>
            </a:r>
            <a:r>
              <a:rPr b="1" lang="zh-CN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伊历</a:t>
            </a:r>
            <a:r>
              <a:rPr b="1" lang="en-US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10</a:t>
            </a:r>
            <a:r>
              <a:rPr b="1" lang="zh-CN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年，古</a:t>
            </a:r>
            <a:r>
              <a:rPr b="1" lang="en-US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5</a:t>
            </a:r>
            <a:r>
              <a:rPr b="1" lang="zh-CN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46</a:t>
            </a:r>
            <a:r>
              <a:rPr b="1" lang="zh-CN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：“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我在众使者之后续派麦尔彦之子尔撒，以证实在他之前的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讨拉特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》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，并赏赐他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引支勒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》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，其中有向导和光明，能证实在他之前的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讨拉特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》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，并作敬畏者（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包挂穆斯林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）的向导和劝谏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新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43287-8908-461D-BCE7-BEF09A386C0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"/>
          <p:cNvSpPr/>
          <p:nvPr/>
        </p:nvSpPr>
        <p:spPr>
          <a:xfrm>
            <a:off x="0" y="0"/>
            <a:ext cx="12192120" cy="49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7. </a:t>
            </a:r>
            <a:r>
              <a:rPr b="1" lang="zh-CN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伊历</a:t>
            </a:r>
            <a:r>
              <a:rPr b="1" lang="en-US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10</a:t>
            </a:r>
            <a:r>
              <a:rPr b="1" lang="zh-CN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年古</a:t>
            </a:r>
            <a:r>
              <a:rPr b="1" lang="en-US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5</a:t>
            </a:r>
            <a:r>
              <a:rPr b="1" lang="zh-CN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110</a:t>
            </a:r>
            <a:r>
              <a:rPr b="1" lang="zh-CN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：“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那时，真主将说：麦尔彦之子尔撒啊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!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你当记忆我所赐你和你母亲的恩典。当时，我曾以玄灵扶助你，你在摇篮里，在壮年时，对人说话。当时，我曾教你书法、智慧、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讨拉特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》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和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引支勒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》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古兰经对基督徒手中的旧约圣经的立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伊历</a:t>
            </a: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年</a:t>
            </a:r>
            <a:r>
              <a:rPr b="1" lang="zh-CN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3:48</a:t>
            </a:r>
            <a:r>
              <a:rPr b="1" lang="zh-CN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尔撒说</a:t>
            </a:r>
            <a:r>
              <a:rPr b="1" lang="en-US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引支勒</a:t>
            </a:r>
            <a:r>
              <a:rPr b="1" lang="en-US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》</a:t>
            </a:r>
            <a:r>
              <a:rPr b="1" lang="zh-CN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是来证实在他之前的</a:t>
            </a:r>
            <a:r>
              <a:rPr b="1" lang="en-US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讨拉特</a:t>
            </a:r>
            <a:r>
              <a:rPr b="1" lang="en-US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》</a:t>
            </a:r>
            <a:r>
              <a:rPr b="1" lang="zh-TW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3</a:t>
            </a:r>
            <a:r>
              <a:rPr b="1" lang="zh-CN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49-50</a:t>
            </a:r>
            <a:r>
              <a:rPr b="0" lang="en-US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 </a:t>
            </a:r>
            <a:r>
              <a:rPr b="1" lang="zh-CN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，古</a:t>
            </a:r>
            <a:r>
              <a:rPr b="1" lang="en-US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61</a:t>
            </a:r>
            <a:r>
              <a:rPr b="1" lang="zh-CN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6</a:t>
            </a:r>
            <a:r>
              <a:rPr b="0" lang="en-US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 </a:t>
            </a:r>
            <a:r>
              <a:rPr b="1" lang="zh-CN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；在穆罕默德时代</a:t>
            </a:r>
            <a:r>
              <a:rPr b="1" lang="zh-TW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真主也证实他曾教导尔撒讨拉特（古</a:t>
            </a:r>
            <a:r>
              <a:rPr b="1" lang="en-US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5</a:t>
            </a:r>
            <a:r>
              <a:rPr b="1" lang="zh-CN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46</a:t>
            </a:r>
            <a:r>
              <a:rPr b="0" lang="en-US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 </a:t>
            </a:r>
            <a:r>
              <a:rPr b="1" lang="zh-CN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，古</a:t>
            </a:r>
            <a:r>
              <a:rPr b="1" lang="en-US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5</a:t>
            </a:r>
            <a:r>
              <a:rPr b="1" lang="zh-CN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46</a:t>
            </a:r>
            <a:r>
              <a:rPr b="0" lang="en-US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 </a:t>
            </a:r>
            <a:r>
              <a:rPr b="1" lang="zh-CN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伊历七年</a:t>
            </a:r>
            <a:r>
              <a:rPr b="1" lang="zh-CN" sz="28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28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19:12</a:t>
            </a:r>
            <a:r>
              <a:rPr b="1" lang="zh-TW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说</a:t>
            </a:r>
            <a:r>
              <a:rPr b="1" lang="en-US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;</a:t>
            </a:r>
            <a:r>
              <a:rPr b="1" lang="zh-CN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尔撒的母亲麦尔彦信真主的天经</a:t>
            </a:r>
            <a:r>
              <a:rPr b="1" lang="zh-TW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。</a:t>
            </a:r>
            <a:r>
              <a:rPr b="1" lang="zh-CN" sz="28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28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66</a:t>
            </a:r>
            <a:r>
              <a:rPr b="1" lang="zh-CN" sz="28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28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12</a:t>
            </a:r>
            <a:r>
              <a:rPr b="1" lang="zh-CN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真主说在尔撒出生前</a:t>
            </a:r>
            <a:r>
              <a:rPr b="1" lang="zh-TW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就亲自教导他</a:t>
            </a:r>
            <a:r>
              <a:rPr b="1" lang="en-US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讨拉特</a:t>
            </a:r>
            <a:r>
              <a:rPr b="1" lang="en-US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》</a:t>
            </a:r>
            <a:r>
              <a:rPr b="1" lang="zh-TW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D5A40-BD85-4478-A7B0-61145E036DC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"/>
          <p:cNvSpPr/>
          <p:nvPr/>
        </p:nvSpPr>
        <p:spPr>
          <a:xfrm>
            <a:off x="47520" y="0"/>
            <a:ext cx="1214460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我们可以从这些古兰经得出结论，在尔撒的时代，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讨拉特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还是真实的，并没有改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罕默德既在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回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历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的古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6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说；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麦尔彦信“他（真主）的天经”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那就一定指其他先知们，所带给犹太人的经典，也包括穆撒的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讨拉特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时至那时，还是具正典的权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回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历十年，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6</a:t>
            </a: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罕默德宣称，尔撒证实了「引支勒与讨拉特的合法地位」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若这些经文的见证真实，请问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旧约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经於伊历何年被窜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EE90C-A4E1-447D-A244-B3A2D736105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0" y="0"/>
            <a:ext cx="12192120" cy="380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4</a:t>
            </a:r>
            <a:r>
              <a:rPr b="0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．古兰经见证，从尔撒至和穆罕默德时代，有得到真道的基督徒 （证明经书的纯正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.</a:t>
            </a:r>
            <a:r>
              <a:rPr b="0" lang="zh-CN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伊历</a:t>
            </a:r>
            <a:r>
              <a:rPr b="0" lang="en-US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2-3</a:t>
            </a:r>
            <a:r>
              <a:rPr b="0" lang="zh-CN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年</a:t>
            </a:r>
            <a:r>
              <a:rPr b="0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，古</a:t>
            </a:r>
            <a:r>
              <a:rPr b="0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3</a:t>
            </a:r>
            <a:r>
              <a:rPr b="0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：</a:t>
            </a:r>
            <a:r>
              <a:rPr b="0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52-53</a:t>
            </a:r>
            <a:r>
              <a:rPr b="0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：“当尔撒确知众（犹太人）人不通道的时候，他说：‘谁为真主而协助我</a:t>
            </a:r>
            <a:r>
              <a:rPr b="0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?’</a:t>
            </a:r>
            <a:r>
              <a:rPr b="0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众门徒说：‘我们为真主而协助你，我们已确信真主，求你作证我们是归顺者。我们的主啊！我们已确信你所降示的经典，我们已顺从使者。’”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2.</a:t>
            </a:r>
            <a:r>
              <a:rPr b="0" lang="zh-CN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伊历三年</a:t>
            </a:r>
            <a:r>
              <a:rPr b="0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，古</a:t>
            </a:r>
            <a:r>
              <a:rPr b="0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61</a:t>
            </a:r>
            <a:r>
              <a:rPr b="0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：</a:t>
            </a:r>
            <a:r>
              <a:rPr b="0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4</a:t>
            </a:r>
            <a:r>
              <a:rPr b="0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：“通道的人们啊！你们应当做协助真主的人，犹如麦尔彦之子尔撒对他的门徒所说的：‘谁是与我共同协助真主的？’那些门徒说：‘我们是协助真主的。求你作证我们是归信的人</a:t>
            </a:r>
            <a:r>
              <a:rPr b="0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(</a:t>
            </a:r>
            <a:r>
              <a:rPr b="0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穆斯林）’。以色列的后裔中，有一派人已经通道，有一派人并不通道。我扶助通道的人们变成优胜的。”</a:t>
            </a:r>
            <a:r>
              <a:rPr b="0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53D52-3AA0-4F5B-BF4A-21B65860189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0" y="0"/>
            <a:ext cx="121921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以上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两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经文说，信道者当效法跟随尔撒当年的门徒，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被选成为“真主帮助者”的门徒，也是归顺真主者，得真道者，以致真主使他们“成为优胜的人”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罕默德，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呼籲寻道者，效法尔撒的门徒，这显示穆罕默德认为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麦加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当时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还存在得着真道的基督徒和犹太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73A57-8B9E-4649-B57D-37930C9C372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"/>
          <p:cNvSpPr/>
          <p:nvPr/>
        </p:nvSpPr>
        <p:spPr>
          <a:xfrm>
            <a:off x="0" y="0"/>
            <a:ext cx="12192120" cy="34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3.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伊历八年，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57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26-27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：“。。。我又继续派遣麦尔彦之子尔撒，我赏赐他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引支勒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》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，我使他的信徒们心怀仁爱和慈悯。他们自创出家制－－－他们创设此制，以求真主的喜悦；。。。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故我把报酬赏赐他们中的通道者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经文见证，在第四世纪埃及的基督徒当中，虽然已有为信仰而出家的制度，这并没有使他们的信仰出现偏差，仍保持着真正得救的基督教信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虽然出家制（禁欲主义）不是尔撒在引支勒的主要教导，但他们中确实有真正的通道者，且真主把报酬（即天园）赏赐给了他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3A59A-14FF-4383-8B10-91BA8656734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0" y="0"/>
            <a:ext cx="12192120" cy="47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☆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当年犹太人的「翳膜，心病，帕子」，今天也临到普世的穆斯林信徒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宋体"/>
                <a:ea typeface="宋体"/>
              </a:rPr>
              <a:t>在穆斯林中流传的五大帕子（翳膜）如下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1.)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摩西的妥拉；耶稣的引支勒已被窜改。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2.)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新约称耶稣基督为神的儿子，是错误，是亵渎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3.)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基督徒宣称上帝是三位一体，是错误及亵渎的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4.)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耶稣基督没被钉死在十字架上（古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4:157-158; 3:55; 19:33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） 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5.)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圣经曾预告穆罕默德或伊斯兰的来临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F9CCC-F3E4-407F-B679-0FCBCE7D8BB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0" y="0"/>
            <a:ext cx="12192120" cy="253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4.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麦加章古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8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0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；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25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：“当时，有几个青年避居山洞中，他们说：‘我们的主啊！求你把你那里的恩惠赏赐我们，求你使我们的事业完全端正’ 他们在山洞里逗留了三百年，（按阴历算）他们又加九年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Yusuf Ali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他翻译的古兰经译本的注释中，说这是指在以弗所的七个年轻的基督徒，在躲避逼迫时，藏在一个山洞里，直到三百年后才醒过来。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Toufiq Al-Hakim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他的剧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hel Al-Kahf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中把他们清楚地描写为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得救的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基督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F4F8D-2BE2-4C53-A84D-D69F44CEA33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"/>
          <p:cNvSpPr/>
          <p:nvPr/>
        </p:nvSpPr>
        <p:spPr>
          <a:xfrm>
            <a:off x="0" y="0"/>
            <a:ext cx="12192120" cy="25311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5.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早期麦加章古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85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4-9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：“愿掘坑的人们，被弃绝，那坑里有燃料点着的火，当时，他们坐在坑边，他们见证自己对信士们的罪行，他们对于信士们，只责备他们信仰真主万能的、可颂的主，天地的国权只是他的，真主是见证万物的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Hamidullah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他译本的注释中，指这是第六世纪一个也门逼迫基督徒的犹太王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Dhou Nuwas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活活的烧死了那些不愿意信犹太教的基督徒，他们是得道的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奥马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Khalif Omar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也门修建了清真寺，以示尊敬那些基督徒。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Yusuf Ali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也提说它是三种可能的解释之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8F4D2-9D96-4D7E-8BEB-99CE3BC38AD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"/>
          <p:cNvSpPr/>
          <p:nvPr/>
        </p:nvSpPr>
        <p:spPr>
          <a:xfrm>
            <a:off x="0" y="0"/>
            <a:ext cx="12192120" cy="350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若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4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5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被穆罕默德和当年麦加人所理解是基督徒，即那些公元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5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在以弗所（土耳其）的基督徒和六世纪在叶门被活埋而殉道的基督徒，以及在穆罕默德同时期，都还存有真正得道的基督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穆罕默德当时的阿拉伯，土耳其和叶门，既然还有真正得道的基督徒，就一定还有基督徒的经书和著作留下。如果说他们的信仰是真的，经典必然也是真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若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是在较後的时期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经典才渐渐被窜改。那么我们一定还能挖掘出一些当时的古抄本，找到其被改变的踪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从考古中所发掘出来的古抄本，事实证明没有发掘出符合窜改经文的历史证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A44F1-57E6-460D-9F75-314FF7D43BD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"/>
          <p:cNvSpPr/>
          <p:nvPr/>
        </p:nvSpPr>
        <p:spPr>
          <a:xfrm>
            <a:off x="0" y="0"/>
            <a:ext cx="12192120" cy="20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5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． 穆</a:t>
            </a:r>
            <a:r>
              <a:rPr b="1" lang="zh-TW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氏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引用新旧约圣经证明圣经的纯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。早期麦加，古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53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33-38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：“你告诉我吧！违背正道，稍稍施舍就悭吝的人，难道他知道幽玄，故认自己的行为为真理吗？难道没有人告诉过他穆萨的经典，和履行诫命的易卜拉欣的经典中所记载的事情吗？一个负罪者，不负别人的罪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麦加，犹太人对天经是熟知的。穆罕默德对它也是熟悉的，甚引用它来责备教训犹太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DC138-09B1-4D50-9DEF-B158BDEA720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0" y="0"/>
            <a:ext cx="12192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2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7:168-170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节：“我曾使他们（犹太人）散处四方，成为若干派别，他们中有善人，有次于善人的，我用种种祸福考验他们，以便他们觉悟。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……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难道天经中没有明文教导他们只能以真理归于真主吗？难道他们没有诵习过那些明文吗？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……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坚持天经、谨守拜功者，我必不会使他们当中的行善者徒劳无酬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罕默德说：犹太人有一伙人，是得道的义人，这些人的善工不会徒劳。他还引用讨拉特申命记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8:64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宰凯里雅先知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:14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中的话：警告犹太人说：真主曾让不顺命的犹太人散处四方，又用种种祸福考验他们，以便他们觉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D5417-F7B2-43DA-A35C-867B7345015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"/>
          <p:cNvSpPr/>
          <p:nvPr/>
        </p:nvSpPr>
        <p:spPr>
          <a:xfrm>
            <a:off x="0" y="0"/>
            <a:ext cx="12192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3.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中期麦加，古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20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33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：“他们（麦加人）说：‘他怎么不从他的那里拿一种迹象来给我们呢？什么！难道没有以前的天经降临他们吗？”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4.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中期麦加，古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21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7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：“在你（穆罕默德）之前，我没派其他人而只派遣了曾奉启示的男人们；如果你们不知道， 就应当询问有天经的那些人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根据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Baidawi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对这一节的评论，他说这“以前的天经”指“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讨拉特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查布尔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引支勒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安拉说：这些天经已被当时的麦加人所熟悉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4E96B-4148-4868-B900-59966EFAA73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"/>
          <p:cNvSpPr/>
          <p:nvPr/>
        </p:nvSpPr>
        <p:spPr>
          <a:xfrm>
            <a:off x="0" y="0"/>
            <a:ext cx="12192120" cy="253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5.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中期麦加，古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21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05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：“我确已写在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查布尔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》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中：大地必为我的善仆所继承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是查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布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7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篇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9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节的直接引用：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“义人必承受地土，永居其上。”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当我们考虑前面所引用的苏拉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1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时，根据古兰经，我们清楚地明白，古兰经（真主）也引用在穆罕默德时期的旧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查布尔（诗篇）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75623-B808-4B91-A639-B1D3BCB0EF2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"/>
          <p:cNvSpPr/>
          <p:nvPr/>
        </p:nvSpPr>
        <p:spPr>
          <a:xfrm>
            <a:off x="0" y="0"/>
            <a:ext cx="12192120" cy="253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6.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伊历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6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年（西元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628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，古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48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29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：“你看他们鞠躬叩头，要求真主的恩惠和喜悦，他们的标记就在他们的脸上。。。那是他们在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讨拉特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》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中的譬喻。他们在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引支勒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》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中的譬喻，是他们象一棵庄稼，发出支条，而他助它长大，而那支条渐渐茁壮，终于固定在苗本上，使农夫欣赏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罕默德在他的讲道与教导中，明确地使用了两处圣经的经文：一处是查布尔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26:5 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流泪撒种的，必欢呼收割！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第二处经文提出了引支勒马可福音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章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6-28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节尔撒的话语：“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.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神的国，如同人把种撒在地上，黑夜睡觉，白日起来，这种就发芽渐长，那人却不晓得如何生出五谷。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0D873-B4BA-4319-80FE-E012101E82E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0" y="0"/>
            <a:ext cx="1219212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7..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古</a:t>
            </a:r>
            <a:r>
              <a:rPr b="1" lang="en-US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3:93-94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节：“一切食物对于以色列的后裔，原是合法的。除非在降示</a:t>
            </a:r>
            <a:r>
              <a:rPr b="1" lang="en-US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讨拉特</a:t>
            </a:r>
            <a:r>
              <a:rPr b="1" lang="en-US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》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之前以色列（的后裔）自己所戒除的食物。你说：‘你们拿</a:t>
            </a:r>
            <a:r>
              <a:rPr b="1" lang="en-US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讨拉特</a:t>
            </a:r>
            <a:r>
              <a:rPr b="1" lang="en-US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》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来当面诵读吧，如果你们是诚实的。’此后，凡是假借真主的名义而造谣的人，都是不义的。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8.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伊历</a:t>
            </a:r>
            <a:r>
              <a:rPr b="1" lang="en-US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0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年，古</a:t>
            </a:r>
            <a:r>
              <a:rPr b="1" lang="en-US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：</a:t>
            </a:r>
            <a:r>
              <a:rPr b="1" lang="en-US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45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：我在</a:t>
            </a:r>
            <a:r>
              <a:rPr b="1" lang="en-US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讨拉特</a:t>
            </a:r>
            <a:r>
              <a:rPr b="1" lang="en-US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》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中对他们制定以命偿命，以眼偿眼，以鼻偿鼻，以耳偿耳，以牙偿牙；－切创伤，都要抵偿。自愿不究的人，得以抵偿权自赎其罪愆。凡不依真主所降示的经典而判决的人，都是不义的。”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里古兰经引用真主给穆撒的律法，是对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讨拉特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中律法的重申，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出埃及记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》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1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章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3-25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节说：‘若有别害，就要以命偿命，以眼还眼，以牙还牙，以手还手，以脚还脚，以烙还烙，以伤还伤，以打还打。’</a:t>
            </a:r>
            <a:r>
              <a:rPr b="1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新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256A8-A4AE-4A01-B624-A525D545358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"/>
          <p:cNvSpPr/>
          <p:nvPr/>
        </p:nvSpPr>
        <p:spPr>
          <a:xfrm>
            <a:off x="0" y="0"/>
            <a:ext cx="123602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6.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穆氏要穆民请教犹太人基督徒证明他们的道纯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.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后期麦加，古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0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94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：“假若你怀疑我所降示你的经典，你就问问那些常常诵读在你之前所降示的天经的人们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……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2.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后期麦加，古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3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43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：“不通道的人们说：‘你不是使者。’你说：‘真主足以为我和你们之间的见证，认识天经的人也足以为我和你们之间的见证。’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罕默德借助讨拉特，查布尔，引支勒已存在的事实，来支持他所传讲的道。他认为自己所传的道，不是新奇的道，乃是根据先前已启示的经典。这是可以查问到的事实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r>
              <a:rPr b="0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0391A-FAB3-4528-BDBB-6FBF59C0CCE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0" y="0"/>
            <a:ext cx="121442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  <a:ea typeface="新宋体"/>
              </a:rPr>
              <a:t> </a:t>
            </a:r>
            <a:r>
              <a:rPr b="1" lang="zh-CN" sz="3000" spc="-1" strike="noStrike">
                <a:solidFill>
                  <a:srgbClr val="ff3300"/>
                </a:solidFill>
                <a:latin typeface="宋体"/>
                <a:ea typeface="宋体"/>
              </a:rPr>
              <a:t>帕子（一）：犹太人将妥拉（旧约）窜改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8000"/>
                </a:solidFill>
                <a:latin typeface="宋体"/>
                <a:ea typeface="宋体"/>
              </a:rPr>
              <a:t>古</a:t>
            </a:r>
            <a:r>
              <a:rPr b="1" lang="en-US" sz="3000" spc="-1" strike="noStrike">
                <a:solidFill>
                  <a:srgbClr val="008000"/>
                </a:solidFill>
                <a:latin typeface="宋体"/>
                <a:ea typeface="宋体"/>
              </a:rPr>
              <a:t>2:75;78-79</a:t>
            </a:r>
            <a:r>
              <a:rPr b="1" lang="zh-CN" sz="3000" spc="-1" strike="noStrike">
                <a:solidFill>
                  <a:srgbClr val="008000"/>
                </a:solidFill>
                <a:latin typeface="宋体"/>
                <a:ea typeface="宋体"/>
              </a:rPr>
              <a:t>他们当中有一派人，曾听见真主的言语，他们既了解之后，便明知故犯的加以篡改</a:t>
            </a:r>
            <a:r>
              <a:rPr b="1" lang="en-US" sz="3000" spc="-1" strike="noStrike">
                <a:solidFill>
                  <a:srgbClr val="008000"/>
                </a:solidFill>
                <a:latin typeface="宋体"/>
                <a:ea typeface="宋体"/>
              </a:rPr>
              <a:t>…</a:t>
            </a:r>
            <a:r>
              <a:rPr b="1" lang="en-US" sz="3000" spc="-1" strike="noStrike">
                <a:solidFill>
                  <a:srgbClr val="008000"/>
                </a:solidFill>
                <a:latin typeface="宋体"/>
                <a:ea typeface="宋体"/>
              </a:rPr>
              <a:t>.</a:t>
            </a:r>
            <a:r>
              <a:rPr b="1" lang="zh-CN" sz="3000" spc="-1" strike="noStrike">
                <a:solidFill>
                  <a:srgbClr val="008000"/>
                </a:solidFill>
                <a:latin typeface="宋体"/>
                <a:ea typeface="宋体"/>
              </a:rPr>
              <a:t>你们盼望他们信你吗？他们之中有伙人，曾听到安拉的话，而在了解它以后，故意变更。他们之中有些失学的人，不知经典，只是妄想，他们不过是揣度。可叹那般人！他们亲手写经，且称：这是从安拉来的。为的是用它换取些微的代价。他们因亲手所写的遭祸了！他们因所做的遭祸了！」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9900"/>
                </a:solidFill>
                <a:latin typeface="宋体"/>
                <a:ea typeface="宋体"/>
              </a:rPr>
              <a:t>古</a:t>
            </a:r>
            <a:r>
              <a:rPr b="1" lang="en-US" sz="3000" spc="-1" strike="noStrike">
                <a:solidFill>
                  <a:srgbClr val="009900"/>
                </a:solidFill>
                <a:latin typeface="宋体"/>
                <a:ea typeface="宋体"/>
              </a:rPr>
              <a:t>3:77-78 </a:t>
            </a:r>
            <a:r>
              <a:rPr b="1" lang="zh-CN" sz="3000" spc="-1" strike="noStrike">
                <a:solidFill>
                  <a:srgbClr val="009900"/>
                </a:solidFill>
                <a:latin typeface="宋体"/>
                <a:ea typeface="宋体"/>
              </a:rPr>
              <a:t>「的确他们之中有伙人，伪造天经，使你们认为是经而实非经的。并且他们自称是出自安拉，而实非出自安拉；他们明知而给安拉造谎言」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0A524-50F8-49E4-8275-6958CEA8E92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"/>
          <p:cNvSpPr/>
          <p:nvPr/>
        </p:nvSpPr>
        <p:spPr>
          <a:xfrm>
            <a:off x="0" y="0"/>
            <a:ext cx="12192120" cy="27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7..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穆罕默德用圣经作判决证明圣经的权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伊历</a:t>
            </a:r>
            <a:r>
              <a:rPr b="1" lang="en-US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0(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西元</a:t>
            </a:r>
            <a:r>
              <a:rPr b="1" lang="en-US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632)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年，古</a:t>
            </a:r>
            <a:r>
              <a:rPr b="1" lang="en-US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：</a:t>
            </a:r>
            <a:r>
              <a:rPr b="1" lang="en-US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65-67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：“假若信奉天经的人通道而且敬畏，我必勾销他们的罪恶，我必使他们入恩泽的乐园。假若他们遵守</a:t>
            </a:r>
            <a:r>
              <a:rPr b="1" lang="en-US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讨拉特</a:t>
            </a:r>
            <a:r>
              <a:rPr b="1" lang="en-US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》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和</a:t>
            </a:r>
            <a:r>
              <a:rPr b="1" lang="en-US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引支勒</a:t>
            </a:r>
            <a:r>
              <a:rPr b="1" lang="en-US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》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和他们的主所降示他们的其他经典，他们必得仰食头上脚下的。</a:t>
            </a:r>
            <a:r>
              <a:rPr b="1" lang="en-US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…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伊历</a:t>
            </a:r>
            <a:r>
              <a:rPr b="1" lang="en-US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0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年，古</a:t>
            </a:r>
            <a:r>
              <a:rPr b="1" lang="en-US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：</a:t>
            </a:r>
            <a:r>
              <a:rPr b="1" lang="en-US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47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：“信奉</a:t>
            </a:r>
            <a:r>
              <a:rPr b="1" lang="en-US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引支勒</a:t>
            </a:r>
            <a:r>
              <a:rPr b="1" lang="en-US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》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的人，当依真主在</a:t>
            </a:r>
            <a:r>
              <a:rPr b="1" lang="en-US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引支勒</a:t>
            </a:r>
            <a:r>
              <a:rPr b="1" lang="en-US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》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中所降示的律例而判决。凡不依真主所降示的经典而判决的人，都是犯罪的。”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些古兰经文是穆罕默德已经得着麦地拿，麦加的政治，军事，宗教掌控权。他要求犹太人照着他们的讨拉特法典，基督徒照着他们的引支勒，作为宗教，信仰，生活的依据。穆罕默德做出这样的要求，说明当时的讨拉特，查布尔，引支勒是以纯正的形式存在着。如果这些经典</a:t>
            </a: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当时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已经，窜改，失真，废除。穆罕默德是不会做如此的宣布。</a:t>
            </a:r>
            <a:r>
              <a:rPr b="0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57C63-C416-452D-90F1-A4D3FE06F0F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"/>
          <p:cNvSpPr/>
          <p:nvPr/>
        </p:nvSpPr>
        <p:spPr>
          <a:xfrm>
            <a:off x="0" y="0"/>
            <a:ext cx="121921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最后一处经文临到穆罕默德时，是伊历</a:t>
            </a:r>
            <a:r>
              <a:rPr b="1" lang="en-US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0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年的苏拉筵席（马以代，古兰经第五章）说犹太教徒和基督徒被告知：“你们如果不遵守</a:t>
            </a:r>
            <a:r>
              <a:rPr b="1" lang="en-US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讨拉特</a:t>
            </a:r>
            <a:r>
              <a:rPr b="1" lang="en-US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》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和</a:t>
            </a:r>
            <a:r>
              <a:rPr b="1" lang="en-US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引支勒</a:t>
            </a:r>
            <a:r>
              <a:rPr b="1" lang="en-US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》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和你们的主所降示你们的其他经典，你们就什么也不能成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斯林着名评经家之一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Ibn Ishaq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把这一处经文与下面一段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训经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联系起来，即：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哈里达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Haritha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儿子拉飞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Rafi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和马功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ashkum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儿子沙林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Salam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还有其他两个人来到穆圣这里，问道：‘哦，穆圣！你不是宣称为易卜拉欣的宗教和信仰的跟随者吗？你不是相信我们拥有的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讨拉特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并证明它真是从真主而来的吗？’穆圣回答说：‘是的，是真的。但你们发明了新的学说，你们否定了你们和真主之间的约，你们把你们当向人类显明的事给藏了起来，所以我将自己和你们的新观点隔离。’他们说：‘对于我们来说，我们坚持在我们手上的，是我们所跟随的真理及向导；我们不相信你，也不跟随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然后伟大荣耀的真主显现说：‘哦，有经之人啊！你们如果不遵守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讨拉特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引支勒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你们任何事也不能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C41E9-26EA-4D4F-B98B-E5DD8A4BF4B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0" y="0"/>
            <a:ext cx="12192120" cy="253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结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如果穆斯林的这段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训经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记录是真的，那么它本身就证明穆罕默德，在伊历十年时，他还深信在麦地拿的犹太人手中存有正本的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讨拉特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这是一个强有力的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训经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见证，证明伊斯兰年历的第一、二世纪，阿拉伯半岛上的穆斯林应当知道，有真实的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讨拉特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引支勒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存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不管有没有这段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训经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补充，许多处的古兰经见证说：在穆罕默德时期的麦加和麦地娜，存在着真实的基督徒，得道的犹太宗族，他们的讨拉特，查布尔，引支勒，与古兰经确是等同的权威。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不但如此，穆罕默德有时也运用它来教导或指导麦加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1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2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B2FB5-F84F-4004-A1D0-5C25B8FA96A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4"/>
          <p:cNvSpPr/>
          <p:nvPr/>
        </p:nvSpPr>
        <p:spPr>
          <a:xfrm>
            <a:off x="0" y="169920"/>
            <a:ext cx="12157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斯林们可能会说今天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所流传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讨拉特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引支勒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和当时存在于阿拉伯地方的不同。那请问，正确的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讨拉特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引支勒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经，在穆罕默德以後，又儿去了那里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实际上，在犹太人或基督徒的历史考古，所发掘出来的古抄本中（已发掘的古抄本，超过三万份），都没有发掘出另一本与现今的讨拉特与引支勒有别的经书。全世界只有一本讨拉特；那就是犹太教徒和基督徒所拥有的旧约圣经，还有一本被称为引支勒的书，这两本书可从基督徒那里找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E0D4B-8438-4A71-A974-CC8ED2DBABA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0" y="0"/>
            <a:ext cx="121921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8.1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）祭司及文士的专业抄写圣经的流传，证明圣经</a:t>
            </a:r>
            <a:r>
              <a:rPr b="1" lang="zh-TW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没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被窜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早期的祭司，文士们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如何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抄写圣经呢？他们分成一组一组的人，非常小心并分工合作。由于希伯来文字有许多的点与划，只要多一个点，意思就会不同。因此，他们把工作分配成有一组人专门抄写。抄写完了，就交给另一组人去查看，点算每一行有没有抄错或少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最后，再交由另一组人去查看，它们的点与划有没有记录错误。如果，抄错一个字或少写一个字，或多加，或少加一点一划，整篇的抄写就立刻要把它毁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A9D19-0E07-4DF9-ABE0-545282A0267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0" y="0"/>
            <a:ext cx="121921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们一天只工作几个小时，间中有几次的休息，目的是要保持自己的精神体力，在最清醒的状态里。他们将圣经抄写在清洁的羊皮卷上。每一组的人不单手要动，眼要动，口也要动，因此要开口把经文念出来，一面抄，一面把它读出声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当写到「耶和华上帝」这字时，他们必须先把笔头擦干净，如果自己的手有些墨汁，就要立刻去将手洗干净。甚至如果身体出汗，就立刻要放下工作，去洗澡，免得污秽了上帝神圣的名及神圣的话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0BA5B-4528-4A82-B2D1-E41AA724860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0" y="0"/>
            <a:ext cx="120729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有一位着名的拉比（犹太的宗教司）对从事这类工作的文士这样说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「你们当庄严的看待你们的工作，上帝圣言的规范在你们手中。你们所做的，乃是属天的执事。若你们在抄写上有心或无心的，减少或增加了一个字，或一点，一划，你们就是一个败坏这世界的恶者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像这样的认知，对所有的犹太人来说是平常的。世界上所有的宗教经典，在其流传的过程中，从没有像犹太文士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对圣经这样的敬重，庄严看待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45477-CC9F-4B9B-A0C7-AD140D051A2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0" y="0"/>
            <a:ext cx="1219212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古</a:t>
            </a:r>
            <a:r>
              <a:rPr b="1" lang="zh-CN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犹太经典编纂家，必须严格遵守抄写圣经的纪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.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犹太会堂所用的经卷一律抄在清洁的兽皮之上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.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必须是经由犹太人的手来为犹太人的会堂而预备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.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经卷必须用清洁的兽皮所制成的皮带系在一起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.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经卷中每张的兽皮，所包含的段数必须一致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.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每一段数的宽度不得少过四十八行，也不得多过六十行；每一行长度不得超过三十个字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.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全本需以划行列抄写，若头三字写成时，尚未划好行列，必须作废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.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必须用黑色墨水，须照同一配方制成，不得用红，绿，蓝或其它墨水书写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.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抄写用的范本必须是真品，抄写时不得任意修改其中的字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4845E-B102-4C83-B53E-78AC52F6C2D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-96840" y="0"/>
            <a:ext cx="12288960" cy="51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9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抄写时，必须按抄本所记抄写。不可有一字，一点，一划是按自己的记忆来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0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每个字音之间必须有细微的空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1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每段间，应留有九个子音空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2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每一书卷之间要留出三行空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3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摩西五经中第五经末尾结束时，必须划出一行空隙。其它书则不必如此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4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抄写之人必须穿戴犹太人的衣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5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抄写前必须沐浴更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6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新沾墨水的新笔，不能用来写上帝的名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7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当写及神的名时，即使有王来对他说话，也不能停下理会，必须完成。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F2839-AC5E-4BC7-A076-3AEDCD5DB81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0" y="0"/>
            <a:ext cx="12192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凡不依以上规定写成的经卷，应被弃之不用，有误差的，必将它焚烧，绝不能用在会堂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固此，犹太人对文士们所抄写的抄本，非常具有信心。他们相信这些副本，就如正本一样地有权威。因为，那是非常专业的作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8DF75-5655-4398-96D1-0FFF646E56A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0" y="0"/>
            <a:ext cx="1219212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9900"/>
                </a:solidFill>
                <a:latin typeface="Arial"/>
                <a:ea typeface="新宋体"/>
              </a:rPr>
              <a:t>古 </a:t>
            </a:r>
            <a:r>
              <a:rPr b="1" lang="en-US" sz="3000" spc="-1" strike="noStrike">
                <a:solidFill>
                  <a:srgbClr val="009900"/>
                </a:solidFill>
                <a:latin typeface="Arial"/>
                <a:ea typeface="新宋体"/>
              </a:rPr>
              <a:t>5:14-15</a:t>
            </a:r>
            <a:r>
              <a:rPr b="1" lang="zh-CN" sz="3000" spc="-1" strike="noStrike">
                <a:solidFill>
                  <a:srgbClr val="009900"/>
                </a:solidFill>
                <a:latin typeface="Arial"/>
                <a:ea typeface="新宋体"/>
              </a:rPr>
              <a:t>。我与那些自称耶稣教徒的人立约，但他们忘掉所劝他们的一部份</a:t>
            </a:r>
            <a:r>
              <a:rPr b="1" lang="en-US" sz="3000" spc="-1" strike="noStrike">
                <a:solidFill>
                  <a:srgbClr val="009900"/>
                </a:solidFill>
                <a:latin typeface="Arial"/>
                <a:ea typeface="新宋体"/>
              </a:rPr>
              <a:t>…</a:t>
            </a:r>
            <a:r>
              <a:rPr b="1" lang="en-US" sz="3000" spc="-1" strike="noStrike">
                <a:solidFill>
                  <a:srgbClr val="009900"/>
                </a:solidFill>
                <a:latin typeface="Arial"/>
                <a:ea typeface="新宋体"/>
              </a:rPr>
              <a:t>.</a:t>
            </a:r>
            <a:r>
              <a:rPr b="1" lang="zh-CN" sz="3000" spc="-1" strike="noStrike">
                <a:solidFill>
                  <a:srgbClr val="009900"/>
                </a:solidFill>
                <a:latin typeface="Arial"/>
                <a:ea typeface="新宋体"/>
              </a:rPr>
              <a:t>有经的人哪！我的使者业已来至你们；解明很多你们在经上所隐匿的，且放弃了许多。确实光亮与清楚的经典，已经从安拉达至你们了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9900"/>
                </a:solidFill>
                <a:latin typeface="Arial"/>
                <a:ea typeface="新宋体"/>
              </a:rPr>
              <a:t>古</a:t>
            </a:r>
            <a:r>
              <a:rPr b="1" lang="en-US" sz="3000" spc="-1" strike="noStrike">
                <a:solidFill>
                  <a:srgbClr val="009900"/>
                </a:solidFill>
                <a:latin typeface="Arial"/>
                <a:ea typeface="新宋体"/>
              </a:rPr>
              <a:t>6:91</a:t>
            </a:r>
            <a:r>
              <a:rPr b="1" lang="zh-CN" sz="3000" spc="-1" strike="noStrike">
                <a:solidFill>
                  <a:srgbClr val="009900"/>
                </a:solidFill>
                <a:latin typeface="Arial"/>
                <a:ea typeface="新宋体"/>
              </a:rPr>
              <a:t>你们把那部天经抄录在一些散纸上，你们发表一部份，隐藏大部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526FC-F5F6-4A46-A464-29FE8250EE5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0" y="0"/>
            <a:ext cx="12072960" cy="31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8.2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）现在所流传的圣经与古</a:t>
            </a:r>
            <a:r>
              <a:rPr b="1" lang="zh-TW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抄本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一样，证明圣经没有被窜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经历史学家罗拔逊，曾统计过已发现的圣经古抄本数量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最早的新旧约全本圣经，拉丁文通俗译本圣经的手抄卷（约有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600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的历史），已被发觉的有八千件，另外至少有一千卷其它更古的抄本，再加上四千卷希腊文的抄本，共计一万三千多部古圣经手抄本」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历史留下了这么多的古旧抄本，成为我们后世最宝贵的遗产。我们只要把现代的译本拿来对照，就能知道现在所流传的圣经，与古代的圣经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是否有出入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85C72-E7AB-4A34-B499-4D41E3B354F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0" y="0"/>
            <a:ext cx="1219212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森德森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C.Senders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「英语文学史研究简介」一书中，曾列举三重最基本考验及编纂史料的原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I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参考文献的测验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bibliographical test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II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文体内证测验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internal evidence test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III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文体外证测验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external evidence test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今天所流传的圣经，已经经过这三大测验，而证实它的真实性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696CF-4643-4CD5-8AC5-273D5ADEA65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0" y="0"/>
            <a:ext cx="12192120" cy="42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8.3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）今天的圣经经得起历史考证，证明没被窜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安东尼何德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fenton john anthony hort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曾毕生献身研究圣经的各种抄本，他被视为经卷考证学的权威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说：「圣经中有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98%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经文，已被专门考究而确定是符合原本的圣经。至于其余的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％的经文，在经文批判学中看来，只限于文句排列的先后次序的不同看法，而有些争议未免太过琐碎根本无足轻重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如果我们放下这些琐碎的争议，那么差异的范围就可以大为减少。如果我们下定决心，若不是找到绝对的证据，就不轻易论断现有经文的对错；再略去抄本拼字法不同的差异，那么圣经中真正能有一些争议的经文不足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%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若以此计算，那么我们就知道，真正值得研讨下去的抄本间经文的差异，只占非常非常小的部份，甚至不超过经文的千份之一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0E067-E60C-4713-9B7E-29CE0897E68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0" y="0"/>
            <a:ext cx="12192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8.4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）初期的原文手抄本，印证今天圣经的可靠性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赖兰抄本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John Ryland: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是最早的一份新约圣经抄本，于公元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3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间写成，现存英国曼彻斯特的赖兰图书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彻斯贝弟草纸抄本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Chester Beatty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约于公元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0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左右写成，现存在柏林博物馆，其中一部份属于美国密西根大学所有。这三大卷包含大部份的新约经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8ADA5-D149-45DF-BD2B-9BC913D2669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0" y="0"/>
            <a:ext cx="1219212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宝母草纸经卷手抄本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Bodmer Paparus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约于公元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5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至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0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之间的作品，现存于世界文学宝母图书馆，经卷中主要是约翰福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西乃山抄本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Codex Sinaiticus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约在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5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写成，现存于大英博物馆。这抄本除了缺少马可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6:9-20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及约翰福音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:53-8:11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外；几乎包括新约及旧约所有圣经的部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亚历山大抄本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Codex Alexandrinus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公元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0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之间写成，现存于大英博物馆，分四卷装钉以希腊文写成。旧约失去十页，马太福音失去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5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页；约翰福音失去两页，哥林多书信失去三页，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它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几乎包括整本新旧约圣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6093C-6445-4B5A-B0F0-13F478F1C7A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0" y="0"/>
            <a:ext cx="121921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梵蒂冈抄本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Codex Vaticanus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在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25  35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写成，现存在梵蒂冈图书馆里，抄本几乎包括全本圣经。计有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59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页，只失掉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-46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章，提摩太，提多，腓力门书及启示录一，二两章。学者认为这是最有价值的希腊文手抄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以法连抄本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Codex Ephraemi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写于公元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0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，现存于法国巴黎图书馆。这是一份羊皮卷抄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贝撒抄本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Codex Bezae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在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5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完成，现存于剑桥图书馆中，包含同时用希腊文及拉丁文写成的四福音及使徒行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3BCD1-B14A-4263-B48B-B98B3A4FB96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0" y="0"/>
            <a:ext cx="12192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华盛顿抄本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codex washingtone;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于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50-55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间完成，包括四福音，以下例顺序写出：马太，约翰，路加，马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抄本之权威性结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经经文批判学家格林理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harold Greelee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说到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Microsoft JhengHei"/>
                <a:ea typeface="Microsoft JhengHei"/>
              </a:rPr>
              <a:t>「</a:t>
            </a:r>
            <a:r>
              <a:rPr b="1" lang="en-US" sz="3200" spc="-1" strike="noStrike">
                <a:solidFill>
                  <a:srgbClr val="333399"/>
                </a:solidFill>
                <a:latin typeface="Microsoft JhengHei"/>
                <a:ea typeface="Microsoft JhengHei"/>
              </a:rPr>
              <a:t>…</a:t>
            </a:r>
            <a:r>
              <a:rPr b="1" lang="en-US" sz="3200" spc="-1" strike="noStrike">
                <a:solidFill>
                  <a:srgbClr val="333399"/>
                </a:solidFill>
                <a:latin typeface="Microsoft JhengHei"/>
                <a:ea typeface="Microsoft JhengHei"/>
              </a:rPr>
              <a:t>..</a:t>
            </a:r>
            <a:r>
              <a:rPr b="1" lang="zh-CN" sz="3200" spc="-1" strike="noStrike">
                <a:solidFill>
                  <a:srgbClr val="333399"/>
                </a:solidFill>
                <a:latin typeface="Microsoft JhengHei"/>
                <a:ea typeface="Microsoft JhengHei"/>
              </a:rPr>
              <a:t>已发现的新约圣经手抄本，其抄成日期与新约圣经原作者写成的时间日期，相隔非常短，这是一切古典文献所不能比美的。圣经原稿完成后不及 </a:t>
            </a:r>
            <a:r>
              <a:rPr b="1" lang="en-US" sz="3200" spc="-1" strike="noStrike">
                <a:solidFill>
                  <a:srgbClr val="333399"/>
                </a:solidFill>
                <a:latin typeface="Microsoft JhengHei"/>
                <a:ea typeface="Microsoft JhengHei"/>
              </a:rPr>
              <a:t>100</a:t>
            </a:r>
            <a:r>
              <a:rPr b="1" lang="zh-CN" sz="3200" spc="-1" strike="noStrike">
                <a:solidFill>
                  <a:srgbClr val="333399"/>
                </a:solidFill>
                <a:latin typeface="Microsoft JhengHei"/>
                <a:ea typeface="Microsoft JhengHei"/>
              </a:rPr>
              <a:t>至</a:t>
            </a:r>
            <a:r>
              <a:rPr b="1" lang="en-US" sz="3200" spc="-1" strike="noStrike">
                <a:solidFill>
                  <a:srgbClr val="333399"/>
                </a:solidFill>
                <a:latin typeface="Microsoft JhengHei"/>
                <a:ea typeface="Microsoft JhengHei"/>
              </a:rPr>
              <a:t>400</a:t>
            </a:r>
            <a:r>
              <a:rPr b="1" lang="zh-CN" sz="3200" spc="-1" strike="noStrike">
                <a:solidFill>
                  <a:srgbClr val="333399"/>
                </a:solidFill>
                <a:latin typeface="Microsoft JhengHei"/>
                <a:ea typeface="Microsoft JhengHei"/>
              </a:rPr>
              <a:t>年间，就有了许多的手抄本留下。这样看来，新约圣经的可靠性，岂不是显而易见的么。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91461-660D-4EBB-ABA4-DD0D8E771D1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0" y="0"/>
            <a:ext cx="12192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8.5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）早期的非原文译本印证了今天圣经的可靠性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基督教自创始就是一个向外传的宗教。但圣经在传道的过程中，则没有太快被译成他们的文字。因此，古代的圣经手抄本，可以印证原稿的可靠性，主要原因是这些古代的译本并不太混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新约圣经最早的译本是由一群传道人，用叙利亚，拉丁及北非文字写成。以叙利亚文及拉丁文写成的圣经，早在公元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5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就开始出现，这与新约圣经原本写成的日期非常相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77935-5A10-4E7B-BF8E-0AF094F78BE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0" y="0"/>
            <a:ext cx="1219212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叙利亚文通俗译本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syriac peshitta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peshitta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字的原意为「简单」，此乃公元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5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至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5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左右完成的标准译本。自公元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0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流传下来的此类译本尚有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5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斐罗圣尼版本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philoxenian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约在公元后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08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时完成，是教会教父波理克为马博主教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bishop of mabug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由斐罗圣尼所译成的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新叙利亚文的新约圣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哈克兰叙利亚交译本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Harkleian syriac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由哈克理的多马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thomas of harkle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于公元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16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译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E9860-9D04-4BE1-9912-28F6644720E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0" y="0"/>
            <a:ext cx="12192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巴勒斯坦叙利亚文译本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Palestinan syriac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一般学者考据此译本是在公元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0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至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5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（第五世纪左右）时译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Microsoft JhengHei"/>
                <a:ea typeface="Microsoft JhengHei"/>
              </a:rPr>
              <a:t>古拉丁文译本</a:t>
            </a:r>
            <a:r>
              <a:rPr b="1" lang="en-US" sz="3200" spc="-1" strike="noStrike">
                <a:solidFill>
                  <a:srgbClr val="333399"/>
                </a:solidFill>
                <a:latin typeface="Microsoft JhengHei"/>
                <a:ea typeface="Microsoft JhengHei"/>
              </a:rPr>
              <a:t>old lat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拉丁文译本：这是第四至十三世纪时常用的语言，在第三世纪时，就已经有一种古拉丁文新约译，本在北非及欧洲流传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可比安西拉丁文译本」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codex corbiensis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其中包含四福音书，约在公元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0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至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0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间完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委西冷兰拉丁文译本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codex vercellensis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在公元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6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写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642E3-A845-42C1-8026-763A4768389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"/>
          <p:cNvSpPr/>
          <p:nvPr/>
        </p:nvSpPr>
        <p:spPr>
          <a:xfrm>
            <a:off x="0" y="0"/>
            <a:ext cx="12192120" cy="49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新宋体"/>
              </a:rPr>
              <a:t>按以上论篡改经文</a:t>
            </a:r>
            <a:r>
              <a:rPr b="1" lang="zh-TW" sz="2800" spc="-1" strike="noStrike">
                <a:solidFill>
                  <a:srgbClr val="ff3300"/>
                </a:solidFill>
                <a:latin typeface="Arial"/>
                <a:ea typeface="新宋体"/>
              </a:rPr>
              <a:t>的指控有几个重点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新宋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ff"/>
                </a:solidFill>
                <a:latin typeface="宋体"/>
                <a:ea typeface="宋体"/>
              </a:rPr>
              <a:t>⊕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新宋体"/>
              </a:rPr>
              <a:t>他们当中有一派人，曾听见真主的言语，他们既了解之后，便明知故犯的加以篡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ff"/>
                </a:solidFill>
                <a:latin typeface="Arial"/>
                <a:ea typeface="新宋体"/>
              </a:rPr>
              <a:t>⊕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新宋体"/>
              </a:rPr>
              <a:t>他们之中有些失学的人，不知经典，只是妄想，他们不过是揣度。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ff"/>
                </a:solidFill>
                <a:latin typeface="宋体"/>
                <a:ea typeface="宋体"/>
              </a:rPr>
              <a:t>⊕</a:t>
            </a:r>
            <a:r>
              <a:rPr b="1" lang="zh-TW" sz="3000" spc="-1" strike="noStrike">
                <a:solidFill>
                  <a:srgbClr val="0000ff"/>
                </a:solidFill>
                <a:latin typeface="宋体"/>
                <a:ea typeface="宋体"/>
              </a:rPr>
              <a:t>他们</a:t>
            </a:r>
            <a:r>
              <a:rPr b="1" lang="zh-CN" sz="3000" spc="-1" strike="noStrike">
                <a:solidFill>
                  <a:srgbClr val="0000ff"/>
                </a:solidFill>
                <a:latin typeface="宋体"/>
                <a:ea typeface="宋体"/>
              </a:rPr>
              <a:t>抄写圣经来卖。他们这么做，不知不觉就错写圣经，误导「买，读，教」的人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ff"/>
                </a:solidFill>
                <a:latin typeface="宋体"/>
                <a:ea typeface="宋体"/>
              </a:rPr>
              <a:t>⊕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新宋体"/>
              </a:rPr>
              <a:t>耶稣教徒的人，他们忘掉</a:t>
            </a:r>
            <a:r>
              <a:rPr b="1" lang="zh-TW" sz="2800" spc="-1" strike="noStrike">
                <a:solidFill>
                  <a:srgbClr val="0000ff"/>
                </a:solidFill>
                <a:latin typeface="Arial"/>
                <a:ea typeface="新宋体"/>
              </a:rPr>
              <a:t>，放弃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新宋体"/>
              </a:rPr>
              <a:t>所劝他们的一部份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ff"/>
                </a:solidFill>
                <a:latin typeface="Arial"/>
                <a:ea typeface="新宋体"/>
              </a:rPr>
              <a:t>⊕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新宋体"/>
              </a:rPr>
              <a:t>你们把那部天经抄录在一些散纸上，你们发表一部份，隐藏大部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C5EED-93CB-402C-8E4F-DDF94359CF7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0" y="0"/>
            <a:ext cx="12192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巴拉丁拉丁文译本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codex palatinus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在第五世纪写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拉丁文通俗译本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Latia Vulgate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柔米乃大马士革城的教区秘书，后成为罗马主教。他曾应主教之命，将新约圣经于公元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66-384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间将它译成通俗的拉丁文圣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北非（或埃及）文译本：考古学家布如斯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FF.Bruce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认为第一部埃及文新约圣经，很可能在第三或第四世纪已译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沙希德译本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Sahidic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于第三世纪初业开始出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2D98C-3B4E-442F-BF1A-F870D9F8918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0" y="0"/>
            <a:ext cx="1219212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巴海里克译本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Bahairic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编者克色尔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Radalphe kasser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认为该译本是在第四世纪左右时译成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中埃及文译本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iddle Egyptian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于第四或第五世纪完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9E385-81A2-4591-B6E5-EE18213794B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0" y="0"/>
            <a:ext cx="12192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9) 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近代考古之发现，证明圣经并没有被窜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旧约圣经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Torah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共有三十九卷书。在「死海古卷」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还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没有被发现以前，我们所拥有最完整的妥拉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特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旧约抄本，大都属于在公元五百至九百年左右的作品。旧约的三十九卷希伯来文圣经，真正完成正典鉴定的时间，大约是在主耶稣降世前四百年左右完成。学者们相信，最早的头五卷旧约圣经（摩西五经）是于公元前一千五百年左右（距今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50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）写成，距全部正典成形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大约一千二百年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原本与抄本的年代距离相当久远，到底两者之间有没有差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75B17-931A-45EA-AE03-936A2FD203C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47520" y="0"/>
            <a:ext cx="12144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乍看之下，旧约方面的抄本文献，不像新约圣经那么丰富，直到「死海古卷」被发现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就如甘扬爵士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Sir kenyon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所说的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「一切的疑问已找到答案，基督徒可以将圣经，不论是新约或是旧约，拿在手上而可以自信且不自欺的对世人说：这是创造者上帝，启示给人类唯一正典的话语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许多人有个疑问：「今天所流传的旧约圣经，与原本的经卷，究竟有多少的差别」。旧约经卷被重复抄写这么多次，它有没有误差或抄错的可能？由所发现的死海古卷，考古学家找到了非常有力的答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1D53C-38E1-4084-BAA2-91DEBC9D575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0" y="0"/>
            <a:ext cx="12192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9.1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什么是死海古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死海古卷是由约四万个经卷碎片所组成，这些碎片拼凑成五百份大小的经卷。在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947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三月间，有个牧童名叫莫罕莫德，出外找寻迷羊。为了探测羊是不是掉入山崖某个洞穴，用一块石头掷入崖洞里，此洞穴距离耶利哥城之南，约有八哩之远。出乎意料之外，他听见石子打破瓦器的声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好奇的爬入洞穴内，发现洞穴地面上摆放几个大瓦罐，里面藏有许多皮质的经卷，全用棉布包裹保存；瓦罐且有妥善密封的收藏。这些经卷后来证实已有两千年的时间（约在公元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8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左右存入此地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73EFC-1029-4D17-8EC6-231322E4156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-3240" y="-34920"/>
            <a:ext cx="121921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9.2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死海古卷的价值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几百份的死海古卷的作品中，有一份非常齐全的书卷是以赛亚先知书，据考古学家的鉴定，那是公元前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25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以前的作品。其余的作品，约完成于公元前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50-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至公元后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8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各不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死海古卷的发现，所带来最大的影响力，乃是印证了于公元前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25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以前，所抄写成的以赛亚先知书和主后一千年以后，马所礼人所抄写的以赛亚先知书的内容，两者完全没有差别与误差。这证明古代抄写圣经的文士们，抄写的精确性程度，历经一千多年都没有差别。近代考古学的印证，给马所礼人抄写希伯来人文圣经的准确性，作了鉴定的见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76088-5496-4AC1-AAF7-C3BFF27831D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0" y="0"/>
            <a:ext cx="1219212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考古学者部如斯</a:t>
            </a:r>
            <a:r>
              <a:rPr b="1" lang="en-US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F.F. BRUCE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说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在当地昆兰的其它石穴中，我们又发现另一卷不全的以赛亚先知书，为方便，我们称它为「以赛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卷」。它若与马所礼抄本的以赛亚书比较，我们可以说它们两者间并没全什么误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鲍罗斯</a:t>
            </a:r>
            <a:r>
              <a:rPr b="1" lang="en-US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Millar Burrows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在「死海古卷」一书中说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旧约圣经历经了一千多年，不断重复的抄写，我们发现两千年前的古抄本，与一千年后的抄本的内容，在对照之下却无什么变动，这实在是件神迹。死海古卷被发现，其最重要的价值与供献，乃是它能印证马所礼旧约圣经抄本（公元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50-90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间）的可靠性」。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F7B92-0A3D-464C-B7B1-6CAE666686B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0" y="0"/>
            <a:ext cx="12072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9.3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马所礼时代的旧约抄本</a:t>
            </a:r>
            <a:r>
              <a:rPr b="1" lang="en-US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Massorectic period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马所礼人（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the Massorectic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字有传统的意思），他们是犹太人，专门从事编辑，抄写，校订，出版，修补圣经的人士。他们出现于公元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百至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百年间，总部设在犹太地的加利利海附近。他们所编辑，抄写，校订出来的旧约圣经，被称为马所礼经卷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assorectic text.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马所礼经卷直到今天，被公认为最标准的希伯来旧约圣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们的生活与工作态度非常严谨，以极敬虔的心态来从事圣经的抄写。为了避免抄错，他们设计出一套十分复杂的系统，来防止差误的发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BA24A-B1ED-4C3E-B1FD-88701441140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0" y="0"/>
            <a:ext cx="121921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例如；在抄写前，甚至先计算每卷书中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每个字母出现几次，出现在第几排，每排的第一个字，中间，最后一个是什么字等等。除此以外，他们也设计许多更精细的计算法，以此来校对所抄写的经文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甘扬爵士</a:t>
            </a:r>
            <a:r>
              <a:rPr b="1" lang="en-US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Sir Frederic Kenyon</a:t>
            </a:r>
            <a:r>
              <a:rPr b="1" lang="zh-CN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说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马所礼人，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设计了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一套有效抄写圣经的方法，在校对的时候，常着手于字数的计算。马所礼人记下经文的句数，字数，甚至有多少点与划的数目。他们也计算出每行字中间的字，与左右两边的字是什么。这些细节听起来非常琐碎。但在抄本的校对时，这些数字能立刻指出，所抄写的经文有否误差。马所礼人是真做到关心圣经的每一句，每一个字，每一点，每一划都不被抄漏的人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A7611-7176-4209-8974-A027A09FE21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47520" y="0"/>
            <a:ext cx="121446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二十世纪的犹太教法师阿巴克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Rabbi Aquipa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一心视印制最正确的圣经为已任，他说：马所礼人正确及有效的抄写圣经，成为保存旧约圣经，处于最准确的一道防护墙，使流传于现今世界的圣经，处于不误差的地位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旧约圣经对历史有精准的记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狄威胜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Dick Wilson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其「科学化的旧约探测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Scientific Investigation of Old Testament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」一书中，如此说道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B582D-04F0-4156-B755-6959CB0FAA5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0" y="0"/>
            <a:ext cx="12192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新宋体"/>
              </a:rPr>
              <a:t>首先，必须明白穆罕默德说出这指控的背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由于穆氏希望向犹太人示好，宣称所传的与祖先亚伯拉罕同为一根源。由于穆罕默德所论说讨拉特（旧约）的事迹，与旧约圣经所记载的不十分吻合，又自称为先知，犹太人知道在麦地纳的穆罕默德，拥有政治，军事，宗教，经济的权柄，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新宋体"/>
              </a:rPr>
              <a:t>加上圣战的手段，都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不敢正面挑战他的先知权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只有非常少部份的人敢大胆的，指他说的不符合讨拉特。大部份都是胆小的，只能巧妙的避开，表面假装顺从，心却远离，甚至在转述时，扭曲他所说过的，向穆斯林隐满真理事实，不肯告诉穆斯林讨拉待的真正意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DC40B-EBE6-400B-8144-63FFC5CB24E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0" y="0"/>
            <a:ext cx="12192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由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44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件自埃及文，亚述文，巴比伦文，及摩押文之古文献中，我们发现由其音译成希伯来的国名，地名中；或者由四十位不同时代的圣经作者，由希伯来文译成以上各语文字的地名，国名等名字中，有二千三百年至三千九百年的时间，圣经中所有的地名，国名，人名从没有记错及译错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最初的文士们在译这些名字时，必定是使用了最正确的语言学原则，使原名与译名间达到最接近，这充分证明他们的细心与学术精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7AA62-C58D-4C13-A56E-808B041EAD9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0" y="0"/>
            <a:ext cx="12192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根据这个有力的事实证据。狄氏总结说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经过科学化的考证，这个证据说明旧约圣经的原版，经过二千年的重复抄写，仍然以十分精准的形式，遗留给今天的我们，这样的一个确据不容我们忽略。这不但证明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00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前的原版圣经与两千年后的圣经抄本，就历史的记载来说，仍旧是百分百的准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除此之外，我们实在不得不佩服，这种能经得起科学性批判的精确性记载，这样的精确性，可说是空前绝后的，且是有目共睹的。」圣经能有这样神奇性的保守，岂不是出于上帝之使然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C0381-4006-472D-B1D7-239B1EA9E07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0" y="0"/>
            <a:ext cx="1219212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9.4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其它考古学者的证明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犹太名考古学家尼孙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Nelson Glueck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说道：「我可以非常肯定的说，至今所有考古学上的发现，还没有一项是与圣经内容相抵触的。圣经中有关历史的记载，其精确性是无可比拟的，尤其考古学的发现一一证明它们时，更是鉴定了它的精准性权威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甘扬爵士</a:t>
            </a:r>
            <a:r>
              <a:rPr b="1" lang="en-US" sz="28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Sir Frederic Kenyon</a:t>
            </a:r>
            <a:r>
              <a:rPr b="1" lang="zh-CN" sz="28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「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我们可以名正言顺的说，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9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世纪末期，那些企图破坏圣经权威的人士与学说，如今已不能站立与存留。近代考古学的种种证据，印证圣经所提到的古代民族，文化，社会的事实情况。同时加强我们对圣经，所记的历史背景有更深，更完整的新知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5A8C0-C60D-48BC-9FCA-9C3CA6E5091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0" y="0"/>
            <a:ext cx="12192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考古学的工作至今尚未全部完成，但从已发掘的证据，足以使所有的人类，可以对圣经的精确性，产生全备信心的依据。圣经的真实性，将随着人类知识的增加，而更为显着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奥部来德</a:t>
            </a:r>
            <a:r>
              <a:rPr b="1" lang="en-US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william F Albright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近代世界闻名考古学权威；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无疑的，考古学已经证明了，旧约圣经有绝对精准的历史记载。当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8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9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世纪期间，许多历史学家有些怀疑，圣经中历史的记载是否正确。但早期的这些怀疑学派之疑点已被一一否定。考古学上种种的新发现，一再证明圣经中许多细枝末节部分的可靠性，使学者们不得不信，圣经乃是一部查考人类历史，最好的参考资料」。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96885-DEB9-4FF2-B2E3-0A145DCBE79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0" y="0"/>
            <a:ext cx="121921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结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反对圣经的人士，尤其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是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第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七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世纪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以后的穆斯林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当被问及所传的信息内容，为何会与旧约及新约的内容有别时，他们宣称摩西的律法（旧约圣经）及耶稣基督的福音（新约），已经被后期的人窜改过，失去它的真实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回教徒这样的指责，除了没有办法提供「窜改」的证据；证明犹太人或基督徒曾作过窜改。反而，在近代科学，历史预言，考古学及死海古卷的发现与鉴定之下，再次证明这些指责是绝对没有根据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考古学及「死海古卷」，同时证明圣经在其流传越过一，两千年后，今天所流传的圣经与两千年前所流传的圣经，完全是一样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指犹太人及基督徒，将妥拉</a:t>
            </a:r>
            <a:r>
              <a:rPr b="1" lang="en-US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Torah(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旧约圣经</a:t>
            </a:r>
            <a:r>
              <a:rPr b="1" lang="en-US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)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及引支勒</a:t>
            </a:r>
            <a:r>
              <a:rPr b="1" lang="en-US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Injial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（新约圣经）窜改的误</a:t>
            </a:r>
            <a:r>
              <a:rPr b="1" lang="zh-TW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解帕子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，奉真主的名，现在可以移走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C741E-701F-4918-ACB1-45E51298A1E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0" y="0"/>
            <a:ext cx="1219212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新宋体"/>
                <a:ea typeface="新宋体"/>
              </a:rPr>
              <a:t>犹太人对穆罕默德的教导不认真对待</a:t>
            </a:r>
            <a:r>
              <a:rPr b="1" lang="zh-TW" sz="3200" spc="-1" strike="noStrike">
                <a:solidFill>
                  <a:srgbClr val="ff3300"/>
                </a:solidFill>
                <a:latin typeface="新宋体"/>
                <a:ea typeface="新宋体"/>
              </a:rPr>
              <a:t>原因有三</a:t>
            </a:r>
            <a:r>
              <a:rPr b="1" lang="zh-TW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为了避免揪开了他对旧约的错误</a:t>
            </a:r>
            <a:r>
              <a:rPr b="1" lang="zh-TW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指责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.                          2.</a:t>
            </a:r>
            <a:r>
              <a:rPr b="1" lang="zh-TW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不肯认同他的先知职分教导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…  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不肯向穆斯林显明真理</a:t>
            </a:r>
            <a:r>
              <a:rPr b="1" lang="zh-TW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，免得正面起冲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新宋体"/>
              </a:rPr>
              <a:t>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等怪异表现，是由於他们惧怕公然抵触，抵挡穆罕默德的先知权威。那是极危险的事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当穆罕默德说：古兰经印证了犹太人，所拥有并诵习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宋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讨拉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宋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。犹太人不敢接受认同，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新宋体"/>
              </a:rPr>
              <a:t>以避重就轻的态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拒绝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新宋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结果被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新宋体"/>
              </a:rPr>
              <a:t>指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为要求别人成为义，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新宋体"/>
              </a:rPr>
              <a:t>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忘了自己应当成为义，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新宋体"/>
              </a:rPr>
              <a:t>由於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他们宣称自己已经有摩西的书，因此拒绝古兰经，又向穆斯林隐藏圣经中的真理，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新宋体"/>
              </a:rPr>
              <a:t>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此犹太人被认为是对神话语和态度不忠实的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1T01:34:04Z</dcterms:created>
  <dc:creator>Pastor Chan</dc:creator>
  <dc:description/>
  <dc:language>en-US</dc:language>
  <cp:lastModifiedBy>chan HK</cp:lastModifiedBy>
  <dcterms:modified xsi:type="dcterms:W3CDTF">2024-11-04T03:19:31Z</dcterms:modified>
  <cp:revision>90</cp:revision>
  <dc:subject/>
  <dc:title>Slide 1</dc:title>
</cp:coreProperties>
</file>