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DE70-D487-44B9-9D41-22B092D61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0F66-C652-4A31-BD52-65BE10DED9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014-F159-4684-95EC-7FF57CA4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10972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3C1-CD09-472E-91DC-A30499F9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535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232320" y="3948480"/>
            <a:ext cx="535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BE7F-AA43-4D00-A671-A7F844FA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3533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4319640" y="3948480"/>
            <a:ext cx="3533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8029800" y="3948480"/>
            <a:ext cx="3533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5A8C-438B-455E-9EDD-65048F19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4DEB8-AC5A-40CC-8FE6-64CBFAFB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81CD3-17B6-4AD5-B2CE-9F12BC43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5D3F2-65F3-4491-B6B6-172CC3CD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7B32B-07E8-4335-8645-DF04FC67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BBEC0-441A-439A-AA8D-95617A67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F6DC3-16EC-41E2-A154-7D9AC7FA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535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35DEB-0E99-437D-BF0B-E64C23AC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DBC-A807-40CA-AB27-A03EB1A5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32320" y="3948480"/>
            <a:ext cx="535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F69CC-A011-4131-8A82-FDCB2644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10972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3304A-4861-4EA8-B01F-55422DB3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10972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83428-1FC5-403F-BC35-18C0F634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535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32320" y="3948480"/>
            <a:ext cx="535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AF60B-5CA1-4E4B-A102-59909C74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3533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19640" y="3948480"/>
            <a:ext cx="3533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029800" y="3948480"/>
            <a:ext cx="3533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10737-01C5-485A-B26B-00E02346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CB5-3DB9-4083-A87D-8519698A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6AA-7044-47F6-A855-82DFD210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4F9-AEA7-4D8A-A9A5-0AAD6452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BC6-2651-4718-BF45-7D3330E4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535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318-027A-4F22-A266-FBF96C5C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2320" y="3948480"/>
            <a:ext cx="535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B19-B6FB-4A84-BD96-89C101CB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10972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18C-F04B-463D-B80C-4185B951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2191760" cy="6858000"/>
            <a:chOff x="0" y="0"/>
            <a:chExt cx="1219176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1219176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1219176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8331120" y="6262560"/>
            <a:ext cx="386100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10463760" cy="857160"/>
            <a:chOff x="0" y="6019920"/>
            <a:chExt cx="10463760" cy="857160"/>
          </a:xfrm>
        </p:grpSpPr>
        <p:sp>
          <p:nvSpPr>
            <p:cNvPr id="5" name="Freeform 7"/>
            <p:cNvSpPr/>
            <p:nvPr/>
          </p:nvSpPr>
          <p:spPr>
            <a:xfrm>
              <a:off x="3149640" y="6019920"/>
              <a:ext cx="685728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5555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5261760" y="6019920"/>
              <a:ext cx="5202000" cy="857160"/>
              <a:chOff x="5261760" y="6019920"/>
              <a:chExt cx="520200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8355960" y="6031080"/>
                <a:ext cx="210780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665680" y="6019920"/>
                <a:ext cx="39348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412680" y="6180120"/>
                <a:ext cx="7999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7678080" y="6137280"/>
                <a:ext cx="32796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261760" y="6126120"/>
                <a:ext cx="8856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841536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3e3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836640" y="6021360"/>
            <a:ext cx="7578360" cy="849240"/>
            <a:chOff x="836640" y="6021360"/>
            <a:chExt cx="7578360" cy="849240"/>
          </a:xfrm>
        </p:grpSpPr>
        <p:sp>
          <p:nvSpPr>
            <p:cNvPr id="14" name="Freeform 16"/>
            <p:cNvSpPr/>
            <p:nvPr/>
          </p:nvSpPr>
          <p:spPr>
            <a:xfrm>
              <a:off x="2531520" y="6021360"/>
              <a:ext cx="77256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112640" y="6078600"/>
              <a:ext cx="430236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873600" y="6068880"/>
              <a:ext cx="15012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809720" y="6099120"/>
              <a:ext cx="34056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494360" y="6118200"/>
              <a:ext cx="1245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36640" y="6049800"/>
              <a:ext cx="51804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经典楷体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经典楷体简"/>
              </a:rPr>
              <a:t>WOWish62@aol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本士化宣教危机或良策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3E9D-160F-4A27-894A-96B322A8C9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7920" y="20520"/>
            <a:ext cx="12191760" cy="6858000"/>
            <a:chOff x="-7920" y="20520"/>
            <a:chExt cx="12191760" cy="6858000"/>
          </a:xfrm>
        </p:grpSpPr>
        <p:sp>
          <p:nvSpPr>
            <p:cNvPr id="62" name="Freeform 3"/>
            <p:cNvSpPr/>
            <p:nvPr/>
          </p:nvSpPr>
          <p:spPr>
            <a:xfrm>
              <a:off x="-7920" y="4897440"/>
              <a:ext cx="1219176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7920" y="20520"/>
              <a:ext cx="1219176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8323200" y="6269040"/>
            <a:ext cx="386100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10458720" cy="850680"/>
            <a:chOff x="-1440" y="6033960"/>
            <a:chExt cx="10458720" cy="850680"/>
          </a:xfrm>
        </p:grpSpPr>
        <p:sp>
          <p:nvSpPr>
            <p:cNvPr id="66" name="Freeform 7"/>
            <p:cNvSpPr/>
            <p:nvPr/>
          </p:nvSpPr>
          <p:spPr>
            <a:xfrm>
              <a:off x="3147840" y="6033960"/>
              <a:ext cx="68569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5555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5259960" y="6033960"/>
              <a:ext cx="5197320" cy="850680"/>
              <a:chOff x="5259960" y="6033960"/>
              <a:chExt cx="519732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8353800" y="6045120"/>
                <a:ext cx="210348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5663880" y="6033960"/>
                <a:ext cx="39348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6410520" y="6194160"/>
                <a:ext cx="7999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7676280" y="6151320"/>
                <a:ext cx="32796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5259960" y="6140160"/>
                <a:ext cx="8856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841500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3e3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836640" y="6021360"/>
            <a:ext cx="7578360" cy="849240"/>
            <a:chOff x="836640" y="6021360"/>
            <a:chExt cx="7578360" cy="849240"/>
          </a:xfrm>
        </p:grpSpPr>
        <p:sp>
          <p:nvSpPr>
            <p:cNvPr id="75" name="Freeform 16"/>
            <p:cNvSpPr/>
            <p:nvPr/>
          </p:nvSpPr>
          <p:spPr>
            <a:xfrm>
              <a:off x="2531520" y="6021360"/>
              <a:ext cx="77256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4112640" y="6078600"/>
              <a:ext cx="430236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3873600" y="6068880"/>
              <a:ext cx="15012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809720" y="6099120"/>
              <a:ext cx="34056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494360" y="6118200"/>
              <a:ext cx="1245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836640" y="6049800"/>
              <a:ext cx="51804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C197-71EA-4CED-A723-2ABBA23802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本士化宣教危机或良策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http://www.debate.org.uk/topics/theo/islam_christ.html" TargetMode="External"/><Relationship Id="rId2" Type="http://schemas.openxmlformats.org/officeDocument/2006/relationships/hyperlink" Target="http://www.debate.org.uk/topics/theo/qur-jes.htm" TargetMode="External"/><Relationship Id="rId3" Type="http://schemas.openxmlformats.org/officeDocument/2006/relationships/hyperlink" Target="http://answering-islam.org/Intro/replacing.html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09320"/>
            <a:ext cx="1066788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新宋体"/>
                <a:ea typeface="新宋体"/>
              </a:rPr>
              <a:t>‘</a:t>
            </a:r>
            <a:r>
              <a:rPr b="1" lang="zh-CN" sz="3600" spc="-1" strike="noStrike">
                <a:solidFill>
                  <a:srgbClr val="ffffff"/>
                </a:solidFill>
                <a:latin typeface="新宋体"/>
                <a:ea typeface="新宋体"/>
              </a:rPr>
              <a:t>尔撒</a:t>
            </a:r>
            <a:r>
              <a:rPr b="1" lang="en-US" sz="3600" spc="-1" strike="noStrike">
                <a:solidFill>
                  <a:srgbClr val="ffffff"/>
                </a:solidFill>
                <a:latin typeface="新宋体"/>
                <a:ea typeface="新宋体"/>
              </a:rPr>
              <a:t>Isa,</a:t>
            </a:r>
            <a:r>
              <a:rPr b="1" lang="zh-CN" sz="3600" spc="-1" strike="noStrike">
                <a:solidFill>
                  <a:srgbClr val="ffffff"/>
                </a:solidFill>
                <a:latin typeface="新宋体"/>
                <a:ea typeface="新宋体"/>
              </a:rPr>
              <a:t>穆斯林的耶稣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新宋体"/>
                <a:ea typeface="新宋体"/>
              </a:rPr>
              <a:t>同化论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新宋体"/>
                <a:ea typeface="新宋体"/>
              </a:rPr>
              <a:t>本土化宣教的危机或转机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新宋体"/>
                <a:ea typeface="新宋体"/>
              </a:rPr>
              <a:t>穆斯林对基督徒的宣教谋略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9718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838080"/>
            <a:ext cx="12192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伊斯兰学者</a:t>
            </a:r>
            <a:r>
              <a:rPr b="1" lang="en-US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/</a:t>
            </a: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古兰经宣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71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‘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尔撒是透过一本书的方式，接受了伊斯兰信仰的引导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. (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6:85,90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71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‘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尔撒的书称为引支勒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Injil (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5:46)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Torah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是摩西的书，查不尔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Zabur (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是大卫的书。因此，犹太人及基督徒，称为曾受经书的人。在这些书中所启示的未来宗教，就是伊斯兰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3:1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71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‘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尔撒的启示</a:t>
            </a:r>
            <a:r>
              <a:rPr b="1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证实了以前所有先知的启示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3:50,84;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5:46;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61: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穆斯林的尔撒‘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Isa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在古兰经中的地位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219320"/>
            <a:ext cx="12192120" cy="38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穆罕默德本人则证实了先前所有的启示；包括尔撒的启示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4:47)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。穆斯林也必须相信尔撒所相信的正教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2:136)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；由於尔撒的福音书，失去了它原本的样式。今天，古兰经就成为尔撒曾经教导过正教的唯一指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兰经宣称尔撒为麦西哈（弭赛亚），他被圣灵所扶助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2:87;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5:110)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他被称为上帝口所出的话</a:t>
            </a:r>
            <a:r>
              <a:rPr b="1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，所发出的灵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 4:171)…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麦西哈</a:t>
            </a:r>
            <a:r>
              <a:rPr b="1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·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尔撒，只是真主的使者，只是他授予麦尔彦的一句话，只是从他发出的精神；故你们当确信真主和他的众使者，你们不要说三位。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3226680" y="-23760"/>
            <a:ext cx="43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新宋体"/>
              </a:rPr>
              <a:t>穆斯林的尔撒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新宋体"/>
              </a:rPr>
              <a:t>Isa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新宋体"/>
              </a:rPr>
              <a:t>在古兰经中的地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11810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‘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尔撒的母亲麦尔彦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ariam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她是仪姆兰‘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mran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的女儿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, (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3:34,35) —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出埃及记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6:20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的暗兰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mram —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是生亚伦，摩西及姐姐米利安暗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古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19:28)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的爸爸。她（麦尔彦）被仪姆兰的女人所生育（古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3: 35?).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为宰凯里雅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Zachariah (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施洗约翰的父亲）所养育？？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3:37)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当她还是个处女时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6:12;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古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19:19-21)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就在一个僻远的地方的一棵枣树下生下了尔撒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古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19:16-23) (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不是伯利恒</a:t>
            </a:r>
            <a:r>
              <a:rPr b="1" lang="zh-TW" sz="3000" spc="-1" strike="noStrike">
                <a:solidFill>
                  <a:srgbClr val="ffffff"/>
                </a:solidFill>
                <a:latin typeface="Arial"/>
                <a:ea typeface="宋体"/>
              </a:rPr>
              <a:t>的马房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‘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尔撒出世还在婴儿时期就能开口说话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3:46; Al-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5:110;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19:30)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他行出了许多奇特的神迹，包括向泥制的鸟吹口气使它变活鸟，医治瞎子，麻疯病人，使死人复活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3:49;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5:111)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他预言穆罕默德的来临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61:6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古兰经中的穆斯林</a:t>
            </a:r>
            <a:r>
              <a:rPr b="1" lang="zh-TW" sz="3200" spc="-1" strike="noStrike">
                <a:solidFill>
                  <a:srgbClr val="ffff00"/>
                </a:solidFill>
                <a:latin typeface="Arial"/>
                <a:ea typeface="宋体"/>
              </a:rPr>
              <a:t>先知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尔撒‘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Isa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（耶稣）</a:t>
            </a:r>
            <a:br>
              <a:rPr sz="36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-360" y="762120"/>
            <a:ext cx="12039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麦西哈尔撒没有死在十字架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有些基督徒及犹太人窜改了圣经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3:77-78, 113)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造成穆斯林所信的与基督徒所信的不一样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虽然基督徒相信尔撒死在十字架上，犹太人宣称杀死了他，事实上他没有被杀死，或钉死在十字架上；那些说他被钉死在十字架上的人是受迷惑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4:157).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尔撒没有死，而是被上帝趯升到天上去了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4:158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当</a:t>
            </a:r>
            <a:r>
              <a:rPr b="1" lang="zh-TW" sz="3000" spc="-1" strike="noStrike">
                <a:solidFill>
                  <a:srgbClr val="ffffff"/>
                </a:solidFill>
                <a:latin typeface="Arial"/>
                <a:ea typeface="宋体"/>
              </a:rPr>
              <a:t>未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日的时候，尔撒要以</a:t>
            </a:r>
            <a:r>
              <a:rPr b="1" lang="zh-TW" sz="3000" spc="-1" strike="noStrike">
                <a:solidFill>
                  <a:srgbClr val="ffffff"/>
                </a:solidFill>
                <a:latin typeface="Arial"/>
                <a:ea typeface="宋体"/>
              </a:rPr>
              <a:t>穆斯林，一个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人</a:t>
            </a:r>
            <a:r>
              <a:rPr b="1" lang="zh-TW" sz="3000" spc="-1" strike="noStrike">
                <a:solidFill>
                  <a:srgbClr val="ffffff"/>
                </a:solidFill>
                <a:latin typeface="Arial"/>
                <a:ea typeface="宋体"/>
              </a:rPr>
              <a:t>类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的身份再回来，向犹太人及基督徒，纠正他们信仰的错误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4:159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8288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古兰经中的穆斯林，尔撒‘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Isa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（耶稣）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5"/>
          <p:cNvSpPr/>
          <p:nvPr/>
        </p:nvSpPr>
        <p:spPr>
          <a:xfrm>
            <a:off x="0" y="0"/>
            <a:ext cx="12115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4:156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因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为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不信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尔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撒，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并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且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对麦尔彦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捏造一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个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重大的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诽谤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。又因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为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說：「我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们确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已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杀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死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麦尔彦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之子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麦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西哈</a:t>
            </a:r>
            <a:r>
              <a:rPr b="1" lang="en-US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‧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尔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撒，真主的使者。」他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们没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有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杀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死他，也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没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有把他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钉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死在十字架上，但他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不明白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这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件事的真相。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为尔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撒而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争论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的人，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对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於他的被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杀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害，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确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是在迷惑之中。他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们对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於這件事，毫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无认识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，不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过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根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据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猜想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罢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们没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能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确实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地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杀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死他。不然，真主已把他擢升到自己那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里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。真主是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万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能的，是至睿的。信奉天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经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的人，在他未死之前，沒有一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个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不信仰他的，在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复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活日他要作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证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0" y="380880"/>
            <a:ext cx="121921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新宋体"/>
              </a:rPr>
              <a:t>麦西哈尔撒，他不是神的儿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新宋体"/>
              </a:rPr>
              <a:t>古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宋体"/>
              </a:rPr>
              <a:t>9:30-31</a:t>
            </a:r>
            <a:r>
              <a:rPr b="1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新宋体"/>
              </a:rPr>
              <a:t>基督徒说：麦西哈尔撒是真主的儿子。这是他们信口开河，仿效从前不信道者的口吻。愿真主诅咒他们。他们怎么如此放荡呢？他们舍真主而把他们的博士，僧侣和麦尔彦（玛利亚）之子麦西哈当做主宰</a:t>
            </a:r>
            <a:r>
              <a:rPr b="1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新宋体"/>
              </a:rPr>
              <a:t>古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宋体"/>
              </a:rPr>
              <a:t>19:3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新宋体"/>
              </a:rPr>
              <a:t>「真主不会收养儿子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宋体"/>
              </a:rPr>
              <a:t>-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新宋体"/>
              </a:rPr>
              <a:t>赞颂真主，超越万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宋体"/>
              </a:rPr>
              <a:t>-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新宋体"/>
              </a:rPr>
              <a:t>当他判决一件事的时候，他只对那件事说：有，它就有了」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52388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新宋体"/>
              </a:rPr>
              <a:t>古兰经中的穆斯林尔撒</a:t>
            </a:r>
            <a:r>
              <a:rPr b="1" lang="zh-CN" sz="3200" spc="-1" strike="noStrike">
                <a:solidFill>
                  <a:srgbClr val="ffff00"/>
                </a:solidFill>
                <a:latin typeface="新宋体"/>
                <a:ea typeface="新宋体"/>
              </a:rPr>
              <a:t>‘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新宋体"/>
              </a:rPr>
              <a:t>Isa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新宋体"/>
              </a:rPr>
              <a:t>（耶稣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52280" y="0"/>
            <a:ext cx="1196352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新宋体"/>
              </a:rPr>
              <a:t>古兰经中穆斯林的尔撒</a:t>
            </a:r>
            <a:r>
              <a:rPr b="1" lang="zh-CN" sz="3200" spc="-1" strike="noStrike">
                <a:solidFill>
                  <a:srgbClr val="ffff00"/>
                </a:solidFill>
                <a:latin typeface="新宋体"/>
                <a:ea typeface="新宋体"/>
              </a:rPr>
              <a:t>‘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新宋体"/>
              </a:rPr>
              <a:t>Isa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新宋体"/>
              </a:rPr>
              <a:t>（耶稣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新宋体"/>
              </a:rPr>
              <a:t>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麦西哈尔撒在真主面前，否认曾教导三位一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5:72-75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妄言真主确是三位中的一位的人，确已不信道了。除独一的主宰外，绝无应受崇拜的。如果不停止妄言，那未，他们中不信道的人，必遭痛苦的刑罚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麦尔彦之子麦西哈，只是一个使者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5:116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「当时真主将说：麦尔彦之子尔撒阿，你曾对众人说过这句话吗？你们当舍真主而以我和我母亲为主宰。他说：我赞颂你超绝万物，我不会说出我不该说的话。如果我说了，那你一定知道。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」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页脚占位符 1"/>
          <p:cNvSpPr/>
          <p:nvPr/>
        </p:nvSpPr>
        <p:spPr>
          <a:xfrm>
            <a:off x="416556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本士化宣教危机或良策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80773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9EBF-F00B-4CA9-80EE-0489B59B6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经典楷体简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矩形 3"/>
          <p:cNvSpPr/>
          <p:nvPr/>
        </p:nvSpPr>
        <p:spPr>
          <a:xfrm>
            <a:off x="76320" y="0"/>
            <a:ext cx="121158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古兰经中穆斯林的尔撒‘</a:t>
            </a:r>
            <a:r>
              <a:rPr b="1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Isa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（耶稣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小结：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尔撒是神的一个使者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/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先知 ，他是穆斯林，传的是伊斯兰信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只是一个人类，他被提到乐园和上帝同在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被誉为人间的模范，一个圣洁的人类（</a:t>
            </a:r>
            <a:r>
              <a:rPr b="1" lang="zh-TW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9</a:t>
            </a:r>
            <a:r>
              <a:rPr b="1" lang="zh-TW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9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）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他不是神的儿子，也不是道成了肉身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他不是三位一体的上帝，也没有为人类的罪，死在十字架上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/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没复活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你若询问穆斯林，你信尔撒接受尔撒吗？基本上</a:t>
            </a:r>
            <a:r>
              <a:rPr b="1" lang="en-US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之</a:t>
            </a:r>
            <a:r>
              <a:rPr b="1" lang="en-US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8-9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会回答：我相信并接受。然而，他们的信和接受，并不会让他们重生得救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因为 约</a:t>
            </a:r>
            <a:r>
              <a:rPr b="1" lang="en-US" sz="30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0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书</a:t>
            </a:r>
            <a:r>
              <a:rPr b="1" lang="en-US" sz="30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2:23</a:t>
            </a:r>
            <a:r>
              <a:rPr b="1" lang="zh-CN" sz="30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  </a:t>
            </a:r>
            <a:r>
              <a:rPr b="1" lang="zh-CN" sz="30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凡不认子的，就没有父；认子的，连父也有了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0"/>
            <a:ext cx="121921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icrosoft JhengHei UI"/>
                <a:ea typeface="Microsoft JhengHei UI"/>
              </a:rPr>
              <a:t>古兰经中有关麦西哈尔撒的画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Microsoft JhengHei UI"/>
                <a:ea typeface="Microsoft JhengHei UI"/>
              </a:rPr>
              <a:t>1</a:t>
            </a:r>
            <a:r>
              <a:rPr b="1" lang="en-MY" sz="3200" spc="-1" strike="noStrike">
                <a:solidFill>
                  <a:srgbClr val="ffc000"/>
                </a:solidFill>
                <a:latin typeface="Microsoft JhengHei UI"/>
                <a:ea typeface="Microsoft JhengHei UI"/>
              </a:rPr>
              <a:t> </a:t>
            </a:r>
            <a:r>
              <a:rPr b="1" lang="zh-CN" sz="3200" spc="-1" strike="noStrike">
                <a:solidFill>
                  <a:srgbClr val="ffc000"/>
                </a:solidFill>
                <a:latin typeface="Microsoft JhengHei UI"/>
                <a:ea typeface="Microsoft JhengHei UI"/>
              </a:rPr>
              <a:t>真主宣告尔撒将由童贞女降生的报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Microsoft JhengHei UI"/>
                <a:ea typeface="Microsoft JhengHei UI"/>
              </a:rPr>
              <a:t>A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 UI"/>
                <a:ea typeface="Microsoft JhengHei UI"/>
              </a:rPr>
              <a:t>路</a:t>
            </a:r>
            <a:r>
              <a:rPr b="1" lang="en-US" sz="3200" spc="-1" strike="noStrike">
                <a:solidFill>
                  <a:srgbClr val="99ff66"/>
                </a:solidFill>
                <a:latin typeface="Microsoft JhengHei UI"/>
                <a:ea typeface="Microsoft JhengHei UI"/>
              </a:rPr>
              <a:t>1:26-38: 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 UI"/>
                <a:ea typeface="Microsoft JhengHei UI"/>
              </a:rPr>
              <a:t>天使（加百列）进去对她说：蒙大恩的女子，我问你安，主与你同在了</a:t>
            </a:r>
            <a:r>
              <a:rPr b="1" lang="en-US" sz="3200" spc="-1" strike="noStrike">
                <a:solidFill>
                  <a:srgbClr val="99ff66"/>
                </a:solidFill>
                <a:latin typeface="Microsoft JhengHei UI"/>
                <a:ea typeface="Microsoft JhengHei UI"/>
              </a:rPr>
              <a:t>......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 UI"/>
                <a:ea typeface="Microsoft JhengHei UI"/>
              </a:rPr>
              <a:t>你不要怕，你在上帝面前已经蒙恩，你要怀孕生子，可以给他起名叫耶稣，他要为大，称为至高者儿子</a:t>
            </a:r>
            <a:r>
              <a:rPr b="1" lang="en-US" sz="3200" spc="-1" strike="noStrike">
                <a:solidFill>
                  <a:srgbClr val="99ff66"/>
                </a:solidFill>
                <a:latin typeface="Microsoft JhengHei UI"/>
                <a:ea typeface="Microsoft JhengHei UI"/>
              </a:rPr>
              <a:t>.....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 UI"/>
                <a:ea typeface="Microsoft JhengHei UI"/>
              </a:rPr>
              <a:t>马里亚对天使说，我没有出嫁怎能有这事呢。天使回答说，圣灵要降临在你身上，至高者的能力要荫庇你。因此，所生的圣者必称为上帝的儿子</a:t>
            </a:r>
            <a:r>
              <a:rPr b="1" lang="en-US" sz="3200" spc="-1" strike="noStrike">
                <a:solidFill>
                  <a:srgbClr val="99ff66"/>
                </a:solidFill>
                <a:latin typeface="Microsoft JhengHei UI"/>
                <a:ea typeface="Microsoft JhengHei UI"/>
              </a:rPr>
              <a:t>......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 UI"/>
                <a:ea typeface="Microsoft JhengHei UI"/>
              </a:rPr>
              <a:t>因为出于上帝的话语，没有一句不带着能力的</a:t>
            </a:r>
            <a:r>
              <a:rPr b="1" lang="en-US" sz="3200" spc="-1" strike="noStrike">
                <a:solidFill>
                  <a:srgbClr val="99ff66"/>
                </a:solidFill>
                <a:latin typeface="Microsoft JhengHei UI"/>
                <a:ea typeface="Microsoft JhengHei UI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1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1367-60DE-4EC9-8924-0E0BD3325D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23760" y="34920"/>
            <a:ext cx="12192120" cy="23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古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3:42-47; 19:16-21: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众天使说：麦尔焉！安拉选择了你，清洁你，并选你高于世界的众女子。马里亚哪！你当训从你的主，你当叩头，你当和鞠躬的人们一同鞠躬。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..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那时有天使呼叫马里亚说：的确，安拉以他的一言给你报喜信，他的名字是麦希哈尔撒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-----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马里亚之子。在今世后世值得注意，并是属于接近一类的。他在摇篮中并在成年时期对人说话，且属于清廉一类的。马里亚说：我的主阿！未曾有人接近我，我从哪里有子呢？主说：虽然如此，安拉随便造化人，当他决定一事的时候，只对他说：有！他就立刻有。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那时候，她离开当地的人去到东方，她在他们前面立一幔帐，我向她遣去我的鲁哈（灵），他就显给她是一个建全的人。她说：我要求主保佑使你离开，如果你是一个戒慎的。他说：「我只是主的一个使者，我为的是把一个纯洁的童子赏给你」。她说：曾无一人接近我，我也不是失贞的，我怎能获得一个童子呢」？他说：「就是如此，你的主说，这在我是容易的，我以此作为对世人的表徵（兆头），并为我的慈惠，且为已经决定的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Microsoft JhengHei UI"/>
                <a:ea typeface="Microsoft JhengHei UI"/>
              </a:rPr>
              <a:t>古兰经同意耶稣基督是由童贞女马里亚所生，这要作为救主的预表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11658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们常说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基督徒与回教徒「分享」耶稣，他属於这两种宗教。亚伯拉罕也一样：西方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宋体"/>
              </a:rPr>
              <a:t>穆斯林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提倡「亚伯拉罕式的文明」，就如早前人们提倡「犹太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基督教」文明那样。这样的思想转变，说明伊斯兰的影响，正在大大的增加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基督教与伊斯兰对上时，基督徒必须留意，站稳在自己信仰的立足上，免得进入了迷惑。伊斯兰尔撒麦西哈的强调，就带有相关的迷思，这是所有学习伊斯兰宣教人士必须认识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F624-1727-4119-8598-84E26D0D2F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0" y="0"/>
            <a:ext cx="12192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）</a:t>
            </a:r>
            <a:r>
              <a:rPr b="1" lang="zh-CN" sz="3200" spc="-1" strike="noStrike">
                <a:solidFill>
                  <a:srgbClr val="ffc000"/>
                </a:solidFill>
                <a:latin typeface="Microsoft JhengHei UI"/>
                <a:ea typeface="Microsoft JhengHei UI"/>
              </a:rPr>
              <a:t>真主宣告尔撒</a:t>
            </a: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将以特殊方式降生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）路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2:8-14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在伯利恒之野地里有牧羊人夜间看守羊群。有主的使者站在他们旁边，主的荣光四面照着他们，牧羊人就甚惧怕。那天使对他们说不要惧怕，我报给他们大喜的信息，是关乎万民的。因今天在大卫的城里为你们生了救主，就的主基督。你们要看见一个婴儿，包着布。卧在马槽里，那就是记号了。忽然有一大队天兵，同那天使赞美上帝说：在至高之处荣耀归于上帝，在地上平安归于他所喜悦的人。（另参路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:15-52,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太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-2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1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198A-8A35-48DA-9D2C-609194DBF7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0" y="0"/>
            <a:ext cx="1219212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r>
              <a:rPr b="1" lang="zh-CN" sz="30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）古</a:t>
            </a:r>
            <a:r>
              <a:rPr b="1" lang="en-US" sz="30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19:22-35: </a:t>
            </a:r>
            <a:r>
              <a:rPr b="1" lang="zh-CN" sz="30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于是她就怀孕，生产的痛苦迫她来到枣树下，她说：「哎！但愿我先前死掉了，为一个无人注意的人。从下面有声音呼叫她：不要忧虑！你的主在你的下面现出一道河，你往怀里摇枣树身！那树就落下鲜枣，任你吃喝，如果你看见任何一个人，你就说：我已为慈主许下斋戒了，今日我决不和任何一个人说话。她就带他来到自己的族人，他们呼马里亚说：你确是发生奇事了。哈仑（亚伦）的姐妹哪！你父不是歹人，你母也不是失贞的。她就手指他（耶稣），他们说：我们怎可以和这摇蓝里的小儿交谈呢？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他就回答：我是安拉的一个仆人，他赐给我真经，委我为圣，我住在不拘哪里，他就使我有福。我活一天，他就叫我作礼拜，散天课，并教我孝敬父母。他不叫我作个骄傲无理的，我的生日平安，死日平安，复活日平安」。这就是马里亚之子耶稣。他们所争议的一段实在情形。安拉无须立子，真主荣耀。他判定一切事的时候，只对他说「有」！他立刻就有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7C0B-8E4D-46D3-97C1-274FB97E9A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0" y="0"/>
            <a:ext cx="12192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3 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关于尔撒上真理的宣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Microsoft JhengHei"/>
                <a:ea typeface="Microsoft JhengHei"/>
              </a:rPr>
              <a:t>A</a:t>
            </a:r>
            <a:r>
              <a:rPr b="1" lang="zh-CN" sz="3200" spc="-1" strike="noStrike">
                <a:solidFill>
                  <a:srgbClr val="00b0f0"/>
                </a:solidFill>
                <a:latin typeface="Microsoft JhengHei"/>
                <a:ea typeface="Microsoft JhengHei"/>
              </a:rPr>
              <a:t>）约</a:t>
            </a:r>
            <a:r>
              <a:rPr b="1" lang="en-US" sz="3200" spc="-1" strike="noStrike">
                <a:solidFill>
                  <a:srgbClr val="00b0f0"/>
                </a:solidFill>
                <a:latin typeface="Microsoft JhengHei"/>
                <a:ea typeface="Microsoft JhengHei"/>
              </a:rPr>
              <a:t>14:6: </a:t>
            </a:r>
            <a:r>
              <a:rPr b="1" lang="zh-CN" sz="3200" spc="-1" strike="noStrike">
                <a:solidFill>
                  <a:srgbClr val="00b0f0"/>
                </a:solidFill>
                <a:latin typeface="Microsoft JhengHei"/>
                <a:ea typeface="Microsoft JhengHei"/>
              </a:rPr>
              <a:t>我就是道路，真理，生命，若不藉着我，没有人能到父哪里去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B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）古</a:t>
            </a:r>
            <a:r>
              <a:rPr b="1" lang="en-US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10:34-35</a:t>
            </a:r>
            <a:r>
              <a:rPr b="1" lang="zh-CN" sz="3200" spc="-1" strike="noStrike">
                <a:solidFill>
                  <a:srgbClr val="99ff66"/>
                </a:solidFill>
                <a:latin typeface="Microsoft JhengHei"/>
                <a:ea typeface="Microsoft JhengHei"/>
              </a:rPr>
              <a:t>你说你们的配主，有能创造万物，而且加以再造的吗？你说：真主能创造万物，而且能加以再造。你们怎么混淆黑白呢。你说：你们的配主有能导人于真理吗？你说：真主能导人于真理。是能导人于真理的更宜于受人顺从呢？还是顺受引导的才能遵循正道的，更宜于受人顺从呢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2CF5-8207-4AE5-8654-8117F901E5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0"/>
            <a:ext cx="12192120" cy="37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）尔撒是真主的道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Microsoft JhengHei"/>
                <a:ea typeface="Microsoft JhengHei"/>
              </a:rPr>
              <a:t>A</a:t>
            </a:r>
            <a:r>
              <a:rPr b="1" lang="zh-CN" sz="3000" spc="-1" strike="noStrike">
                <a:solidFill>
                  <a:srgbClr val="00b0f0"/>
                </a:solidFill>
                <a:latin typeface="Microsoft JhengHei"/>
                <a:ea typeface="Microsoft JhengHei"/>
              </a:rPr>
              <a:t>）约</a:t>
            </a:r>
            <a:r>
              <a:rPr b="1" lang="en-US" sz="3000" spc="-1" strike="noStrike">
                <a:solidFill>
                  <a:srgbClr val="00b0f0"/>
                </a:solidFill>
                <a:latin typeface="Microsoft JhengHei"/>
                <a:ea typeface="Microsoft JhengHei"/>
              </a:rPr>
              <a:t>1:1,14</a:t>
            </a:r>
            <a:r>
              <a:rPr b="1" lang="zh-CN" sz="3000" spc="-1" strike="noStrike">
                <a:solidFill>
                  <a:srgbClr val="00b0f0"/>
                </a:solidFill>
                <a:latin typeface="Microsoft JhengHei"/>
                <a:ea typeface="Microsoft JhengHei"/>
              </a:rPr>
              <a:t>太初有道，道与神同在</a:t>
            </a:r>
            <a:r>
              <a:rPr b="1" lang="en-US" sz="3000" spc="-1" strike="noStrike">
                <a:solidFill>
                  <a:srgbClr val="00b0f0"/>
                </a:solidFill>
                <a:latin typeface="Microsoft JhengHei"/>
                <a:ea typeface="Microsoft JhengHei"/>
              </a:rPr>
              <a:t>,</a:t>
            </a:r>
            <a:r>
              <a:rPr b="1" lang="zh-CN" sz="3000" spc="-1" strike="noStrike">
                <a:solidFill>
                  <a:srgbClr val="00b0f0"/>
                </a:solidFill>
                <a:latin typeface="Microsoft JhengHei"/>
                <a:ea typeface="Microsoft JhengHei"/>
              </a:rPr>
              <a:t>道就是神。道成了肉身，住在我们中间，充充满满的有恩典有真理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B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）古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3:45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当时天神说：麦尔彦（马里亚），真主的确把从他发出的一句话向你报喜。他的名字叫麦尔彦之子麦西哈（弥赛亚）尔撒（耶稣）在今世和后世都是有面子的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4:171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信奉天经的人，你们对于自己的宗教不要过份，对于真主不要说无理的话。麦西哈：尔撒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---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麦尔彦之子，只是真主的一个使者，只是他（授于麦尔彦）的话，是从他发出的灵（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RUH),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神的道</a:t>
            </a:r>
            <a:r>
              <a:rPr b="1" lang="en-AU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r>
              <a:rPr b="1" lang="en-AU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Kalima): 19:34 – Qawlu al-Haqq =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真理的道，新约：神藉着道创造万有，托着万有（约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:1-3,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来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:3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3812-AE5F-4DF3-8320-99D001991D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0"/>
            <a:ext cx="121921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耶稣是神的道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约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1:1;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古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4:171; 3:45; 19:34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道的功用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创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道的存在 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–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自有永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耶稣最独特的地方：他是永存的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父怀里的独生子 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–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不是养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圣父，圣子的关系，不是指肉身的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神显灵 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神彰显自己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) and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神显现 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神荣耀所发的光辉，显在耶稣身上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D32C-ACE1-4052-A454-3D9B134E82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0" y="0"/>
            <a:ext cx="12192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）尔撒是真主的使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来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3:1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同蒙天召的圣洁弟兄阿，你们应当思想我们所认为使者，为大祭司的耶稣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B 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2:87,253;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我确已把经典赏给穆萨，并在他之后继续派遣许多使者；我把许多明证赏给麦尔彦之子尔撒，并以圣灵扶助他。难道每逢使者把你们的私心所不喜欢的东西带来给你们的时候，你们总是妄自尊大了吗。一部份的使者，被你们否认，一部份则被你们杀害。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些使者他们中有真主曾和他们说话的，有真主提高他们若干等级的。我曾以许多明证赏赐麦尔彦之子尔撒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并以圣灵扶持他。假若真主意欲，他们的信徒在明证降临之后，必不互相残杀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----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另参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4:169,17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使徒，</a:t>
            </a:r>
            <a:r>
              <a:rPr b="1" lang="en-AU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Rasul 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：古兰经提到</a:t>
            </a:r>
            <a:r>
              <a:rPr b="1" lang="en-AU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次古</a:t>
            </a:r>
            <a:r>
              <a:rPr b="1" lang="en-AU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2:87,253; 3:49,53; 4:157,171; 5:75,111; 57:27; 61:6. 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新约：来 </a:t>
            </a:r>
            <a:r>
              <a:rPr b="1" lang="en-AU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3:1 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提到一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B6D5-1125-4052-AB8F-3374371B42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0"/>
            <a:ext cx="12192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icrosoft JhengHei UI"/>
                <a:ea typeface="Microsoft JhengHei UI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 UI"/>
                <a:ea typeface="Microsoft JhengHei UI"/>
              </a:rPr>
              <a:t>尔撒能行创造性的神迹奇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Microsoft JhengHei UI"/>
                <a:ea typeface="Microsoft JhengHei UI"/>
              </a:rPr>
              <a:t>A</a:t>
            </a:r>
            <a:r>
              <a:rPr b="1" lang="zh-CN" sz="3200" spc="-1" strike="noStrike">
                <a:solidFill>
                  <a:srgbClr val="33ccff"/>
                </a:solidFill>
                <a:latin typeface="Microsoft JhengHei UI"/>
                <a:ea typeface="Microsoft JhengHei UI"/>
              </a:rPr>
              <a:t>路</a:t>
            </a:r>
            <a:r>
              <a:rPr b="1" lang="en-US" sz="3200" spc="-1" strike="noStrike">
                <a:solidFill>
                  <a:srgbClr val="33ccff"/>
                </a:solidFill>
                <a:latin typeface="Microsoft JhengHei UI"/>
                <a:ea typeface="Microsoft JhengHei UI"/>
              </a:rPr>
              <a:t>7:21</a:t>
            </a:r>
            <a:r>
              <a:rPr b="1" lang="zh-CN" sz="3200" spc="-1" strike="noStrike">
                <a:solidFill>
                  <a:srgbClr val="33ccff"/>
                </a:solidFill>
                <a:latin typeface="Microsoft JhengHei UI"/>
                <a:ea typeface="Microsoft JhengHei UI"/>
              </a:rPr>
              <a:t>正当那时候，耶稣治好许多有疾病的，受灾患的，被恶鬼附着的，又开恩叫好些瞎子能看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B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古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3:48-50; 50:110-115:  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教给他（尔撒）经典，智慧，陀拉（律法书）引支勒（福音书），并差他至以斯拉衣（以色列）的了孙。（尔撒说）：「我必把出自主的迹象给你们看，就是我特为你们用泥制造一个像鸟形的，我向它吹气，它就因安拉的许可成为一支鸟。我并以安拉的许可治好瞎子，患大麻疯的，并使死人复活。我把你们吃的和你们家里所贮存的都讲述给你们听，此中确有对你们迹象，如果你们是顺从安拉的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B26E-DD95-4C67-B82E-84437713F0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0" y="0"/>
            <a:ext cx="1219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50:110-115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安拉说：马里亚之子尔撒（耶稣）！你要记念我对你并你母亲的恩典，那时候，我以圣灵加强你；你在摇篮中并成年的时代对人接谈；那时候，我把经典，智慧，陀拉，引支勒（福音书）教给你；那时候，你依照我的充许由泥制造一个像鸟形的，你向它吹气，它便照我的充许化作飞鸟；你依照我的充许治好瞎眼的，患大麻疯的，那时候，你依我的充许复活死人，那时候你显给他们各样的异迹，我阻止以色列的子孙对你（逼迫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他们之中不信的人说：「这不外是明显的邪术」。那时候，我默示众门徒：「你们要信我和我的使徒」。他们说：我们信了，求你见证我们确是服从的。那时候，众门徒唤马里亚之子尔撒（耶稣）说：你的主从天上降给我们筵席吗？尔撒说：你们若是归信的，你们就敬畏安拉。他们说：我们愿意吃它（天上来的粮食），愿意我们的心中得到刚强，且可晓得你对我们确说了真言，我们可以为它（真言）作见证。马里亚之子，尔撒（耶稣）说：安拉，我的主啊，求你从天上把筵席降给我们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---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那是人类由始至终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---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由你而来的一个庆典和迹象；求你赐给我们食物吧，因你是世上的供应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19E2-84AF-429B-A535-560D392DEB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189000"/>
            <a:ext cx="10344240" cy="48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Microsoft YaHei"/>
                <a:ea typeface="Microsoft YaHei"/>
              </a:rPr>
              <a:t>古兰经论尔撒所行的神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Microsoft YaHei"/>
                <a:ea typeface="Microsoft YaHei"/>
              </a:rPr>
              <a:t>尔撒的神迹</a:t>
            </a:r>
            <a:r>
              <a:rPr b="0" lang="en-AU" sz="3200" spc="-1" strike="noStrike">
                <a:solidFill>
                  <a:srgbClr val="ffff00"/>
                </a:solidFill>
                <a:latin typeface="Microsoft YaHei"/>
                <a:ea typeface="Microsoft YaHei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有创造的权能 </a:t>
            </a:r>
            <a:r>
              <a:rPr b="0" lang="en-AU" sz="32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(5:110)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渗透并预知所有的事 </a:t>
            </a:r>
            <a:r>
              <a:rPr b="0" lang="en-AU" sz="32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(3:49)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使人复活 </a:t>
            </a:r>
            <a:r>
              <a:rPr b="0" lang="en-AU" sz="32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(5:110)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出世就能言 </a:t>
            </a:r>
            <a:r>
              <a:rPr b="0" lang="en-AU" sz="32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(19:27-33)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医治天生盲者 </a:t>
            </a:r>
            <a:r>
              <a:rPr b="0" lang="en-AU" sz="32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(3:49)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从天上降下粮食 </a:t>
            </a:r>
            <a:r>
              <a:rPr b="0" lang="en-AU" sz="32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(5:112-114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F6DB-C1B8-4E74-A331-4C6B570715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0"/>
            <a:ext cx="12192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）尔撒是上帝的兆头记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赛</a:t>
            </a:r>
            <a:r>
              <a:rPr b="1" lang="en-US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7:14</a:t>
            </a:r>
            <a:r>
              <a:rPr b="1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主自己要给你们一个兆头，必有童女怀孕生子，给他取名以马内利（就是神与人同在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9:20-21,27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马里亚说：我的主阿！未曾有人接近我，我从哪里有子呢？主说：虽然如此，安拉随便造化人，当他决定一事的时候，只对他说：有！他就立刻有。你当记念经上的马里亚！那时候，她离开当地的人去到东方，她在他们前面立一幔帐，我向她遣去我的鲁哈（灵），他就显给她是一个建全的人。她说：我要求主保佑使你离开，如果你是一个戒慎的。他说：我只是主的一个使者，我为的是把一个纯洁的童子赏给你。她说：曾无一人接近我，我也不是失贞的，我怎能获得一个童子呢？他说：就是如此，你的主说，这在我是容易的，我以此作为对世人的表徵（兆头），并为我的慈惠，且为已经决定的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960" y="-360"/>
            <a:ext cx="12039480" cy="65530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114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沙米西地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Shamim A. Siddiq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 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亚伯拉罕，摩西，耶稣及穆罕默德，全是伊斯兰的先知。 伊斯兰可说是美国普遍认识的「犹太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基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穆斯林」的遗产，若要建立上帝的国度，有赖这三个原属亚伯拉罕信仰齐心的努力。伊斯兰的「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宋体"/>
              </a:rPr>
              <a:t>锭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n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信仰操行）就是犹太人及基督徒，该有的信仰与生活方式；这原是他们当初，在人文改革中失去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现在，正是伊斯兰要来提醒，基督徒及犹太人，有关他们最初的</a:t>
            </a:r>
            <a:r>
              <a:rPr b="1" lang="zh-TW" sz="3200" spc="-1" strike="noStrike">
                <a:solidFill>
                  <a:srgbClr val="ffff00"/>
                </a:solidFill>
                <a:latin typeface="Arial"/>
                <a:ea typeface="宋体"/>
              </a:rPr>
              <a:t>「锭（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信仰操行）」的时刻。这是历史的事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7A44-56FB-440C-8661-58DE86D3C1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12144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icrosoft JhengHei UI"/>
                <a:ea typeface="Microsoft JhengHei UI"/>
              </a:rPr>
              <a:t>尔撒特殊的异兆特徵</a:t>
            </a:r>
            <a:r>
              <a:rPr b="1" lang="en-AU" sz="3200" spc="-1" strike="noStrike">
                <a:solidFill>
                  <a:srgbClr val="ffff00"/>
                </a:solidFill>
                <a:latin typeface="Microsoft JhengHei UI"/>
                <a:ea typeface="Microsoft JhengHei UI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奇特的怀胎；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21:91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奇特的出生 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66:12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神的恩惠 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9:31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被圣灵完全充满 </a:t>
            </a:r>
            <a:r>
              <a:rPr b="1" lang="en-AU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2:253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升天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3:55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被许多神迹所印证 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2:253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被上帝所亲近 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3:4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神的异兆 </a:t>
            </a:r>
            <a:r>
              <a:rPr b="1" lang="fr-FR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3:49,50; 19:21; 21:9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象徵</a:t>
            </a:r>
            <a:r>
              <a:rPr b="1" lang="fr-FR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; </a:t>
            </a:r>
            <a:r>
              <a:rPr b="1" lang="fr-FR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23:50 </a:t>
            </a: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迹象</a:t>
            </a:r>
            <a:r>
              <a:rPr b="1" lang="fr-FR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榜样 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43:57,59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样式</a:t>
            </a:r>
            <a:r>
              <a:rPr b="1" lang="en-AU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; 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3:59 </a:t>
            </a: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形像</a:t>
            </a:r>
            <a:r>
              <a:rPr b="1" lang="en-AU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见证 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4:159; 5:111,117; 3:52. </a:t>
            </a: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怜恤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9:21.</a:t>
            </a:r>
            <a:r>
              <a:rPr b="1" lang="en-AU" sz="3200" spc="-1" strike="noStrike">
                <a:solidFill>
                  <a:srgbClr val="0066ff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出众有面子 </a:t>
            </a:r>
            <a:r>
              <a:rPr b="1" lang="en-AU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3:45 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路 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:32).</a:t>
            </a:r>
            <a:r>
              <a:rPr b="0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A0F3-4365-490E-AEC0-D98E24300C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0"/>
            <a:ext cx="12192120" cy="437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icrosoft JhengHei UI"/>
                <a:ea typeface="Microsoft JhengHei UI"/>
              </a:rPr>
              <a:t>8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 UI"/>
                <a:ea typeface="Microsoft JhengHei UI"/>
              </a:rPr>
              <a:t>耶稣是神的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Microsoft JhengHei UI"/>
                <a:ea typeface="Microsoft JhengHei UI"/>
              </a:rPr>
              <a:t>A_</a:t>
            </a:r>
            <a:r>
              <a:rPr b="1" lang="zh-CN" sz="3200" spc="-1" strike="noStrike">
                <a:solidFill>
                  <a:srgbClr val="33ccff"/>
                </a:solidFill>
                <a:latin typeface="Microsoft JhengHei UI"/>
                <a:ea typeface="Microsoft JhengHei UI"/>
              </a:rPr>
              <a:t>罗</a:t>
            </a:r>
            <a:r>
              <a:rPr b="1" lang="en-US" sz="3200" spc="-1" strike="noStrike">
                <a:solidFill>
                  <a:srgbClr val="33ccff"/>
                </a:solidFill>
                <a:latin typeface="Microsoft JhengHei UI"/>
                <a:ea typeface="Microsoft JhengHei UI"/>
              </a:rPr>
              <a:t>8:9</a:t>
            </a:r>
            <a:r>
              <a:rPr b="1" lang="zh-CN" sz="3200" spc="-1" strike="noStrike">
                <a:solidFill>
                  <a:srgbClr val="33ccff"/>
                </a:solidFill>
                <a:latin typeface="Microsoft JhengHei UI"/>
                <a:ea typeface="Microsoft JhengHei UI"/>
              </a:rPr>
              <a:t>神的灵住在你们心里，你们就不属肉体，乃属圣灵。人若没有基督的灵，就不是属基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）古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4:171---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麦尔彦之子尔撒，只是真主的使者，是他的（或授于她的）话，是从他发出的灵，故你们当确信真主和他的使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神的灵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Spirit (Ruh):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古兰经有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7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次以神的灵来说明耶稣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–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古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2:87,253; 4:171; 5:110; 16:102; 19:17; 21:91; 66:12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路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1:35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C9A8-EA83-481C-8789-15A249465A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0"/>
            <a:ext cx="12192120" cy="477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9 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耶稣基督是全然无罪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A</a:t>
            </a:r>
            <a:r>
              <a:rPr b="1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来</a:t>
            </a:r>
            <a:r>
              <a:rPr b="1" lang="en-US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4:15</a:t>
            </a:r>
            <a:r>
              <a:rPr b="1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我们的大祭司（耶稣）并非不能体恤我们的软弱，他也曾凡事受过试探，与我们一样。只是  没有犯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9:19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他说：我只是你的主的一个使者，我来是要给你（马里亚）一个纯洁的儿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穆氏则多次要为自己的罪悔改 古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40:57/55;47:21/19;48: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神就近者 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Min al-Mughanabin): 3:45.       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最正直的 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Min as-Saalihiin): 3:46 cf. 3:3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290C-7881-4F15-9107-A74151AA30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0" y="0"/>
            <a:ext cx="1219212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crosoft JhengHei UI"/>
                <a:ea typeface="Microsoft JhengHei UI"/>
              </a:rPr>
              <a:t>10</a:t>
            </a:r>
            <a:r>
              <a:rPr b="0" lang="zh-CN" sz="3200" spc="-1" strike="noStrike">
                <a:solidFill>
                  <a:srgbClr val="ffff00"/>
                </a:solidFill>
                <a:latin typeface="Microsoft JhengHei UI"/>
                <a:ea typeface="Microsoft JhengHei UI"/>
              </a:rPr>
              <a:t>）尔撒上真主的仆人，先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腓</a:t>
            </a:r>
            <a:r>
              <a:rPr b="1" lang="en-US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2:7</a:t>
            </a:r>
            <a:r>
              <a:rPr b="1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反倒虚己。取了仆奴的形象，成为人的样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来 </a:t>
            </a:r>
            <a:r>
              <a:rPr b="1" lang="en-US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1:1-2 </a:t>
            </a:r>
            <a:r>
              <a:rPr b="1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神既在古时藉著众先知多次多方的晓谕列祖，就在这末世藉著他儿子晓谕我们；又早已立他为承受万有的，也曾藉著他创造诸世界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9:31/30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那婴儿说；我是真主的仆人，他要把经典赏赐我，要我做先知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--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F2F6-AA3C-42B4-95EE-A22C81E0FF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0" y="0"/>
            <a:ext cx="12192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Microsoft JhengHei UI"/>
                <a:ea typeface="Microsoft JhengHei UI"/>
              </a:rPr>
              <a:t>11</a:t>
            </a:r>
            <a:r>
              <a:rPr b="1" lang="zh-CN" sz="2800" spc="-1" strike="noStrike">
                <a:solidFill>
                  <a:srgbClr val="ffff00"/>
                </a:solidFill>
                <a:latin typeface="Microsoft JhengHei UI"/>
                <a:ea typeface="Microsoft JhengHei UI"/>
              </a:rPr>
              <a:t>关于基督的升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Microsoft JhengHei UI"/>
                <a:ea typeface="Microsoft JhengHei UI"/>
              </a:rPr>
              <a:t>(Acts 1:9)   </a:t>
            </a:r>
            <a:r>
              <a:rPr b="1" lang="zh-CN" sz="2800" spc="-1" strike="noStrike">
                <a:solidFill>
                  <a:srgbClr val="33ccff"/>
                </a:solidFill>
                <a:latin typeface="Microsoft JhengHei UI"/>
                <a:ea typeface="Microsoft JhengHei UI"/>
              </a:rPr>
              <a:t>说了这话，他们正看的时候，他（耶稣）就被取上升，有一朵云彩把他接去，便看不见他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古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3:54-56; 4:155-158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安拉呼尔撒说：我将成全你，教你至达我面前，并使你离开不信的人们，并使那追随你的人超越不信的人们，直到复生日，然后使他们归我，以便对你们所争议的加以判断。论到不信的人，我将在今世后世以烈火刑罚他们，在他们必没有援助的。「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---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安拉就因他们的不信封闭他们的心了；所以他们所信的很少，又因他们不信和诽谤马尔焉（马里亚），与他们说：我们已杀死马尔焉（马里亚）之子埋希哈（弥赛亚）尔撒（耶稣）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-----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安拉的使者」。「他们原未杀死他，也未使他在十字架上死去，只是他们看着如此，那些如此争议的人，不过是怀疑而已。他们对此不知真情，不过依循揣测，他们实在未曾杀死他，确是安拉教他升至自己之处。安拉是大能的明哲的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29A1-2CAE-491E-B20F-5D647A49B7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0" y="0"/>
            <a:ext cx="1207296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古</a:t>
            </a:r>
            <a:r>
              <a:rPr b="0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19:33-34; 4:156-158</a:t>
            </a:r>
            <a:r>
              <a:rPr b="0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穆斯林可能接受的解释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）尔撒虽死但不是他的灵魂，而是身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）尔撒虽死，但神却叫死亡不能囚禁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）犹太人以为杀死了尔撒，但唯有真主掌管生与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35D1-50A8-403F-AF17-2300D275A3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4fea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12. </a:t>
            </a:r>
            <a:r>
              <a:rPr b="0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古兰经对尔撒的其它尊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ccff"/>
              </a:buClr>
              <a:buFont typeface="Microsoft JhengHe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玛利亚之子 </a:t>
            </a:r>
            <a:r>
              <a:rPr b="0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(Ibn-e-Maryam) </a:t>
            </a:r>
            <a:r>
              <a:rPr b="0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- 19:3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　　共有</a:t>
            </a:r>
            <a:r>
              <a:rPr b="0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23 </a:t>
            </a: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次</a:t>
            </a:r>
            <a:r>
              <a:rPr b="0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: 2:87, 253; 3:45, 55; 4:157, 171; 5:17, 46, 72, 75, 78, 110, 112, 114, 116; 9:31, 34; 19:19, 20, 34; 21:91 (her son); 23:50; 33:8; 43:57, 63; 57:27; 61:6, 14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可 </a:t>
            </a:r>
            <a:r>
              <a:rPr b="0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6:3 – </a:t>
            </a: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不是初期教会所注重的</a:t>
            </a:r>
            <a:r>
              <a:rPr b="0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.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称号曾出现在阿拉伯及叙利亚的伪经中。相信这是古兰经借用此称号的出处</a:t>
            </a:r>
            <a:r>
              <a:rPr b="0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50CC-8F09-462C-83B4-C8D5E2337B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2600" y="0"/>
            <a:ext cx="12192120" cy="49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2. </a:t>
            </a:r>
            <a:r>
              <a:rPr b="0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完美之子 </a:t>
            </a:r>
            <a:r>
              <a:rPr b="0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 </a:t>
            </a:r>
            <a:r>
              <a:rPr b="0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(the Holy Son) - 19:1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好榜样 </a:t>
            </a:r>
            <a:r>
              <a:rPr b="0" lang="en-AU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(Mithal) - 43:57,</a:t>
            </a:r>
            <a:r>
              <a:rPr b="0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　</a:t>
            </a:r>
            <a:r>
              <a:rPr b="0" lang="en-AU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59</a:t>
            </a:r>
            <a:r>
              <a:rPr b="0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示范</a:t>
            </a:r>
            <a:r>
              <a:rPr b="0" lang="en-AU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 </a:t>
            </a:r>
            <a:r>
              <a:rPr b="0" lang="en-AU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(pattern); 3:59 </a:t>
            </a:r>
            <a:r>
              <a:rPr b="0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样式</a:t>
            </a:r>
            <a:r>
              <a:rPr b="0" lang="en-AU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.</a:t>
            </a:r>
            <a:r>
              <a:rPr b="0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　太 </a:t>
            </a:r>
            <a:r>
              <a:rPr b="0" lang="en-AU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11:29; </a:t>
            </a:r>
            <a:r>
              <a:rPr b="0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约 </a:t>
            </a:r>
            <a:r>
              <a:rPr b="0" lang="en-AU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13:1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3. </a:t>
            </a:r>
            <a:r>
              <a:rPr b="0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上帝对全人类的恩惠 </a:t>
            </a:r>
            <a:r>
              <a:rPr b="0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- </a:t>
            </a:r>
            <a:r>
              <a:rPr b="0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恩惠 </a:t>
            </a:r>
            <a:r>
              <a:rPr b="0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Rahma) - 19:21; 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路 </a:t>
            </a:r>
            <a:r>
              <a:rPr b="0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76-78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4. </a:t>
            </a:r>
            <a:r>
              <a:rPr b="0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卓越的</a:t>
            </a:r>
            <a:r>
              <a:rPr b="0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, </a:t>
            </a:r>
            <a:r>
              <a:rPr b="0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出众的</a:t>
            </a:r>
            <a:r>
              <a:rPr b="0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, </a:t>
            </a:r>
            <a:r>
              <a:rPr b="0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有荣耀  </a:t>
            </a:r>
            <a:r>
              <a:rPr b="0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(Wajih) - 3: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今生来世都是最尊荣，最有面子者 </a:t>
            </a:r>
            <a:r>
              <a:rPr b="0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路 </a:t>
            </a:r>
            <a:r>
              <a:rPr b="0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32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 太 </a:t>
            </a:r>
            <a:r>
              <a:rPr b="0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:31,32; 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 </a:t>
            </a:r>
            <a:r>
              <a:rPr b="0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5, 24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D0AD-2B43-4F0A-8658-7A44ACD619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0" y="0"/>
            <a:ext cx="12192120" cy="49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4fea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5</a:t>
            </a:r>
            <a:r>
              <a:rPr b="1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. </a:t>
            </a:r>
            <a:r>
              <a:rPr b="1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全人类必须服从的迹象 </a:t>
            </a:r>
            <a:r>
              <a:rPr b="1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- </a:t>
            </a:r>
            <a:r>
              <a:rPr b="1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	</a:t>
            </a:r>
            <a:r>
              <a:rPr b="1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3: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6. </a:t>
            </a:r>
            <a:r>
              <a:rPr b="1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被圣灵无限充满者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2:8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7. </a:t>
            </a:r>
            <a:r>
              <a:rPr b="1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最蒙福者</a:t>
            </a:r>
            <a:r>
              <a:rPr b="1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(Mubaarak)</a:t>
            </a:r>
            <a:r>
              <a:rPr b="1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 </a:t>
            </a:r>
            <a:r>
              <a:rPr b="1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- 19:3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8. </a:t>
            </a:r>
            <a:r>
              <a:rPr b="1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弭赛亚</a:t>
            </a:r>
            <a:r>
              <a:rPr b="1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11 </a:t>
            </a:r>
            <a:r>
              <a:rPr b="1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次直称「弭赛亚</a:t>
            </a:r>
            <a:r>
              <a:rPr b="1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(Al-Masiih):</a:t>
            </a:r>
            <a:r>
              <a:rPr b="1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」</a:t>
            </a:r>
            <a:r>
              <a:rPr b="1" lang="en-AU" sz="32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3:45; 4:157,171; 5:17 (2), 72 (2), 75; 9:30,31.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　犹太人宣称他们杀掉玛利亚之子耶稣弭赛亚  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4:154-158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　这一称呼在前伊斯兰时期，被视为最伟大的即将来临的「君王，救主」。是非常嵩高的称呼（有如公义君王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r>
              <a:rPr b="1" lang="en-AU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al-Siddiq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913F-70E9-4BED-B3E9-B181FD29A9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12192120" cy="466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4fea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Microsoft JhengHei"/>
                <a:ea typeface="Microsoft JhengHei"/>
              </a:rPr>
              <a:t>9. </a:t>
            </a:r>
            <a:r>
              <a:rPr b="0" lang="zh-CN" sz="3000" spc="-1" strike="noStrike">
                <a:solidFill>
                  <a:srgbClr val="00b0f0"/>
                </a:solidFill>
                <a:latin typeface="Microsoft JhengHei"/>
                <a:ea typeface="Microsoft JhengHei"/>
              </a:rPr>
              <a:t>复活日的预兆</a:t>
            </a:r>
            <a:r>
              <a:rPr b="0" lang="en-AU" sz="3000" spc="-1" strike="noStrike">
                <a:solidFill>
                  <a:srgbClr val="00b0f0"/>
                </a:solidFill>
                <a:latin typeface="Microsoft JhengHei"/>
                <a:ea typeface="Microsoft JhengHei"/>
              </a:rPr>
              <a:t>43:61</a:t>
            </a:r>
            <a:r>
              <a:rPr b="0" lang="zh-CN" sz="3000" spc="-1" strike="noStrike">
                <a:solidFill>
                  <a:srgbClr val="00b0f0"/>
                </a:solidFill>
                <a:latin typeface="Microsoft JhengHei"/>
                <a:ea typeface="Microsoft JhengHei"/>
              </a:rPr>
              <a:t> </a:t>
            </a:r>
            <a:r>
              <a:rPr b="0" lang="zh-CN" sz="3000" spc="-1" strike="noStrike">
                <a:solidFill>
                  <a:srgbClr val="00b0f0"/>
                </a:solidFill>
                <a:latin typeface="Microsoft JhengHei"/>
                <a:ea typeface="Microsoft JhengHei"/>
              </a:rPr>
              <a:t>，</a:t>
            </a: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相信是指耶稣第二次再来时，他要审判万有</a:t>
            </a:r>
            <a:r>
              <a:rPr b="0" lang="en-AU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. </a:t>
            </a: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太 </a:t>
            </a:r>
            <a:r>
              <a:rPr b="0" lang="en-AU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24:30-31; 25:31-46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10.</a:t>
            </a:r>
            <a:r>
              <a:rPr b="0" lang="zh-CN" sz="30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见证 </a:t>
            </a:r>
            <a:r>
              <a:rPr b="0" lang="en-AU" sz="30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(Shahid) -  </a:t>
            </a:r>
            <a:r>
              <a:rPr b="0" lang="en-AU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4:159; 5:111,117; 3:52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 </a:t>
            </a:r>
            <a:r>
              <a:rPr b="0" lang="en-AU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	</a:t>
            </a: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约 </a:t>
            </a:r>
            <a:r>
              <a:rPr b="0" lang="en-AU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8:13-18; 10:25; 18:37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11. </a:t>
            </a:r>
            <a:r>
              <a:rPr b="0" lang="zh-CN" sz="30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正直的人 </a:t>
            </a:r>
            <a:r>
              <a:rPr b="0" lang="en-AU" sz="30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(Min as-Saalihiin) – </a:t>
            </a: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</a:t>
            </a:r>
            <a:r>
              <a:rPr b="0" lang="en-AU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3:46; 3:39 </a:t>
            </a: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　</a:t>
            </a:r>
            <a:r>
              <a:rPr b="0" lang="en-AU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</a:t>
            </a: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施洗约翰</a:t>
            </a:r>
            <a:r>
              <a:rPr b="0" lang="en-AU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).</a:t>
            </a: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约 </a:t>
            </a:r>
            <a:r>
              <a:rPr b="0" lang="en-AU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8:46; </a:t>
            </a: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启</a:t>
            </a:r>
            <a:r>
              <a:rPr b="0" lang="en-AU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. 19:11-13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12. </a:t>
            </a:r>
            <a:r>
              <a:rPr b="0" lang="zh-CN" sz="30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称为尔撒 </a:t>
            </a:r>
            <a:r>
              <a:rPr b="0" lang="en-AU" sz="30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42:1-9, 53; 49:1-7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　有耐心的仆人，要将祝福带到全地的人（古</a:t>
            </a:r>
            <a:r>
              <a:rPr b="0" lang="en-AU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50:4-11 </a:t>
            </a: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谦卑的仆人。希伯来文，尔撒的意思：耶和华是救主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伊斯兰：最原本的真神信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960" y="1066320"/>
            <a:ext cx="12115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伊斯兰不是犹太教，基督教随後的宗教，而是最原本的真神信仰；反而犹太，基督教，是源自它的根源而发展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在古兰经我们读到亚伯拉罕，他不是个犹太人，也不是个基督徒，他是个一神信仰的归顺者，一个穆斯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「易卜拉欣既不是犹太教徒，也不是基督教徒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他是一个祟信正教，归顺真主的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..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（古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3:67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3135-1782-407A-9C9E-062465DDD6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0" y="0"/>
            <a:ext cx="12192120" cy="280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留意：古兰经中的尔撒，失去了两大荣耀</a:t>
            </a:r>
            <a:r>
              <a:rPr b="0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⊕</a:t>
            </a: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耶稣只是先知；耶稣基督不是道（神）成肉身；否定基督的神性，就看见神大能救赎的作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⊕</a:t>
            </a: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耶稣没有死在字架上：因此，看不见上帝处理了世人的罪与救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故此，使用尔撒（古兰经中的耶稣）作为福音挢梁必须了解，如果不处理这两个问题；耶稣基督在伊斯兰心中，仍然不是「主与救主」。不会经历重生与光照</a:t>
            </a:r>
            <a:r>
              <a:rPr b="0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-360" y="838080"/>
            <a:ext cx="12192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长城细圆体"/>
                <a:ea typeface="长城细圆体"/>
              </a:rPr>
              <a:t>基督徒应当接受伊斯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基督徒（以及犹太人）没有办法脱离他们的无知，直到穆罕默德的来到，带来古兰经这明显的证据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98: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穆罕默德是安拉的恩赐，要给基督徒来纠正他们的错误。他们应当接受穆罕默德，就是安拉的先知，古兰经成了最後的启示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. (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5:15;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57:28;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4:47) 5:15-16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信奉天经的人啊！我的使者确已来临你们，他要为你们阐明你们所隐讳的许多经文，并放弃许多经文，不加以揭发。有一道光明，和一部明确的经典，确已从真主降临你们。真主要借这部经典指引追求其喜悦的人走上平安的道路，依自己的意志把他们从重黑暗引入光明，并将他们引入正路</a:t>
            </a:r>
            <a:r>
              <a:rPr b="1" lang="zh-CN" sz="3200" spc="-1" strike="noStrike">
                <a:solidFill>
                  <a:srgbClr val="ffffff"/>
                </a:solidFill>
                <a:latin typeface="长城细圆体"/>
                <a:ea typeface="长城细圆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9051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古兰经对基督徒的评论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5960" y="914400"/>
            <a:ext cx="12115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基督徒应当接受伊斯兰，真的基督徙会这样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某些基督徒与犹太人是忠心相信的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3:113,114)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真信徒会顺从安拉，接受穆罕默德为伊斯兰的先知，而成为一名穆斯林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. (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3:19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虽然犹太人，异教徒会反对穆斯林，然而基督徒则是对信道者（穆斯林）最亲近的人。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5:82)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。真基督徒是不会爱穆罕默德的敌人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.(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58:22)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换言之，任何一个反对穆罕默德的，就不是一个真正的基督徒。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9810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古兰经对基督徒的评论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12039840" cy="44956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拒绝伊斯兰的後果：成为背道， 灭亡的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某些基督徒及犹太人会接受伊斯兰，这些人是真信徒，然而有许多是背道的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3:109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324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许多僧侣与教师是追求财富的人，还拦阻人来就近安拉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9:34,35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324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基督徒及犹太人若不信穆罕默德，会和拜偶像的人一同下地狱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98:6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古兰经对基督徒的评论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12039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c000"/>
                </a:solidFill>
                <a:latin typeface="Arial"/>
                <a:ea typeface="宋体"/>
              </a:rPr>
              <a:t>穆斯林当做与不当做的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79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不应当接受基督徒与犹太人为朋友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5:51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79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应当攻打拒绝穆斯林的基督徒与犹太人，直到他们投降，付丁税及卑下为止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9:29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79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兰经有上百处经文提及，要照安拉的方法进行圣战的要求；圣言录中更是有许多这方面的提示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8288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古兰经对基督徒的评论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12192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古兰经要求</a:t>
            </a:r>
            <a:r>
              <a:rPr b="1" lang="zh-CN" sz="30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基督徒当有的信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基督徒被要求不要相信尔撒为神的儿子。宣称上帝有儿子，对上帝超越的神性是个巨大的偏差。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4:171;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25:2) ‘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尔撒只是个受造的人类，是安拉的一个仆人。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. (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4:172;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3:59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兰经宣称基督徒所信的，是一个神的家庭，父上帝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—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圣母玛利亚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—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圣子耶稣。然而尔撒拒绝这样的教导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5:116)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三位一体的教义，是不信真主的教义，将有地狱为信这些的人存留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5:73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8288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古兰经对基督徒的评论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2280" y="609120"/>
            <a:ext cx="12039840" cy="4496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新宋体"/>
                <a:ea typeface="新宋体"/>
              </a:rPr>
              <a:t>麦西哈尔撒：除灭基督教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先知尔撒在末日时有个重大工作；以战争除灭一切的宗教，保存伊斯兰信仰。他会除掉恶者敌基督的预表「达加 </a:t>
            </a:r>
            <a:r>
              <a:rPr b="1" lang="en-US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(Dajjal),</a:t>
            </a:r>
            <a:r>
              <a:rPr b="1" lang="zh-CN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」圣言录中有这样的说法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新宋体"/>
                <a:ea typeface="新宋体"/>
              </a:rPr>
              <a:t>不再有先知直到尔撒以人的身份，带着中等身段，淡红色的肤色，穿带两件发光的外套，看似从他头上有汗水流下来。他会为伊斯兰而争战。他将</a:t>
            </a:r>
            <a:r>
              <a:rPr b="1" lang="zh-CN" sz="2800" spc="-1" strike="noStrike">
                <a:solidFill>
                  <a:srgbClr val="ffc000"/>
                </a:solidFill>
                <a:latin typeface="新宋体"/>
                <a:ea typeface="新宋体"/>
              </a:rPr>
              <a:t>打碎十字架，杀掉所有的猪，取消丁税。</a:t>
            </a:r>
            <a:r>
              <a:rPr b="1" lang="zh-CN" sz="2800" spc="-1" strike="noStrike">
                <a:solidFill>
                  <a:srgbClr val="ffff00"/>
                </a:solidFill>
                <a:latin typeface="新宋体"/>
                <a:ea typeface="新宋体"/>
              </a:rPr>
              <a:t>安拉会除掉所有的宗教，留下伊斯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新宋体"/>
                <a:ea typeface="新宋体"/>
              </a:rPr>
              <a:t>尔撒会杀掉邪恶的敌基督，然後在世上生活多四十年，然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新宋体"/>
                <a:ea typeface="新宋体"/>
              </a:rPr>
              <a:t>他会死掉 </a:t>
            </a:r>
            <a:r>
              <a:rPr b="1" lang="en-US" sz="2800" spc="-1" strike="noStrike">
                <a:solidFill>
                  <a:srgbClr val="ff0000"/>
                </a:solidFill>
                <a:latin typeface="新宋体"/>
                <a:ea typeface="新宋体"/>
              </a:rPr>
              <a:t>(Sunan Abu Dawud, 37:4310)</a:t>
            </a:r>
            <a:r>
              <a:rPr b="1" lang="en-US" sz="2800" spc="-1" strike="noStrike">
                <a:solidFill>
                  <a:srgbClr val="ffff00"/>
                </a:solidFill>
                <a:latin typeface="新宋体"/>
                <a:ea typeface="新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新宋体"/>
                <a:ea typeface="新宋体"/>
              </a:rPr>
              <a:t>对这传统有另一个说法：玛利亚的儿子，会以一个公义的审判官降临。他会废除丁税，那时他会带给人们非常的富足，以致没有人需要慈惠的协助 </a:t>
            </a:r>
            <a:r>
              <a:rPr b="1" lang="en-US" sz="2800" spc="-1" strike="noStrike">
                <a:solidFill>
                  <a:srgbClr val="ff0000"/>
                </a:solidFill>
                <a:latin typeface="新宋体"/>
                <a:ea typeface="新宋体"/>
              </a:rPr>
              <a:t>(Sahih Muslim 28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圣言录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宋体"/>
              </a:rPr>
              <a:t>Hadith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中的尔撒‘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宋体"/>
              </a:rPr>
              <a:t>Isa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耶稣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11963520" cy="4495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cc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这些记录是什么意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打碎十字架意味消除基督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猪， 狗，猴， 有时用来形容犹太人及基督徒。杀掉他们是另一种消灭他们全部的喻意说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在伊斯兰法律下，丁税是被攻占的有经之人，在伊斯兰国家中，用来保护自己生存权利的方法。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9:29)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废除丁税的意思说明</a:t>
            </a:r>
            <a:r>
              <a:rPr b="1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时他们在圣战之下，不是全部改信伊斯兰，就是全部被杀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丰盛的富气流露出来，说明这一次圣战全部得胜所带来的结果。这是尔撒末日时回来以後会做的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810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圣言录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宋体"/>
              </a:rPr>
              <a:t>Hadith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中的尔撒‘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宋体"/>
              </a:rPr>
              <a:t>Isa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耶稣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某些近代穆斯林对尔撒（耶稣）的说法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12039840" cy="449604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9900cc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拉法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asser Arafat,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於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98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年在美国的一个新闻发布会中提到「耶稣：他是第一个巴勒斯坦突击队员，带着他的剑来到以色列地」意思是说，耶稣是个穆斯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赛依布拉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heikh Ibrahim Madhi,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巴勒斯坦政权的一个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宋体"/>
              </a:rPr>
              <a:t>最高宗教领袖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，於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年的一个电视现场广播中如此说：“犹太人在等候一个错误的犹太弭赛亚的降临。让我们等候，藉着安拉的帮助，尔撒（耶稣）愿平安归给他；尔撒圣洁的手，会除灭犹太错误的弭赛亚。在那里？就在罗得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Lo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城，巴勒斯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5960" y="75960"/>
            <a:ext cx="12115800" cy="510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cc"/>
            </a:outerShdw>
          </a:effectLst>
        </p:spPr>
        <p:txBody>
          <a:bodyPr anchor="t">
            <a:normAutofit/>
          </a:bodyPr>
          <a:p>
            <a:pPr marL="87480" indent="-87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类的历史性对立反驳，表面上是肯定基督教与犹太教与伊斯兰同为一根源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---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其实是要同化，废除与消灭他们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---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是伊斯兰惯用的反向护教学论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穆斯林一再强调的论点：尔撒他不是基督教或犹太教的先知，而是伊斯兰的先知，摩西也是伊斯兰先知。这是一种意愿想要倒转过来，将整个基督教与犹太教纳入伊斯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就是撒地居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Siddiqi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所说的，只需要多走一步，采用伊斯兰的「钉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din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（操行与信条）」；「就能使三方互相努力，共同建立上帝的国度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76320" y="0"/>
            <a:ext cx="11963160" cy="41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伊斯兰的天房，由亚伯拉罕及以实玛利亲手所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「当时，易卜拉欣和易司马仪树起天房的根基，他们俩祈祷说，求你接受我们的敬意（古</a:t>
            </a:r>
            <a:r>
              <a:rPr b="1" lang="en-US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2:127)</a:t>
            </a: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他们是最早住守天房，做环绕的朝覲穆斯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「我以天房为众人的归宿地和安宁地。你们当以易卜拉欣和易司马仪的立足地为礼拜之处。我命易卜拉欣和易司马仪说：你们俩应当旋绕致敬者，虔诚住守者，鞠躬叩头者，清除我的房屋（古</a:t>
            </a:r>
            <a:r>
              <a:rPr b="1" lang="en-US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2:125)</a:t>
            </a:r>
            <a:r>
              <a:rPr b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因此，是伊斯兰，而不是犹太，基督教，成为世界上，亚伯拉罕信仰的代表 </a:t>
            </a:r>
            <a:r>
              <a:rPr b="1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2:135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12192120" cy="4953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cc"/>
            </a:outerShdw>
          </a:effectLst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美国纽约的沙米西地居</a:t>
            </a:r>
            <a:r>
              <a:rPr b="1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Shamim A. Siddiqi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在写给旦尼拜伯，一个纽约时报的专栏作家这么说到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“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亚伯拉罕，摩西，耶稣及穆罕默德，全是伊斯兰的先知。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.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伊斯兰可说是美国普遍认识的「犹太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基督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穆斯林」的遗产，若要要建立上帝的国度，有赖这三个原属亚伯拉罕信仰共同的努力。伊斯兰的「钉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din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（信仰生活方式）就是犹太人及基督徒，该有的信仰与生活方式；这原是他们当初，在人文改革中失去的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.  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现在，正是伊斯兰要来提醒，基督徒及犹太人弟兄姐妹，有关他们最初的「钉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din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（生活信仰）」的时刻。这是历史的事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905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某些近代穆斯林对耶稣的说法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81080" y="15235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宋体"/>
              </a:rPr>
              <a:t>就穆斯林尔撒（耶稣）的评论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伊斯兰所提的尔撒</a:t>
            </a:r>
            <a:r>
              <a:rPr b="1" lang="zh-TW" sz="3200" spc="-1" strike="noStrike">
                <a:solidFill>
                  <a:srgbClr val="ffff00"/>
                </a:solidFill>
                <a:latin typeface="Arial"/>
                <a:ea typeface="宋体"/>
              </a:rPr>
              <a:t>不符合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历史的描述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12192120" cy="44956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9900cc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伊斯兰所提的尔撒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Isa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，</a:t>
            </a:r>
            <a:r>
              <a:rPr b="1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不合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历史的描述。说他是伊斯兰的先知，这纯碎是穆罕默德个人所谓启示的结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穆罕默德讲论历史性的尔撒，所经过的降生，受苦，受死，复活，升天的历史事实；与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500</a:t>
            </a:r>
            <a:r>
              <a:rPr b="1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年前使徒们为当代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历史</a:t>
            </a:r>
            <a:r>
              <a:rPr b="1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所见证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的耶稣</a:t>
            </a:r>
            <a:r>
              <a:rPr b="1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不一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当年曾亲眼见过耶稣之人的见证有权威，或者一个五百年后，没见过耶稣之人的见证有权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历史中的耶稣，从未被称为尔撒</a:t>
            </a:r>
            <a:r>
              <a:rPr b="1" i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 ‘</a:t>
            </a:r>
            <a:r>
              <a:rPr b="1" i="1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Isa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12039840" cy="1522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9900cc"/>
            </a:outerShdw>
          </a:effectLst>
        </p:spPr>
        <p:txBody>
          <a:bodyPr anchor="t">
            <a:normAutofit fontScale="3000"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耶稣的日用语是亚兰文。他在世时亚兰文名叫「耶稣阿</a:t>
            </a:r>
            <a:r>
              <a:rPr b="1" i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Yeshua</a:t>
            </a:r>
            <a:r>
              <a:rPr b="1" i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」，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希腊文是「耶稣</a:t>
            </a:r>
            <a:r>
              <a:rPr b="1" i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Jesu</a:t>
            </a:r>
            <a:r>
              <a:rPr b="1" i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」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.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希腊文的「耶稣</a:t>
            </a:r>
            <a:r>
              <a:rPr b="1" i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Jesu</a:t>
            </a:r>
            <a:r>
              <a:rPr b="1" i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」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是译自亚兰文「耶稣阿</a:t>
            </a:r>
            <a:r>
              <a:rPr b="1" i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Yeshua</a:t>
            </a:r>
            <a:r>
              <a:rPr b="1" i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」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「 耶稣阿</a:t>
            </a:r>
            <a:r>
              <a:rPr b="1" i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Yeshua</a:t>
            </a:r>
            <a:r>
              <a:rPr b="1" i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」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字源自希伯来文的「耶和稣阿 </a:t>
            </a:r>
            <a:r>
              <a:rPr b="1" i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Yehoshua</a:t>
            </a:r>
            <a:r>
              <a:rPr b="1" i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」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意思是「主是救恩</a:t>
            </a:r>
            <a:r>
              <a:rPr b="1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」。「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耶和稣阿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Yehoshua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」’ 在英文圣经中通常用了相等的「约书亚</a:t>
            </a:r>
            <a:r>
              <a:rPr b="1" i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Joshua</a:t>
            </a:r>
            <a:r>
              <a:rPr b="1" i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」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字来表达。因此，英语的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Jesus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是「约书亚</a:t>
            </a:r>
            <a:r>
              <a:rPr b="1" i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Joshua</a:t>
            </a:r>
            <a:r>
              <a:rPr b="1" i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」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名称的变异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有趣的是中文的「耶稣」是最靠近亚兰文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「耶稣阿</a:t>
            </a:r>
            <a:r>
              <a:rPr b="1" i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Yeshua</a:t>
            </a:r>
            <a:r>
              <a:rPr b="1" i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」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。它的第一个字母「耶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Yeh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」就是希伯来人常说的「耶威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YHWH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」，主的意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228600" y="0"/>
            <a:ext cx="118108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拿撒人「耶稣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Yeshua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」，从来没有任何时候，被称为「尔撒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Is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」这纯粹是古兰经给他的名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当年阿拉伯基督徒，称呼耶稣为「耶稣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Yasou’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 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源自 耶稣阿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Yeshu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而不是尔撒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Is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不信耶稣为基督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犹太人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经常称呼耶稣为「依稣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Esau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」接近以撒大儿子以扫的发音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 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经典楷体简"/>
              </a:rPr>
              <a:t>表明对他轻视的意思。穆罕默德受犹太神学思想更大，也许就随从不信耶稣的犹太人，取了这个读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危机，转机与挑战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12039840" cy="548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cc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兰经的尔撒‘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Isa (Jesus)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是出於一种</a:t>
            </a:r>
            <a:r>
              <a:rPr b="1" lang="zh-TW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异端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与片面认识的人物。当穆斯林提到这位尔撒时，在他构思中的尔撒，是有别於圣经中的耶稣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Yeshua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。古兰经的尔撒不像圣经中的耶稣那样，具备历史的考证，它出於</a:t>
            </a:r>
            <a:r>
              <a:rPr b="1" lang="zh-TW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第四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世纪</a:t>
            </a:r>
            <a:r>
              <a:rPr b="1" lang="zh-TW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，以后继续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流传於阿拉伯</a:t>
            </a:r>
            <a:r>
              <a:rPr b="1" lang="zh-TW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的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异端信</a:t>
            </a:r>
            <a:r>
              <a:rPr b="1" lang="zh-TW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仰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（亚流主义，被尼亚亚会议判为异端）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对敬虔的穆斯林来说，尔撒‘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Isa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是他们心中的耶稣图像（没上十字架，不是神儿子，三位一体的道）。任何人接受这位伊斯兰的尔撒，就是接受伊斯兰的信仰。接纳古兰经的见证，也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等於接受穆罕默德的先知地位。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认同古兰经如此见证耶稣，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等於认同基督教的圣经已被窜改的指责</a:t>
            </a:r>
            <a:r>
              <a:rPr b="1" lang="zh-CN" sz="3000" spc="-1" strike="noStrike">
                <a:solidFill>
                  <a:srgbClr val="0066ff"/>
                </a:solidFill>
                <a:latin typeface="Microsoft JhengHei"/>
                <a:ea typeface="Microsoft JhengHei"/>
              </a:rPr>
              <a:t>。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接受伊斯兰所介绍的耶稣，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等於同意犹太及基督教的宗教历史，在伊斯兰历史之中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12039840" cy="5333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cc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照穆罕默德的</a:t>
            </a:r>
            <a:r>
              <a:rPr b="1" lang="zh-TW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说法，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尔撒将要以带刀劍争战的使者身份回来（是个会娶妻育女，将死的人）。尔撒将除掉基督教，犹太教，将伊斯兰设立为，世界</a:t>
            </a:r>
            <a:r>
              <a:rPr b="1" lang="zh-TW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唯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一的宗教。伊斯兰认为，不信伊斯兰，而去相信基督耶稣的十字架，救赎及他的神性者，将被丢入地狱。末世的时候，更是会被耶稣消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伊斯兰中再来的「尔撒」；显现出伊斯兰宣教与护教学中，对待基督教的手段；不只以古兰经的尔撒；取代基督教信仰的耶稣</a:t>
            </a:r>
            <a:r>
              <a:rPr b="1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Yeshua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; 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同时否认了历史中真正</a:t>
            </a:r>
            <a:r>
              <a:rPr b="1" lang="zh-TW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耶稣，</a:t>
            </a:r>
            <a:r>
              <a:rPr b="1" lang="zh-CN" sz="3200" spc="-1" strike="noStrike">
                <a:solidFill>
                  <a:srgbClr val="ffff00"/>
                </a:solidFill>
                <a:latin typeface="新宋体"/>
                <a:ea typeface="新宋体"/>
              </a:rPr>
              <a:t>以一个看似耶稣，其实却是个虚构，非救主的耶稣，</a:t>
            </a:r>
            <a:r>
              <a:rPr b="1" lang="zh-TW" sz="3200" spc="-1" strike="noStrike">
                <a:solidFill>
                  <a:srgbClr val="ffff00"/>
                </a:solidFill>
                <a:latin typeface="新宋体"/>
                <a:ea typeface="新宋体"/>
              </a:rPr>
              <a:t>好</a:t>
            </a:r>
            <a:r>
              <a:rPr b="1" lang="zh-CN" sz="3200" spc="-1" strike="noStrike">
                <a:solidFill>
                  <a:srgbClr val="ffff00"/>
                </a:solidFill>
                <a:latin typeface="新宋体"/>
                <a:ea typeface="新宋体"/>
              </a:rPr>
              <a:t>让回教先知穆罕默德成为最大，最後的先知，中保；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因此，除了伊斯兰再没有真正的宗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危机，转机与挑战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12039480" cy="4495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cc"/>
            </a:outerShdw>
          </a:effectLst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最近伊斯兰的「取代论」学者宣称，整个犹太，基督教的圣经历史</a:t>
            </a:r>
            <a:r>
              <a:rPr b="0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是属於伊斯兰的圣经历史；所有的犹太先知，以色列国，犹大国的君王，包括耶稣及他的门徒，都是穆斯林。任何一个有经典的人（指犹太人及基督徒），敢质疑这点，将被伊斯兰神学家们</a:t>
            </a:r>
            <a:r>
              <a:rPr b="0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视为不能被忍受的傲慢。基督徒</a:t>
            </a:r>
            <a:r>
              <a:rPr b="0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可说是完全偏离了圣经，及他们有意救人的使命与价值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— </a:t>
            </a:r>
            <a:r>
              <a:rPr b="0" lang="en-US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Bat Ye’or </a:t>
            </a:r>
            <a:r>
              <a:rPr b="0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伊斯兰及其俘虜：当文明对抗时</a:t>
            </a:r>
            <a:r>
              <a:rPr b="0" lang="en-US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--</a:t>
            </a:r>
            <a:r>
              <a:rPr b="0" i="1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页</a:t>
            </a:r>
            <a:r>
              <a:rPr b="0" lang="zh-CN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.370.</a:t>
            </a:r>
            <a:r>
              <a:rPr b="0" lang="en-US" sz="2800" spc="-1" strike="noStrike">
                <a:solidFill>
                  <a:srgbClr val="ffc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9810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危机，转机与挑战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12192120" cy="4495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cc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兰经是第七世纪的作品，也不是亲眼目睹耶稣事迹的门徒所写；显然它完全无法用来见证，耶稣事跡的权威与可靠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它也提不出任何理由说，他的启示符合历史进程。反而，他引用的某些圣经历史的事迹，竟然出现误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古兰经的历史记录，无从与圣经的历史相比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11963520" cy="5181840"/>
          </a:xfrm>
          <a:prstGeom prst="rect">
            <a:avLst/>
          </a:prstGeom>
          <a:noFill/>
          <a:ln w="0">
            <a:noFill/>
          </a:ln>
          <a:effectLst>
            <a:outerShdw dist="45929" dir="18228878" blurRad="0" rotWithShape="0">
              <a:srgbClr val="9900cc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当穆罕默德将他的安拉信仰，联在犹太，基督教信仰的宗教历史中，就得以盗用耶和华上帝在宗教历史的地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他进一步宣称，伊斯兰是最原始的独一真神的宗教，同时宣称所有上帝的先知都是穆斯林。这宣称使他可以将所有相关的宗教权威，纳入自己的怀中，这样的举动是一种盗用犹太与基督教的宗教历史，并将它占为已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穆斯林将圣经中属於犹太，基督教共同拥有的宗教古迹如「族长的墓地」，「圣殿山」占为已有，并宣称这些是属於伊斯兰世界所拥有的遗物。因为，亚伯拉罕是个穆斯林，所以一切与他有关的，都属於伊斯兰的，犹太，基督教被禁止再靠近这些古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伊斯兰盗用犹太及基督教的宗教历史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8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伊斯兰</a:t>
            </a:r>
            <a:r>
              <a:rPr b="1" lang="zh-TW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宣称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经中所有的先知都是穆斯林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11811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许多过去的先知，都接受伊斯兰这正教的信仰 ；                                          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42:13</a:t>
            </a:r>
            <a:r>
              <a:rPr b="1" lang="zh-TW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他已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为</a:t>
            </a:r>
            <a:r>
              <a:rPr b="1" lang="zh-TW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你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制定正教，就是他所命令努哈的、他所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启</a:t>
            </a:r>
            <a:r>
              <a:rPr b="1" lang="zh-TW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示你的、他命令易卜拉欣、穆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撒</a:t>
            </a:r>
            <a:r>
              <a:rPr b="1" lang="zh-TW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和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尔</a:t>
            </a:r>
            <a:r>
              <a:rPr b="1" lang="zh-TW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撒的宗教。你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们应当谨</a:t>
            </a:r>
            <a:r>
              <a:rPr b="1" lang="zh-TW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守正教，不要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为</a:t>
            </a:r>
            <a:r>
              <a:rPr b="1" lang="zh-TW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正教而分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门别类</a:t>
            </a:r>
            <a:r>
              <a:rPr b="1" lang="zh-TW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。以物配主的人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以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为</a:t>
            </a:r>
            <a:r>
              <a:rPr b="1" lang="zh-TW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你所教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导</a:t>
            </a:r>
            <a:r>
              <a:rPr b="1" lang="zh-TW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的事是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难</a:t>
            </a:r>
            <a:r>
              <a:rPr b="1" lang="zh-TW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堪的。真主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将</a:t>
            </a:r>
            <a:r>
              <a:rPr b="1" lang="zh-TW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他所意欲者招致於正教，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将归</a:t>
            </a:r>
            <a:r>
              <a:rPr b="1" lang="zh-TW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依他者引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导</a:t>
            </a:r>
            <a:r>
              <a:rPr b="1" lang="zh-TW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於真理。</a:t>
            </a:r>
            <a:r>
              <a:rPr b="0" lang="zh-TW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6:85-87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它包括亚伯拉罕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Ibrahim ,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以撒‘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Ishaq ,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雅各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Yaqub ,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挪亚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Nuh ,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大卫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Dawud,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所罗门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Sulaiman ,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约伯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Ayyub ,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约瑟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Yusuf ,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摩西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Musa ,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亚伦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Harun ,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撒迦利亚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Zakariyya ,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施洗约翰 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Yahya, 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耶稣</a:t>
            </a:r>
            <a:r>
              <a:rPr b="1" lang="en-US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Isa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,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以利亚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Ilyas,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以实马利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Ishmael,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以利沙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Al-Yash’a ,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约拿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Yunus  and 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罗得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Lut </a:t>
            </a:r>
            <a:r>
              <a:rPr b="1" lang="en-US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他们都是归顺真主的穆斯林！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伊斯兰对待旧约圣经的地位，不同於基督教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11963160" cy="449604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ff0000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基督教对待犹太旧约圣经的态度，与伊斯兰对待犹太圣经的态度，有非常根本上的不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基督教接纳犹太教全部的圣经，并视它为上帝无误的启示。基督教从它吸取属灵的原则与</a:t>
            </a:r>
            <a:r>
              <a:rPr b="1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指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导。</a:t>
            </a:r>
            <a:r>
              <a:rPr b="1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有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主要的真理启示，如弭赛亚，上帝的国度，救赎计划，上帝的圣灵，耶稣基督的神性等教义，都源自旧约的启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基督教的高等神学院，要求学习希伯来文，目的是要更加明白旧约圣经的原意。犹太的旧约圣经，全部收集在基督教圣经里，成为正典。每个主日的敬拜，基督教会都会运用这些经文，作为真理教导的叁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12039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相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比之下，伊斯兰完全不顾旧约圣经的权威性虽然古兰经意图要宣称，自己类同於新旧约的启示；然而它的内容却是有别於圣经</a:t>
            </a:r>
            <a:r>
              <a:rPr b="1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所启示的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「灵意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兰经指责犹太及基督教的圣经被窜改，这完全没有历史的证据与根据；这宣称是因为穆罕默德，想遮盖他信息中，缺乏历史考证根据所做的反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当初穆罕默德指责有小部份人，抄写圣经来卖，结果把圣经窜改。以後伊斯兰学者，继续将窜改的论点放大，变为全面的窜改。</a:t>
            </a:r>
            <a:r>
              <a:rPr b="1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甚至被废除了。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伊斯兰的学者，因缺乏对圣经的认识，继续保存，这方面的欺骗与无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9051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古兰经对待旧约圣经的地位，不同於基督教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960" y="0"/>
            <a:ext cx="1203948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II) 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本士化宣教的迷思</a:t>
            </a:r>
            <a:r>
              <a:rPr b="1" lang="zh-TW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：本土化或者混合主义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3ff01"/>
                </a:solidFill>
                <a:latin typeface="Microsoft JhengHei"/>
                <a:ea typeface="Microsoft JhengHei"/>
              </a:rPr>
              <a:t>基督教</a:t>
            </a:r>
            <a:r>
              <a:rPr b="1" lang="en-US" sz="3000" spc="-1" strike="noStrike">
                <a:solidFill>
                  <a:srgbClr val="13ff01"/>
                </a:solidFill>
                <a:latin typeface="Microsoft JhengHei"/>
                <a:ea typeface="Microsoft JhengHei"/>
              </a:rPr>
              <a:t>C1- C6</a:t>
            </a:r>
            <a:r>
              <a:rPr b="1" lang="zh-CN" sz="3000" spc="-1" strike="noStrike">
                <a:solidFill>
                  <a:srgbClr val="13ff01"/>
                </a:solidFill>
                <a:latin typeface="Microsoft JhengHei"/>
                <a:ea typeface="Microsoft JhengHei"/>
              </a:rPr>
              <a:t>本土化宣教谱图，类别，进展与定义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Microsoft JhengHei"/>
                <a:ea typeface="Microsoft JhengHei"/>
              </a:rPr>
              <a:t>C1</a:t>
            </a:r>
            <a:r>
              <a:rPr b="1" lang="zh-CN" sz="3000" spc="-1" strike="noStrike">
                <a:solidFill>
                  <a:srgbClr val="ffcc00"/>
                </a:solidFill>
                <a:latin typeface="Microsoft JhengHei"/>
                <a:ea typeface="Microsoft JhengHei"/>
              </a:rPr>
              <a:t>：一个传统，典型保守，以基督为中心，使用外地语言的宣教策略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领域的宣教，几乎不考虑本土化的观念。属于非常低微的本土化考量。宣教士，教会大量使用了当地异教徙所不熟悉的，宗教术语，仪式，生活方式，价值观。在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C1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本土化谱图内的信徒，称自己为基督徒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Microsoft JhengHei"/>
                <a:ea typeface="Microsoft JhengHei"/>
              </a:rPr>
              <a:t>C2</a:t>
            </a:r>
            <a:r>
              <a:rPr b="1" lang="zh-CN" sz="3000" spc="-1" strike="noStrike">
                <a:solidFill>
                  <a:srgbClr val="ffcc00"/>
                </a:solidFill>
                <a:latin typeface="Microsoft JhengHei"/>
                <a:ea typeface="Microsoft JhengHei"/>
              </a:rPr>
              <a:t>：典型保守，以基督为中心 ；除了</a:t>
            </a:r>
            <a:r>
              <a:rPr b="1" lang="zh-TW" sz="3000" spc="-1" strike="noStrike">
                <a:solidFill>
                  <a:srgbClr val="ffcc00"/>
                </a:solidFill>
                <a:latin typeface="Microsoft JhengHei"/>
                <a:ea typeface="Microsoft JhengHei"/>
              </a:rPr>
              <a:t>本地</a:t>
            </a:r>
            <a:r>
              <a:rPr b="1" lang="zh-CN" sz="3000" spc="-1" strike="noStrike">
                <a:solidFill>
                  <a:srgbClr val="ffcc00"/>
                </a:solidFill>
                <a:latin typeface="Microsoft JhengHei"/>
                <a:ea typeface="Microsoft JhengHei"/>
              </a:rPr>
              <a:t>语言的使用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虽然，当地言语被用上；却随意使用许多的宗教术语，让外教人士听不明白所传讲的。因此，还是非常典型的「基督教化」的运作。信徒的生活方式，也许能容忍某些当地的文化色彩。目前，大部份存在非回教国家的非回教徙的教会，大都采取这类的形式存在。信徒称自己为基督徙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11963520" cy="452592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9900cc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宋体"/>
                <a:ea typeface="经典楷体简"/>
              </a:rPr>
              <a:t>C3: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经典楷体简"/>
              </a:rPr>
              <a:t>以基督为中心，但采取「本土化」原则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不但以当地语言传教，也接纳，容许，溶入，当地的民族文化与活动。这些非宗教的文化；如民族诗歌，舞蹈，服装，手工，书法。任何带有异宗教色彩的文化，都被过滤掉；只容许教徒，接受，享用，执行，圣经所容许的民族「纯文化」的活动。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戴德生的本士化宣教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样的本土化，目的要摆脱从外地引进来的基督教文化。目前最多的前回教徙信徒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，在这类型的教会中集会。他们尽量保持自己文化的特色。尽量隐藏自己的身份。这谱图内的信徒称自己为 「基督徙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12192120" cy="5973840"/>
          </a:xfrm>
          <a:prstGeom prst="rect">
            <a:avLst/>
          </a:prstGeom>
          <a:noFill/>
          <a:ln w="0">
            <a:noFill/>
          </a:ln>
          <a:effectLst>
            <a:outerShdw dist="36147" dir="189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Microsoft JhengHei"/>
                <a:ea typeface="Microsoft JhengHei"/>
              </a:rPr>
              <a:t>C4: </a:t>
            </a:r>
            <a:r>
              <a:rPr b="1" lang="zh-CN" sz="3000" spc="-1" strike="noStrike">
                <a:solidFill>
                  <a:srgbClr val="ffcc00"/>
                </a:solidFill>
                <a:latin typeface="Microsoft JhengHei"/>
                <a:ea typeface="Microsoft JhengHei"/>
              </a:rPr>
              <a:t>传道人</a:t>
            </a:r>
            <a:r>
              <a:rPr b="1" lang="zh-TW" sz="3000" spc="-1" strike="noStrike">
                <a:solidFill>
                  <a:srgbClr val="ffcc00"/>
                </a:solidFill>
                <a:latin typeface="Microsoft JhengHei"/>
                <a:ea typeface="Microsoft JhengHei"/>
              </a:rPr>
              <a:t>完全认同</a:t>
            </a:r>
            <a:r>
              <a:rPr b="1" lang="zh-CN" sz="3000" spc="-1" strike="noStrike">
                <a:solidFill>
                  <a:srgbClr val="ffcc00"/>
                </a:solidFill>
                <a:latin typeface="Microsoft JhengHei"/>
                <a:ea typeface="Microsoft JhengHei"/>
              </a:rPr>
              <a:t>本土化原则；</a:t>
            </a:r>
            <a:r>
              <a:rPr b="1" lang="zh-TW" sz="3000" spc="-1" strike="noStrike">
                <a:solidFill>
                  <a:srgbClr val="ffcc00"/>
                </a:solidFill>
                <a:latin typeface="Microsoft JhengHei"/>
                <a:ea typeface="Microsoft JhengHei"/>
              </a:rPr>
              <a:t>称自己为穆斯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进入回教地区的传道人，不但学习以当地语言传教，「为了得什么人，而作什么人」自己也接纳，容许，溶入，当地的社区文化与活动；外加伊斯兰的信仰生活方式。就如</a:t>
            </a:r>
            <a:r>
              <a:rPr b="0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C3</a:t>
            </a: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所说，采用圣经所容许的范围，溶入伊斯兰的宗教与社会，风俗，礼节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例如：祷告的时候举双手，禁食月，不吃猪肉，不喝酒，不养狗，用伊斯兰日常问安语，穿伊斯兰教徒服装，蒙头，留胡子，祷告五次，星期五作礼拜等等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C1-C3</a:t>
            </a: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不容许人，不在基督徒的集会中做礼拜。 </a:t>
            </a:r>
            <a:r>
              <a:rPr b="0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C4</a:t>
            </a: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的人会自认他们是「麦西哈尔撒的跟从者」。不表明自己是基督徒的身份。 </a:t>
            </a:r>
            <a:r>
              <a:rPr b="0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C4-C5</a:t>
            </a: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却鼓励人回清真寺去。对前回教信徒来说，是非常容易适应的人物；但伊斯兰社区很快就会发觉</a:t>
            </a:r>
            <a:r>
              <a:rPr b="0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C4</a:t>
            </a: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的人，不是真的伊斯兰教徒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12192120" cy="6858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C5</a:t>
            </a:r>
            <a:r>
              <a:rPr b="0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：以麦西哈尔撒为信仰目标的前伊斯兰教徒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认定尔撒麦西哈为救主。为同胞，为家人，为族群，为福音的缘故，保留并承认自己是追随尔撒的伊斯兰教徒。继续溶入伊斯兰的社区成为回教徒。任何与圣经教导有冲突的伊斯兰教义，必须放弃，不尊守或重新诠释。相对的也遵守「</a:t>
            </a:r>
            <a:r>
              <a:rPr b="0" lang="zh-TW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许多</a:t>
            </a: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伊斯兰</a:t>
            </a:r>
            <a:r>
              <a:rPr b="0" lang="zh-TW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社会</a:t>
            </a: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教规」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反之任何基督信仰，多用古兰经的观点表达；为基督教信仰，重新诠释在伊斯兰当中。参与穆斯林宗教及社区中，各种个人的或宗教的活动；继续采用他们的宗教仪式，星期五祷告，问安口语，社会礼节，宗教律法等。</a:t>
            </a:r>
            <a:r>
              <a:rPr b="0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C5</a:t>
            </a: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信徒彼此之间一起集会，为未信尔撒的家人祷告及传福音。不参加</a:t>
            </a:r>
            <a:r>
              <a:rPr b="0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C1-3</a:t>
            </a: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信徒的集会，也不公开与非</a:t>
            </a:r>
            <a:r>
              <a:rPr b="0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C5</a:t>
            </a:r>
            <a:r>
              <a:rPr b="0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的信徒有来往。在这谱图中称自己是尔撒麦西哈的跟从者，而不是基督徒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0" y="0"/>
            <a:ext cx="12268080" cy="3569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希望正统伊斯兰教徒，渐渐发觉</a:t>
            </a:r>
            <a:r>
              <a:rPr b="0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C5</a:t>
            </a: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的回教徒，除了在</a:t>
            </a:r>
            <a:r>
              <a:rPr b="0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基督论与</a:t>
            </a: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神</a:t>
            </a:r>
            <a:r>
              <a:rPr b="0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论</a:t>
            </a: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上与他们有些不同，其余的都大同小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希望当地的回教社群，会视他们为信仰上另类的派别，而不把他们隔除在核心以外，或继续接受他们的邀请与团契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希望穆斯林会容许他们存在，同住，不会想立刻与他们断绝来往，或消除他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希望</a:t>
            </a:r>
            <a:r>
              <a:rPr b="0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C5</a:t>
            </a: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的信徒会被回教徒群体，「接纳」为一份子；而</a:t>
            </a:r>
            <a:r>
              <a:rPr b="0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C5</a:t>
            </a: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信徒，则会自称自己是，跟随麦西哈尔撒的「穆斯林」，绝不以基督徒自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在实际运用的时，消除基督教中的用词；转而采用伊斯兰的用词</a:t>
            </a:r>
            <a:r>
              <a:rPr b="0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Allah, ummah, mosque, Islam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0" y="457200"/>
            <a:ext cx="11430000" cy="5031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讨论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⊕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你认为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C4,C5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的伊斯兰本土化宣教的策略如何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⊕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试讨论历史中本土化宣教的事件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犹太教中的基督徒，唐朝景教，中国的戴德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⊕</a:t>
            </a:r>
            <a:r>
              <a:rPr b="1" lang="zh-TW" sz="3200" spc="-1" strike="noStrike">
                <a:solidFill>
                  <a:srgbClr val="ffff00"/>
                </a:solidFill>
                <a:latin typeface="黑体"/>
                <a:ea typeface="黑体"/>
              </a:rPr>
              <a:t>使用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C4-C5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它的目的与用意何在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⊕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C4-C5 </a:t>
            </a:r>
            <a:r>
              <a:rPr b="1" lang="zh-TW" sz="3200" spc="-1" strike="noStrike">
                <a:solidFill>
                  <a:srgbClr val="ffff00"/>
                </a:solidFill>
                <a:latin typeface="黑体"/>
                <a:ea typeface="黑体"/>
              </a:rPr>
              <a:t>的策略有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产生异端的危机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黑体"/>
                <a:ea typeface="黑体"/>
              </a:rPr>
              <a:t>⊕</a:t>
            </a:r>
            <a:r>
              <a:rPr b="1" lang="zh-TW" sz="3200" spc="-1" strike="noStrike">
                <a:solidFill>
                  <a:srgbClr val="ffff00"/>
                </a:solidFill>
                <a:latin typeface="黑体"/>
                <a:ea typeface="黑体"/>
              </a:rPr>
              <a:t>你能重新定位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C5</a:t>
            </a:r>
            <a:r>
              <a:rPr b="1" lang="zh-TW" sz="3200" spc="-1" strike="noStrike">
                <a:solidFill>
                  <a:srgbClr val="ffff00"/>
                </a:solidFill>
                <a:latin typeface="黑体"/>
                <a:ea typeface="黑体"/>
              </a:rPr>
              <a:t>的方法，而不让它产生异端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当或不当做的本土化的尝试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11887200" cy="452592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ff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A- </a:t>
            </a:r>
            <a:r>
              <a:rPr b="0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要或不要去回教堂祷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B- </a:t>
            </a:r>
            <a:r>
              <a:rPr b="0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要或不要称赞穆罕默德为先知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C- </a:t>
            </a:r>
            <a:r>
              <a:rPr b="0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耶稣是不是穆斯林，要不要称自己穆斯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D-</a:t>
            </a:r>
            <a:r>
              <a:rPr b="0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要或不要隐藏自己的基督徒身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E-</a:t>
            </a:r>
            <a:r>
              <a:rPr b="0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要或不要认同於古兰经及圣言录的权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F- </a:t>
            </a:r>
            <a:r>
              <a:rPr b="0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要或不要以伊斯兰宗教用词取代圣经用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G–C5</a:t>
            </a:r>
            <a:r>
              <a:rPr b="0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当或不当和 </a:t>
            </a:r>
            <a:r>
              <a:rPr b="0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C1-C3</a:t>
            </a:r>
            <a:r>
              <a:rPr b="0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的基督徒来往</a:t>
            </a:r>
            <a:r>
              <a:rPr b="0" lang="zh-CN" sz="28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0" y="0"/>
            <a:ext cx="12192120" cy="43995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值得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深入思考的</a:t>
            </a:r>
            <a:r>
              <a:rPr b="1" lang="zh-TW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本土化宣教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重点与讨论</a:t>
            </a:r>
            <a:r>
              <a:rPr b="1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!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叫一名信靠耶稣基督的穆斯林，去宣告自己是「伊斯兰信仰中，尔撒的跟从者」；是带领人接</a:t>
            </a:r>
            <a:r>
              <a:rPr b="1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受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一个错误的耶稣基督。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对或者不对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叫</a:t>
            </a:r>
            <a:r>
              <a:rPr b="1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归信者，承认自己</a:t>
            </a:r>
            <a:r>
              <a:rPr b="1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是跟从尔撒的穆斯林而不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是基督徒，是在叫人不要在人前承认耶稣。 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对或者不对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叫</a:t>
            </a:r>
            <a:r>
              <a:rPr b="1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归信者，不要离开伊斯兰的世界（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ummah)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是在叫人不要进入神的国度，以便继续生活在伊斯兰国度的魔掌之下。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对或者不对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叫</a:t>
            </a:r>
            <a:r>
              <a:rPr b="1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归信者，不要加入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C1-C3</a:t>
            </a:r>
            <a:r>
              <a:rPr b="1" lang="zh-TW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基督教会，是在禁止信徒接受更少功用的培养与身体的合一。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对或者不</a:t>
            </a:r>
            <a:r>
              <a:rPr b="1" lang="zh-TW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穆斯林的尔撒‘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宋体"/>
              </a:rPr>
              <a:t>Isa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（耶稣）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伊斯兰信仰中的尔撒（耶稣）有两个来源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古兰经提及他的一些历史与生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圣言录的收集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宋体"/>
              </a:rPr>
              <a:t>有提及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---- 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PMingLiU"/>
              </a:rPr>
              <a:t>有些内容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将尔撒的再来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摆在伊斯兰未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宋体"/>
              </a:rPr>
              <a:t>日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展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28600" y="0"/>
            <a:ext cx="11963520" cy="3080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圣经中的耶稣，才是真正见证上帝所启示的救主耶稣。把基督教的耶稣，加以伊斯兰化，不论它的动机看来多么好，它</a:t>
            </a:r>
            <a:r>
              <a:rPr b="1" lang="zh-TW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是具有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传讲异端</a:t>
            </a:r>
            <a:r>
              <a:rPr b="1" lang="zh-TW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的危机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；</a:t>
            </a:r>
            <a:r>
              <a:rPr b="1" lang="zh-TW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不留心会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传另一位耶稣，传另一种的福音（加一章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加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:8-9   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但无论是我们，是天上来的使者，若传福音给你们，与我们所传给你们的不同，他就应当被咒诅。我们已经说了，现在又说，若有人传福音给你们，与你们所领受的不同，他就应当被咒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加 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5:11-12   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弟兄们，我若仍旧传割礼，为什麽还受逼迫呢？若是这样，那十字架讨厌的地方就没有了。恨不得那搅乱你们的人把自己割绝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加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6:14-15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但我断不以别的夸口，只夸我们主耶稣基督的十字架；因这十字架，就我而论，世界已经钉在十字架上；就世界而论，我已经钉在十字架上。受割礼不受割礼都无关紧要，要紧的就是作新造的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76320" y="0"/>
            <a:ext cx="1211580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伊斯兰宣教危机或良策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伊斯兰本土化的宣教尝试中；鼓励信主的前回教徒不要脱离回教，否认自己为基督徒，宣称自己是古兰经中「尔撒的跟从者」；继续生活在伊斯兰群体中；</a:t>
            </a:r>
            <a:r>
              <a:rPr b="1" lang="en-US" sz="3200" spc="-1" strike="noStrike">
                <a:solidFill>
                  <a:srgbClr val="f8f8f8"/>
                </a:solidFill>
                <a:latin typeface="黑体"/>
                <a:ea typeface="黑体"/>
              </a:rPr>
              <a:t>.....</a:t>
            </a:r>
            <a:r>
              <a:rPr b="1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若门徒训练的教导工作，做的不理想。这</a:t>
            </a:r>
            <a:r>
              <a:rPr b="1" lang="zh-TW" sz="3200" spc="-1" strike="noStrike">
                <a:solidFill>
                  <a:srgbClr val="f8f8f8"/>
                </a:solidFill>
                <a:latin typeface="黑体"/>
                <a:ea typeface="黑体"/>
              </a:rPr>
              <a:t>是否</a:t>
            </a:r>
            <a:r>
              <a:rPr b="1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会</a:t>
            </a:r>
            <a:r>
              <a:rPr b="1" lang="zh-TW" sz="3200" spc="-1" strike="noStrike">
                <a:solidFill>
                  <a:srgbClr val="f8f8f8"/>
                </a:solidFill>
                <a:latin typeface="黑体"/>
                <a:ea typeface="黑体"/>
              </a:rPr>
              <a:t>成</a:t>
            </a:r>
            <a:r>
              <a:rPr b="1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为</a:t>
            </a:r>
            <a:r>
              <a:rPr b="1" lang="en-US" sz="3200" spc="-1" strike="noStrike">
                <a:solidFill>
                  <a:srgbClr val="f8f8f8"/>
                </a:solidFill>
                <a:latin typeface="黑体"/>
                <a:ea typeface="黑体"/>
              </a:rPr>
              <a:t>21</a:t>
            </a:r>
            <a:r>
              <a:rPr b="1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世纪，基督教向伊斯兰宣教中最大的试探与危机呢 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C4-C5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所需考虑的重点有：                                  </a:t>
            </a:r>
            <a:r>
              <a:rPr b="1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是否传讲纯正的福音，</a:t>
            </a:r>
            <a:r>
              <a:rPr b="1" lang="zh-TW" sz="3200" spc="-1" strike="noStrike">
                <a:solidFill>
                  <a:srgbClr val="f8f8f8"/>
                </a:solidFill>
                <a:latin typeface="黑体"/>
                <a:ea typeface="黑体"/>
              </a:rPr>
              <a:t>神的儿子，十字架，死里复活，主与救主；道成肉身，重生，</a:t>
            </a:r>
            <a:r>
              <a:rPr b="1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救恩论，三一论，基督，圣灵论，圣经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C5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本土化宣教策略，</a:t>
            </a:r>
            <a:r>
              <a:rPr b="1" lang="zh-TW" sz="3200" spc="-1" strike="noStrike">
                <a:solidFill>
                  <a:srgbClr val="ffff00"/>
                </a:solidFill>
                <a:latin typeface="黑体"/>
                <a:ea typeface="黑体"/>
              </a:rPr>
              <a:t>还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有待多年的评估；察验它</a:t>
            </a:r>
            <a:r>
              <a:rPr b="1" lang="zh-TW" sz="3200" spc="-1" strike="noStrike">
                <a:solidFill>
                  <a:srgbClr val="ffff00"/>
                </a:solidFill>
                <a:latin typeface="黑体"/>
                <a:ea typeface="黑体"/>
              </a:rPr>
              <a:t>的果子与过程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是否合神心意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经典楷体简"/>
              </a:rPr>
              <a:t>人造钻石与天然钻石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12039480" cy="4496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cc"/>
            </a:outerShdw>
          </a:effectLst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伊斯兰的「尔撒」；是穆罕默德听信「亚流主义」的信仰後，制造出来的人造钻石；被撒旦用来迷惑世人，以取代无价之宝「耶稣基督」；同时想藉此盗取基督教的一切。本土化宣教人士，在使用「古兰经的尔撒」，作为对话与本土化宣教的挢梁时，必须十分小心使用。以免对穆斯林宣讲另一个耶稣，另一个福音，另一个国度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当一个伊斯兰教徒，遇见上帝的儿子耶稣基督，在他里面所有的文化，自然会在光中见光。他们在寻求圣灵的光照与真理的引导下，自会分辨当放下什么，穿上什么。多让神的灵引导，少让外来宣教士告诉他们要如何定位文化。宣教士必须确保传了纯正福音与耶稣基督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960" y="1295280"/>
            <a:ext cx="1196316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拿撒勒人耶稣基督，被钉并死於十字架的历史证据</a:t>
            </a:r>
            <a:br>
              <a:rPr sz="36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回应古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:157-158</a:t>
            </a:r>
            <a:br>
              <a:rPr sz="3600"/>
            </a:b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又因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他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们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說：「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们确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已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杀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死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麦尔彦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之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麦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西哈</a:t>
            </a:r>
            <a:r>
              <a:rPr b="1" lang="en-US" sz="3200" spc="-1" strike="noStrike">
                <a:solidFill>
                  <a:srgbClr val="ffffff"/>
                </a:solidFill>
                <a:latin typeface="新宋体"/>
                <a:ea typeface="黑体"/>
              </a:rPr>
              <a:t>‧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尔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撒，真主的使者。」他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们没有杀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死他，也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没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有把他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钉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死在十字架上，但他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们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不明白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这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件事的真相。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尔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撒而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争论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的人，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於他的被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被杀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确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是在迷惑之中。他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们对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这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件事，毫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无认识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，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过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根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据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猜想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罢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了。他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们没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能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确实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地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杀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死他。不然，真主已把他擢升到自己那裡。真主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万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能的，是至睿的。信奉天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经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的人，在他未死之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没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有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不信仰他的，在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复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活日他要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证</a:t>
            </a:r>
            <a:r>
              <a:rPr b="1" lang="zh-TW" sz="3200" spc="-1" strike="noStrike">
                <a:solidFill>
                  <a:srgbClr val="ffffff"/>
                </a:solidFill>
                <a:latin typeface="黑体"/>
                <a:ea typeface="黑体"/>
              </a:rPr>
              <a:t>他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们。</a:t>
            </a:r>
            <a:r>
              <a:rPr b="1" lang="zh-TW" sz="4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-360" y="762120"/>
            <a:ext cx="12039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达西都</a:t>
            </a: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Tacitus (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主後 </a:t>
            </a: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55-120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), 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一位与耶稣同一世纪的罗马着名历史学家，写下这样的记录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..</a:t>
            </a:r>
            <a:r>
              <a:rPr b="1" lang="zh-CN" sz="3000" spc="-1" strike="noStrike">
                <a:solidFill>
                  <a:srgbClr val="ffff00"/>
                </a:solidFill>
                <a:latin typeface="黑体"/>
                <a:ea typeface="黑体"/>
              </a:rPr>
              <a:t>基督被犹太地的总督彼拉多加以处死。然而和他相关的错误迷信，被压制一陣子，再次传开来，不止在祸根源头犹太地區，连罗马城也受到影响。 </a:t>
            </a:r>
            <a:r>
              <a:rPr b="1" lang="en-US" sz="3000" spc="-1" strike="noStrike">
                <a:solidFill>
                  <a:srgbClr val="ffff00"/>
                </a:solidFill>
                <a:latin typeface="黑体"/>
                <a:ea typeface="黑体"/>
              </a:rPr>
              <a:t>(Annals 15: 44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修多留</a:t>
            </a: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Suetonius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於主後</a:t>
            </a: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120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年间写到；</a:t>
            </a:r>
            <a:r>
              <a:rPr b="1" lang="en-US" sz="3000" spc="-1" strike="noStrike">
                <a:solidFill>
                  <a:srgbClr val="ffff00"/>
                </a:solidFill>
                <a:latin typeface="新宋体"/>
                <a:ea typeface="黑体"/>
              </a:rPr>
              <a:t>…</a:t>
            </a:r>
            <a:r>
              <a:rPr b="1" lang="zh-CN" sz="3000" spc="-1" strike="noStrike">
                <a:solidFill>
                  <a:srgbClr val="ffff00"/>
                </a:solidFill>
                <a:latin typeface="黑体"/>
                <a:ea typeface="黑体"/>
              </a:rPr>
              <a:t>在革老丢皇帝年间，有些犹太人因着一位叫基督的人的煽动，带来了某些的扰乱</a:t>
            </a:r>
            <a:r>
              <a:rPr b="1" lang="en-US" sz="3000" spc="-1" strike="noStrike">
                <a:solidFill>
                  <a:srgbClr val="ffff00"/>
                </a:solidFill>
                <a:latin typeface="新宋体"/>
                <a:ea typeface="黑体"/>
              </a:rPr>
              <a:t>…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这位基督指的就是耶稣基督，所记的这件「搅乱」很可能指的就是徒</a:t>
            </a: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18:2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，发生於主後约五十年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马拉巴</a:t>
            </a: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Mara Bar-Serapion, 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一位叙利亚作者，於主後七十年，圣殿被毁以後；提及早前有位叫犹太人的王的耶稣被处死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19051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非基督徒对当年耶稣的报导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75960" y="990720"/>
            <a:ext cx="12039480" cy="449568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达卢士</a:t>
            </a: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Thallus, 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一位民间历史学家，约於主後</a:t>
            </a: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52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年间，记载了耶稣受死时，有巨大的黑暗临到全地。这一段提及「日蝕与黑暗」的记载已经失落，但他的记载，曾被一位第三世纪的朱利安</a:t>
            </a: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Julius Africanus 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所引述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巴比伦的犹太「他尔木</a:t>
            </a: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Talmud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」， 把逾越节前夕，耶稣被钉十字架，称为「挂在木头上</a:t>
            </a:r>
            <a:r>
              <a:rPr b="1" lang="zh-TW" sz="3000" spc="-1" strike="noStrike">
                <a:solidFill>
                  <a:srgbClr val="ffffff"/>
                </a:solidFill>
                <a:latin typeface="黑体"/>
                <a:ea typeface="黑体"/>
              </a:rPr>
              <a:t>的人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」。耶稣也被称为玛利亚不合法的儿子。</a:t>
            </a: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犹太着名历史学家约沙法</a:t>
            </a: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Josephus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，於主後</a:t>
            </a: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94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年间记载，耶稣被犹太总督彼拉多处於钉十字架。约沙法也提到耶稣的兄弟雅各，也同样在大祭司亚拿期间被处以死刑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非基督徒对当年耶稣的报导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12192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保罗写给教会的书信，约写成於耶稣死里复活後，约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20-30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年间。这不但是个历史的回顾的记录，同时他所记载的，说明这已是当时信徒们坚信的信仰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保罗是在耶稣基督钉十字架，几年以後因看见耶稣以极大的荣光向他显现後，从一位逼迫基督教者，变成为见证基督的人。在写给哥林多教会的书信中，如此说到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Microsoft JhengHei"/>
                <a:ea typeface="Microsoft JhengHei"/>
              </a:rPr>
              <a:t>    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林前 </a:t>
            </a:r>
            <a:r>
              <a:rPr b="1" lang="en-US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15:3-5   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我当日所领受又传给你们的：第一，就是基督照圣经所说，为我们的罪死了，而且埋葬了；又照圣经所说，第三天复活了，并且显给矶法看，然後显给十二使徒看</a:t>
            </a:r>
            <a:r>
              <a:rPr b="1" lang="en-US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最後又题给我看</a:t>
            </a:r>
            <a:r>
              <a:rPr b="1" lang="en-US" sz="3000" spc="-1" strike="noStrike">
                <a:solidFill>
                  <a:srgbClr val="99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非常清楚说明；相信耶稣受死，复活，一开始就是基督教最核心的信仰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使徒保罗的书信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0720" y="2286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四福音书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12039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四福音书，相继於主耶稣死里复活以後，主耶稣升天以後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20-50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年间写成。他们都是在场见过耶稣，跟从过耶稣之人所写下的见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福音书所描述的事件，是他们亲自目睹，详细查证下，所写下的记录。耶稣当年传道时，总是在跟从他的群众面前传讲。因此，有许多当年的目睹者，认识他的生平事故。他的受死也是件公开的事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圣经流传下来的古抄本的证据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-36720" y="990720"/>
            <a:ext cx="12115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希腊圣经抄本所留下来的证据最丰富，超过二万份。虽然，一些手抄者会犯下小小的抄写毛病，经过经文批判学严格的鉴定，已知道这不过是非常无关重要的小误差，见证了今天流传至手中的圣经，与二千年前的圣经是完整无误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当死海古卷於二十世纪被发掘出来时，这些古卷是在耶稣未降临期前，就保存下来的希伯来文旧约圣经。拿它与一千年以後的马索拉</a:t>
            </a:r>
            <a:r>
              <a:rPr b="1" lang="en-US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Masoretic manuscripts</a:t>
            </a: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犹太旧约圣经抄本档对照，证明了抄写的专业与流传至今旧约圣经的无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圣经经过千百年的反复抄写，是否会出现巨大的变故，这已经得到了最权威的回答：从二十世纪的考古学，及所发掘出来的古代新旧约圣经的鉴定与核对後，证实了现今流传在我们手中的圣经，是无误与正确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结论：圣经所见证耶稣的事迹，符合历史事实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12115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新宋体"/>
                <a:ea typeface="黑体"/>
              </a:rPr>
              <a:t>虽然，圣经所见证的耶稣，其一生充满神迹，例如由童女所生，行神迹，受死复活，升天等事，若不加以引证说明有关启示，非基督徒会感到难以明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新宋体"/>
                <a:ea typeface="黑体"/>
              </a:rPr>
              <a:t>然而，一个驳不倒的事实，耶稣基督确实是一个历史中的人物；其道德与能力，吸引了许多门徒的跟随，最後尤如他所说的：要作多人的赎价，被当年罗马的总督下令处死，以後他的福音被跟随者快速的传开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新宋体"/>
                <a:ea typeface="黑体"/>
              </a:rPr>
              <a:t>当代的世俗圈子与基督教的圈子，两者都见证，宣称耶稣曾被处死於十字架上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51920" y="838080"/>
            <a:ext cx="11734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新宋体"/>
                <a:ea typeface="新宋体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新宋体"/>
                <a:ea typeface="新宋体"/>
              </a:rPr>
              <a:t>尔撒</a:t>
            </a:r>
            <a:r>
              <a:rPr b="1" lang="en-US" sz="3200" spc="-1" strike="noStrike">
                <a:solidFill>
                  <a:srgbClr val="ff0000"/>
                </a:solidFill>
                <a:latin typeface="新宋体"/>
                <a:ea typeface="新宋体"/>
              </a:rPr>
              <a:t>Isa,</a:t>
            </a:r>
            <a:r>
              <a:rPr b="1" lang="zh-CN" sz="3200" spc="-1" strike="noStrike">
                <a:solidFill>
                  <a:srgbClr val="ff0000"/>
                </a:solidFill>
                <a:latin typeface="新宋体"/>
                <a:ea typeface="新宋体"/>
              </a:rPr>
              <a:t>他是个伊斯兰的先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耶稣在古兰经中的名称叫尔撒 </a:t>
            </a:r>
            <a:r>
              <a:rPr b="1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Is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他的信息是纯正的伊斯兰，要求人要顺服安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古</a:t>
            </a:r>
            <a:r>
              <a:rPr b="1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3:84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你说：「我们确信真主，确信我们所受的启示，与易卜拉欣、易司马仪、易司哈格、叶尔孤白和各支派所受的启示，与穆萨、尔撒和众先知所受赐于他们的主的经典，我们对于他们中的任何人，都不加以歧视，我们只归顺他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新宋体"/>
                <a:ea typeface="新宋体"/>
              </a:rPr>
              <a:t>穆斯林的尔撒‘</a:t>
            </a:r>
            <a:r>
              <a:rPr b="1" lang="en-US" sz="3200" spc="-1" strike="noStrike">
                <a:solidFill>
                  <a:srgbClr val="ffff00"/>
                </a:solidFill>
                <a:latin typeface="新宋体"/>
                <a:ea typeface="新宋体"/>
              </a:rPr>
              <a:t>Isa</a:t>
            </a:r>
            <a:r>
              <a:rPr b="1" lang="zh-CN" sz="3200" spc="-1" strike="noStrike">
                <a:solidFill>
                  <a:srgbClr val="ffff00"/>
                </a:solidFill>
                <a:latin typeface="新宋体"/>
                <a:ea typeface="新宋体"/>
              </a:rPr>
              <a:t>在古兰经中的地位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52280" y="837720"/>
            <a:ext cx="11887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新宋体"/>
                <a:ea typeface="黑体"/>
              </a:rPr>
              <a:t>现今有关耶稣一生事迹，那最原初，最权威的记录，就是当年记录他身平的福音书。这些记录相继写於耶稣的年代，是由见过他，跟从过他，受教於他的门徒所写。所有有关耶稣的事迹，尤其是他的受死与复活，胜过掌死权的罪，有关他神性等信息，一开始就成为信徒们的信仰。从第一世纪，流传至今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新宋体"/>
                <a:ea typeface="黑体"/>
              </a:rPr>
              <a:t>我们的结论是；任何有关第七世纪，由伊斯兰所宣讲的尔撒（耶稣），必须放在历史中，曾为耶稣见证的证据下进行考证。而不是反倒过来，要人去接受没有历史证据支持的穆斯林「尔撒」的教义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152388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结论：圣经所见证的耶稣事迹，符合历史事实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196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一些有价值的讨论，而以从以下的讨论中找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11430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:</a:t>
            </a:r>
            <a:r>
              <a:rPr b="0" lang="en-US" sz="32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1"/>
              </a:rPr>
              <a:t>http://www.debate.org.uk/topics/theo/islam_christ.html</a:t>
            </a:r>
            <a:br>
              <a:rPr sz="3200"/>
            </a:br>
            <a:r>
              <a:rPr b="0" lang="en-US" sz="32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2"/>
              </a:rPr>
              <a:t>http://www.debate.org.uk/topics/theo/qur-jes.htm</a:t>
            </a:r>
            <a:br>
              <a:rPr sz="3200"/>
            </a:br>
            <a:r>
              <a:rPr b="0" lang="en-US" sz="32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3"/>
              </a:rPr>
              <a:t>http://www.answering-islam.org/Intro/replacing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0" y="0"/>
            <a:ext cx="12115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‘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尔撒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Isa’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最初的门徒也是穆斯林；因为他们说：我们相信，并且为我们所降服的真道作见证，我们是归顺的人（穆斯林）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3:52-53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当尔撒确知众人不信道的时候，他说：「谁为真主而协助我？」众门徒说：「我们为真主而协助你，我们已确信真主，求你作证我们是归顺者。我们的主啊！我们已确信你所降示的经典，我们已顺从使者，求你使我们加入作证者的行列，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5:111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当时，我</a:t>
            </a:r>
            <a:r>
              <a:rPr b="1" lang="en-US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上帝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）启示众门徒说：「你们当信仰我和我的使者。」他们说：「我们已信仰了，求你作证我们是归顺的人。</a:t>
            </a:r>
            <a:r>
              <a:rPr b="1" lang="zh-CN" sz="3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」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01:36:59Z</dcterms:created>
  <dc:creator>Ahmed Mohamed</dc:creator>
  <dc:description/>
  <dc:language>en-US</dc:language>
  <cp:lastModifiedBy>chan HK</cp:lastModifiedBy>
  <dcterms:modified xsi:type="dcterms:W3CDTF">2024-12-17T09:43:11Z</dcterms:modified>
  <cp:revision>194</cp:revision>
  <dc:subject/>
  <dc:title>‘Isa, the Muslim Jesus by Dr Mark Durie  answering-islam.org </dc:title>
</cp:coreProperties>
</file>