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CASHREG.WAV" ContentType="audio/x-wav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11893-3331-499C-BD15-2BF43420C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42466-FE5E-4236-9CED-7FFFBB241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2DCA9-33B0-45EB-BAF5-CEE810CD8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746FC-0B34-4C0D-BE1B-50BD68A9D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Microsoft JhengHei"/>
              <a:ea typeface="Microsoft JhengHe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DBC4B-C84F-4A13-97AC-3B4ECAF7C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98C-9DCB-4E22-B9BE-F4B9A1B4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3CF-F8E8-4EC5-8704-AAA572E9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B64-10D9-4A47-9568-5B172674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757-11D7-4F9A-83FD-79F08411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3E3A-A078-4E34-808C-96081E64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EA6B-4058-4A27-B709-F3000E0F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6E18-22DD-49B4-9305-94A0F2AE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8A1B-932D-4C94-AB2C-954CA7F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33F9-D1AF-409B-B8A2-4C09DA65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E3C8-B7F5-4425-B804-D7DADE1C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E9E9-DC57-4ECA-9A52-57194145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4C0-8E00-4BB4-ABD2-44CE4543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81AF-82AF-472F-9522-504595FC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6785-CF15-4934-A2E4-3A3214C7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B9FC-2312-4083-BF43-47416B02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7438-F25D-454B-B6D8-AA2EB553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9165-D27C-47C1-A5A4-28260E2E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17F2-99CE-41EC-B5ED-DB9E7FAD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A1395-5B89-40B1-99D3-D64A5219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5F6EB-029A-4686-9081-33131310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4811-08E0-4E68-A0B8-390B30E8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C130-E05B-4DCF-87D8-071C58AE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5A7-7A50-4C68-9DF9-9A5AB37B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9D52-4EDD-47E1-9D3B-446A9F61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3DBF0-8953-4546-A7DF-5B26DA23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CF813-6735-479B-8B09-5129C2F0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4CFB-2361-4BF6-AABB-69D32599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7DC6-E4DE-42D9-B62C-779F3505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68B4A-ED5C-4A9E-ACFB-0B032770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9B45-69A2-4E0C-A0E4-A9F726F0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5EA92-AC6D-41A6-82BD-702CC286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506EA-59E9-44C0-A555-C79F94A0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527E0-DC74-47AB-9881-9684A860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511-D5F0-4B2B-B082-18DA527D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EAFEE-56BF-457B-B9A9-7FCE49A0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05C53-41C1-4ED7-808C-ED689881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E2D24-C834-4656-A92F-373375CE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5D978-42C2-43FE-9C28-F4AB0A85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3C245-EAD3-430A-B9C1-4C4351FB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AAC1B-39BF-4351-A0F7-892C5277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712A9-9A8F-4BD4-8BCC-E8BC8C68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EE4B1-7691-49D6-9204-2CDABF3B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D4A81-558B-49F1-B91E-B62A7F71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C8A26-E02D-4D07-A09A-F3614773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1A1-531A-4644-B496-64DCB0E7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4BD5C-4617-4A17-8FFD-E62D73AB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3CA35-5387-425A-BFEE-B3F37869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E5542-E2E2-47B9-8384-95B3E71E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B05B6-4339-40DA-97F2-CA3719F2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7CD5F-A67C-453D-BC6F-B657ABC3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35E4-416A-4010-953A-5C862A0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90BFF-3246-40C8-B71E-49CA5EC5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D86F9-1BD3-4C38-8023-89B6C880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7FDB6-1281-4F96-969C-7DE69E88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CE989-339D-422F-B8EB-BEFE00F7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587-69B5-4A4F-8128-8AB9B929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2839-4E86-4C44-B9DD-9B65CA29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6D4-93BB-4F10-864B-AE5927E8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AE8-C77B-46C6-8C5E-85C96EC8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9CC-C893-4457-91C6-D205536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237960" y="237960"/>
            <a:ext cx="11721960" cy="6382080"/>
            <a:chOff x="237960" y="237960"/>
            <a:chExt cx="11721960" cy="638208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19440" cy="63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entury Gothic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469520" y="6306840"/>
            <a:ext cx="1463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560FE-C227-471D-9F52-62DB75098D2A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8"/>
          <p:cNvGrpSpPr/>
          <p:nvPr/>
        </p:nvGrpSpPr>
        <p:grpSpPr>
          <a:xfrm>
            <a:off x="1255680" y="1212840"/>
            <a:ext cx="9680760" cy="4419720"/>
            <a:chOff x="1255680" y="1212840"/>
            <a:chExt cx="9680760" cy="441972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1255680" y="1212840"/>
              <a:ext cx="96807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53" name="Straight Connector 12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3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4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317920" y="1341360"/>
            <a:ext cx="15555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454040" y="5211360"/>
            <a:ext cx="5905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entury Gothic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07600" y="5211360"/>
            <a:ext cx="211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8E30D-58A0-4D3C-9511-A5A61B1D03E6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7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98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8"/>
          <p:cNvGrpSpPr/>
          <p:nvPr/>
        </p:nvGrpSpPr>
        <p:grpSpPr>
          <a:xfrm>
            <a:off x="1255680" y="1212840"/>
            <a:ext cx="9680760" cy="4419720"/>
            <a:chOff x="1255680" y="1212840"/>
            <a:chExt cx="9680760" cy="4419720"/>
          </a:xfrm>
        </p:grpSpPr>
        <p:pic>
          <p:nvPicPr>
            <p:cNvPr id="101" name="Rectangle 8" descr=""/>
            <p:cNvPicPr/>
            <p:nvPr/>
          </p:nvPicPr>
          <p:blipFill>
            <a:blip r:embed="rId3"/>
            <a:stretch/>
          </p:blipFill>
          <p:spPr>
            <a:xfrm>
              <a:off x="1255680" y="1212840"/>
              <a:ext cx="96807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9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11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106" name="Straight Connector 12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13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14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321160" y="1344240"/>
            <a:ext cx="15559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453680" y="5211360"/>
            <a:ext cx="590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entury Gothic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04000" y="5211360"/>
            <a:ext cx="211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37034-6F0C-427E-A008-AA95F6A40224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246240" y="237960"/>
            <a:ext cx="8530920" cy="63820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entury Gothic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393200" y="6222600"/>
            <a:ext cx="1463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FE4C9-E5E8-49F5-8E0B-84D40C0395A3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10396440" y="6227280"/>
            <a:ext cx="146376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5763D-49BD-4BDF-B26E-CCC06BE8B98B}" type="slidenum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933FC-93F8-45A4-9475-989E2ADD9797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34800" y="620640"/>
            <a:ext cx="1152216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普世宣教概论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普世概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地理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联合国所定：世界分为六大洋洲；亚洲，非洲，中东阿拉伯，南，北美洲；欧洲；苏联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地球总面积为一亿三千五百四十八万八千二百平方公里。没有包括北冰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大约分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3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国家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DC525-E8A7-418C-9C2A-933B57D8AB1B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79520" y="333360"/>
          <a:ext cx="11453760" cy="5970600"/>
        </p:xfrm>
        <a:graphic>
          <a:graphicData uri="http://schemas.openxmlformats.org/drawingml/2006/table">
            <a:tbl>
              <a:tblPr/>
              <a:tblGrid>
                <a:gridCol w="1571400"/>
                <a:gridCol w="1381320"/>
                <a:gridCol w="2303280"/>
                <a:gridCol w="1729080"/>
                <a:gridCol w="2492280"/>
                <a:gridCol w="1976400"/>
              </a:tblGrid>
              <a:tr h="1009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全球更正教，独立教派，圣公会，宣教士差派国家总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洲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差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本国与国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差住外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从事跨文化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教会与宣教士比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非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 4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亚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,2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6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8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0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拉丁美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1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北美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0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太平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4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全球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,5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,92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97,7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71.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11.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69"/>
          <p:cNvSpPr/>
          <p:nvPr/>
        </p:nvSpPr>
        <p:spPr>
          <a:xfrm>
            <a:off x="1992240" y="5661000"/>
            <a:ext cx="972036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07A5C-29FA-43FD-B1CC-E0491C00A040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230040" y="276120"/>
            <a:ext cx="11674800" cy="506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各国福音派本国传道人总数：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4,271        ⊕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各国福音派差出宣教士总人数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：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97,732       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各国福音派传道人与宣教士总数：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201,928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4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传道人</a:t>
            </a:r>
            <a:r>
              <a:rPr b="1" lang="en-US" sz="34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, </a:t>
            </a:r>
            <a:r>
              <a:rPr b="1" lang="zh-CN" sz="34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宣教士对世界人口比率 </a:t>
            </a:r>
            <a:r>
              <a:rPr b="1" lang="en-US" sz="34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1:30032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4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平均</a:t>
            </a:r>
            <a:r>
              <a:rPr b="1" lang="en-US" sz="34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12</a:t>
            </a:r>
            <a:r>
              <a:rPr b="1" lang="zh-CN" sz="34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间教会，才差出一名宣教士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若</a:t>
            </a:r>
            <a:r>
              <a:rPr b="1" lang="en-US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百名信徒产生一名全职工人；</a:t>
            </a:r>
            <a:r>
              <a:rPr b="1" lang="en-US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0</a:t>
            </a:r>
            <a:r>
              <a:rPr b="1" lang="zh-CN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亿基督徒，可产生</a:t>
            </a:r>
            <a:r>
              <a:rPr b="1" lang="en-US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5</a:t>
            </a:r>
            <a:r>
              <a:rPr b="1" lang="zh-TW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百萬</a:t>
            </a:r>
            <a:r>
              <a:rPr b="1" lang="zh-CN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传道人</a:t>
            </a:r>
            <a:r>
              <a:rPr b="1" lang="en-US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宣教士。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少了</a:t>
            </a:r>
            <a:r>
              <a:rPr b="1" lang="zh-TW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</a:t>
            </a:r>
            <a:r>
              <a:rPr b="1" lang="zh-CN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三十万</a:t>
            </a:r>
            <a:r>
              <a:rPr b="1" lang="en-US" sz="3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!!!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目前是</a:t>
            </a:r>
            <a:r>
              <a:rPr b="1" lang="en-US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5000</a:t>
            </a:r>
            <a:r>
              <a:rPr b="1" lang="zh-CN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信徒才产生一个全职</a:t>
            </a:r>
            <a:r>
              <a:rPr b="1" lang="en-US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!!!                          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距离圣经的要求 </a:t>
            </a:r>
            <a:r>
              <a:rPr b="1" lang="en-US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10:1</a:t>
            </a:r>
            <a:r>
              <a:rPr b="1" lang="zh-CN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何等遥远</a:t>
            </a:r>
            <a:r>
              <a:rPr b="1" lang="en-US" sz="34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!!!!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4A0E6-01F5-42FF-BCEF-05F8279EC825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92240" y="307800"/>
            <a:ext cx="11741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值得留意的数据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与人口增长率比较；东亚教与和天主教正在衰退中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更正教与圣公会则缓慢增长（在非西方地区有增长）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边缘教派耶和华见证，摩门教，有显着增长，从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一百万增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千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万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独立教会中的福音与灵恩派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增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四亿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F3914-8E24-4945-9813-3E8C03B9E25E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71520" y="298440"/>
            <a:ext cx="1170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非洲，亚洲，拉丁美洲的增长，与北美和大洋洲的停滞，欧洲的的衰退形成对比。基督教人数在世界人口的比率中微降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50800" y="1700280"/>
          <a:ext cx="11017440" cy="4724280"/>
        </p:xfrm>
        <a:graphic>
          <a:graphicData uri="http://schemas.openxmlformats.org/drawingml/2006/table">
            <a:tbl>
              <a:tblPr/>
              <a:tblGrid>
                <a:gridCol w="2203560"/>
                <a:gridCol w="2203560"/>
                <a:gridCol w="2203200"/>
                <a:gridCol w="2203560"/>
                <a:gridCol w="2203560"/>
              </a:tblGrid>
              <a:tr h="581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经典楷体简"/>
                        </a:rPr>
                        <a:t>各大教派占世界人口的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教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190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196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200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201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福音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6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独立教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圣公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天主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18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15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1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东正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7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3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异端教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34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34.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32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32.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DF7EF-42C6-44E6-8DD3-DA75C5F7A4B6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04640" y="276120"/>
            <a:ext cx="11382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中隐含基督徒重心，向非西方世界有巨大移动。每教派在非洲，亚洲，拉丁美洲都有巨增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6800" y="1397160"/>
          <a:ext cx="9901080" cy="4724280"/>
        </p:xfrm>
        <a:graphic>
          <a:graphicData uri="http://schemas.openxmlformats.org/drawingml/2006/table">
            <a:tbl>
              <a:tblPr/>
              <a:tblGrid>
                <a:gridCol w="2476440"/>
                <a:gridCol w="2475000"/>
                <a:gridCol w="2475000"/>
                <a:gridCol w="2474640"/>
              </a:tblGrid>
              <a:tr h="581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经典楷体简"/>
                        </a:rPr>
                        <a:t>非洲，亚洲，拉丁美洲信徒占世界基督徒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190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196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200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福音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5.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19.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57.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独立教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2.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3.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7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圣公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3.9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9.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4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天主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26.9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40.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65.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东正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9.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13.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2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异端教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6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2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58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16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3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经典楷体简"/>
                        </a:rPr>
                        <a:t>5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4A38C-C571-4F3A-8810-2619B55B04F0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92240" y="404640"/>
            <a:ext cx="11741040" cy="31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. 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福音派自</a:t>
            </a: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996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年代起扩展：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6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只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,45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8%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但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达到   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9%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此增长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9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达到顶峰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6%)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六十年代的宣教事工澎湃，成绩斐然；随後的增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多来自新一代本土化宣教的运动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五旬节的传播更加快速：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五旬节最显着的增长，也是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6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代起；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,1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人，增加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,600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。平均年增长率为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%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35927-FC26-462C-92DF-F2785AA4D9AE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479520" y="320760"/>
            <a:ext cx="113774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灵恩运动影响遍及每个宗派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第一波发生在五旬节的宗派里；第二波则进入主流宗派和新兴的独立教派里，使到福音增长有明显的推动力。最低的数字计算，可以显示这运动的规模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9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,1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9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,1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亿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,5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某些受逼迫的的地区，教会有明显的增长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埃赛俄比亚，稣丹，中国，韩国，印度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B88E4-E167-44C2-A99C-65B8961F115D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34800" y="309600"/>
            <a:ext cx="11598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Microsoft JhengHei"/>
              <a:buAutoNum type="arabicPeriod" startAt="6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980-2020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年，人类意识形态，理念破产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共产主义与无神论的破产；导至人心空虚，更多的灵魂归向上帝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圣战信仰的破坏：                                                                       伊斯兰显然在许多地方取得政权，其恐怖主义对世界继续造成的破坏，这将会使穆斯林渐渐的失去信心。过去十年，是有史以来，看见许多穆斯林归向基督的年日。相信福音的门正渐渐打开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49BBD-99E6-4961-AAEB-5F71EF77F184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285840" y="196920"/>
            <a:ext cx="117410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7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全球化的普世宣教运动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8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开始，新兴的教会，对宣教感兴趣而开始投入宣教行列。美国仍然是差派最多宣教士的国家，韩国已取代英国，位居第二。拉丁美洲，东南亚，印度与中国等地教会，则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9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开始，差遣宣教士在本国服待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/4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窗的焦点，未得之民宣教等强调，使最被忽略的地区，受到前所未有的关注，祷告，新的策略厘定，工人的招募明显增加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福音广播联盟，决定使地球上每个地区，以人类约五百种主要的语言，每星期广播一次，频率所到之处，已达世界人口居住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8%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775C7-40E7-43C7-BC93-0DBC6C5107D3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258840" y="306360"/>
            <a:ext cx="116744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传这部影片，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已达到为每种有五万名人类所使用的语言，将其语言对白翻译在影片中。超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5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世界人口，可使用他们所理解的语言，观看这部电影。目前估计已有一半的世界人口知道或观看过这部影片。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有待更多教会的复制传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3.7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世界人口，在自己的社会文化中已有教会设立，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8 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世界人口中，可从本地与外侨中得到福音。只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3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世界人口，生活在没有没有教会见证的文化中。因此，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人见证，福音广播，中东海外留学生事工等，是需要加强的事工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悲的是，虽有许多努力，仍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-25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界人口生活在未能真正有机会听到福音。大部份是穆斯林地区，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需要立刻兴起三十万的宣教士才能胜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467F8-75F2-4043-8BA2-5964D99EFF06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58840" y="189000"/>
          <a:ext cx="11598120" cy="6480000"/>
        </p:xfrm>
        <a:graphic>
          <a:graphicData uri="http://schemas.openxmlformats.org/drawingml/2006/table">
            <a:tbl>
              <a:tblPr/>
              <a:tblGrid>
                <a:gridCol w="2900160"/>
                <a:gridCol w="2899080"/>
                <a:gridCol w="2898720"/>
                <a:gridCol w="29001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年增长率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密度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公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5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.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0.9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6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.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.8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2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7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2.0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8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4.4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.8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9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2.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.7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9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.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.3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5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.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.1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2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5.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0.9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25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8.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0.8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8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F2389-4590-4B7C-B1AE-0F2982DAB611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92240" y="274680"/>
            <a:ext cx="11741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针对基督教会的逼迫加剧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球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国家会逼迫宗教信徒，尤其是逼迫基督徒。大约有五亿基督徒生活在这些地区中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伊斯兰国家：约有五十多个伊斯兰国家，奉行回教法统治，强把宗教教义纳入国家纲领，造成对异教徒的逼迫与限制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马克斯主义的专攻：中国，北韩，越南，老挝 ；专政与无神论思想，使他们对基督产生逼迫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印度教极端者：在印度尼泊尔对基督徒逼迫加剧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佛教：在不丹，斯里兰卡，西藏，逼迫教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FC1E0-A80C-4E0F-ABAB-820B4DE89F44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349280" y="29844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001</a:t>
            </a:r>
            <a:r>
              <a:rPr b="0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年统计，对宗教逼迫的</a:t>
            </a:r>
            <a:r>
              <a:rPr b="0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国家排名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523880" y="907920"/>
          <a:ext cx="9144000" cy="51818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1. </a:t>
                      </a:r>
                      <a:r>
                        <a:rPr b="0" lang="zh-CN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沙地阿拉伯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Saudi 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2.</a:t>
                      </a:r>
                      <a:r>
                        <a:rPr b="0" lang="zh-CN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阿富汗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Afghanis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3.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老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La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4.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中国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5.</a:t>
                      </a:r>
                      <a:r>
                        <a:rPr b="0" lang="zh-CN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土库曼斯坦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Turkmenist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6.</a:t>
                      </a:r>
                      <a:r>
                        <a:rPr b="0" lang="zh-CN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伊朗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7.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北韩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Nor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8.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越南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Vietn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9. </a:t>
                      </a:r>
                      <a:r>
                        <a:rPr b="0" lang="zh-CN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马尔代夫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Maldi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Microsoft JhengHei"/>
                          <a:ea typeface="Microsoft JhengHei"/>
                        </a:rPr>
                        <a:t>10. 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Microsoft JhengHei"/>
                          <a:ea typeface="Microsoft JhengHei"/>
                        </a:rPr>
                        <a:t>不丹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Microsoft JhengHei"/>
                          <a:ea typeface="Microsoft JhengHei"/>
                        </a:rPr>
                        <a:t>Bhu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11. </a:t>
                      </a:r>
                      <a:r>
                        <a:rPr b="0" lang="zh-CN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索马里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Som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12. </a:t>
                      </a:r>
                      <a:r>
                        <a:rPr b="0" lang="zh-CN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巴基斯坦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Pakis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13. </a:t>
                      </a:r>
                      <a:r>
                        <a:rPr b="0" lang="zh-CN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也门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14. </a:t>
                      </a: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哥伦比亚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Microsoft JhengHei"/>
                          <a:ea typeface="Microsoft JhengHei"/>
                        </a:rPr>
                        <a:t>colom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Microsoft JhengHei"/>
                          <a:ea typeface="Microsoft JhengHei"/>
                        </a:rPr>
                        <a:t>15.</a:t>
                      </a: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Microsoft JhengHei"/>
                          <a:ea typeface="Microsoft JhengHei"/>
                        </a:rPr>
                        <a:t>尼泊尔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Microsoft JhengHei"/>
                          <a:ea typeface="Microsoft JhengHei"/>
                        </a:rPr>
                        <a:t>Nep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16. </a:t>
                      </a:r>
                      <a:r>
                        <a:rPr b="0" lang="zh-CN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北稣丹 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North Su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17. </a:t>
                      </a:r>
                      <a:r>
                        <a:rPr b="0" lang="zh-CN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科魔罗岛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Comoro Is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18.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古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Cu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19.</a:t>
                      </a:r>
                      <a:r>
                        <a:rPr b="0" lang="zh-CN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乌兹别克斯坦</a:t>
                      </a: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Uzbekist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20. </a:t>
                      </a:r>
                      <a:r>
                        <a:rPr b="0" lang="zh-CN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埃及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Microsoft JhengHei"/>
                          <a:ea typeface="Microsoft JhengHe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D7E0F-F0D5-4654-BC6B-24828C3E1813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99880" y="333360"/>
            <a:ext cx="11592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普世宗教体系与概况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一个国家没有基督徒。约有十二个国家没有福音派基督教会的见证；七个在亚洲，五个在非洲。有十八个国家信徒少於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%, 2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国家信徒少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%.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纪基督徒人数，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9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4.5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减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.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虽然亚洲与拉丁美洲有大量人归主，把数字增加回来。但一百年来的百分比并没有增加，反而减少。欧美年青一代的不敬虔，实在是个危机的一代。挂名基督徒占了基督徒总人数的约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0%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亿的所谓基督徒，对福音的重生与得救，有不明白的地方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666EA-71F4-4804-9DE7-61AD776648F4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64960" y="320760"/>
            <a:ext cx="11673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无神论，世俗主义与唯物主义者，在过去的一百年间，由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增加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.5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印度教以超觉冥想，瑜珈，新世纪思想，克利斯拿等通灵术进入西方。在印度与尼泊尔，印度教徒变得更激烈，常以武力压制其它外来宗教。在这些地区聚居了最多未听见福音的群体。福音只停留在低阶级人当中，高上的阶级还没有接触到福音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佛教是五个国家的国教，另在四个国家中占有大多数的信徒。越过半数的佛教徒，也信奉中国民间宗教，道教，儒教的混合体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9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共产失势後，佛教在东亚和东南亚有一定的复苏。在泰国，缅甸，斯里兰卡，中国，西藏等地，佛教徒归主的速度很慢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EC24C-3D4B-4267-8FA1-CCBB5263E1DD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34800" y="274680"/>
            <a:ext cx="115984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从占世界人口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时，百年间增长到占世界人口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1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大约只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基督教宣教士，在回教地区中工作。过去十年间，教会对伊斯兰宣教有了一些的醒觉。印尼，中亚，尼日利亚，阿尔及利亚，伊朗人，归向主的情况有显着增加。该留意美，加念书的伊斯兰学生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锡克教近期已增加至上亿的宗教；起源於印度东北部，自认为高尚民族，重视教育，家庭联络，同族通婚，排外性强。有许多移民到欧美，东南亚。很少基督徒认识他们或者把福音传给他们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千五百万的犹太人中，少於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人接受以耶稣为弭赛亚的信徒。现居於以色列地的人数，只占总犹太人数的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0%.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近期有犹太人年轻人开始对福音产生兴趣。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万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千什么时候出来？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8011B-2692-4D8F-A6D6-3FE8F519F260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277920" y="404640"/>
            <a:ext cx="1167444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认识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还没属当地人的福音教会设立的国家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亚洲区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伯，阿富汗，也门，马尔代夫，伊朗，土耳其，士库曼斯坦                                                                          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非洲区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西撒哈拉，索马里，摩纳哥，突尼西亚，毛里塔尼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认识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9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少於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.5%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基督徒的国家：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富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西撒哈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也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摩洛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     索马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马尔代夫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毛里塔尼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      突尼斯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伊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阿尔及利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 土耳其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尼日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不丹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5,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孟加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蒙古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科摩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0.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柬埔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乌兹别克斯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3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塔吉克斯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4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7FADD-725F-46EA-8BF1-947BD3359465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766800" y="476280"/>
            <a:ext cx="9144000" cy="716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信心前题</a:t>
            </a:r>
            <a:r>
              <a:rPr b="1" lang="en-US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是最大的未得之民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稣基督是唯一的救法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会忽略已久的事工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帝必会让他们有福音可听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当求庄稼的主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发工人收庄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Microsoft JhengHei"/>
                <a:ea typeface="Microsoft JhengHei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92FA8-453C-4E6E-836F-503195A0F898}" type="slidenum">
              <a:rPr b="1" lang="en-US" sz="1000" spc="-1" strike="noStrike">
                <a:solidFill>
                  <a:srgbClr val="40404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30" name="Object 2"/>
          <p:cNvGraphicFramePr/>
          <p:nvPr/>
        </p:nvGraphicFramePr>
        <p:xfrm>
          <a:off x="3719520" y="476280"/>
          <a:ext cx="489744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9520" y="476280"/>
                    <a:ext cx="489744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Text Box 3"/>
          <p:cNvSpPr/>
          <p:nvPr/>
        </p:nvSpPr>
        <p:spPr>
          <a:xfrm>
            <a:off x="4079880" y="1341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洲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1%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782800" y="170028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欧洲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.7%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2351160" y="299736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非洲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.8%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6600960" y="119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北美洲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%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472600" y="292428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南美洲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%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2927520" y="4941720"/>
            <a:ext cx="56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523880" y="4581360"/>
            <a:ext cx="8893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洲地区是基督教人数较少的地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1%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传道人牧养现有教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急需二百万的宣教士投入未得之民宣教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2928960" y="411120"/>
            <a:ext cx="460836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世界人口分布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Line 11"/>
          <p:cNvSpPr/>
          <p:nvPr/>
        </p:nvSpPr>
        <p:spPr>
          <a:xfrm>
            <a:off x="8183520" y="3284640"/>
            <a:ext cx="504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Line 12"/>
          <p:cNvSpPr/>
          <p:nvPr/>
        </p:nvSpPr>
        <p:spPr>
          <a:xfrm flipV="1">
            <a:off x="7391520" y="162864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Line 13"/>
          <p:cNvSpPr/>
          <p:nvPr/>
        </p:nvSpPr>
        <p:spPr>
          <a:xfrm flipH="1" flipV="1">
            <a:off x="5159520" y="1699920"/>
            <a:ext cx="576000" cy="1152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Line 14"/>
          <p:cNvSpPr/>
          <p:nvPr/>
        </p:nvSpPr>
        <p:spPr>
          <a:xfrm flipH="1">
            <a:off x="3863880" y="2349360"/>
            <a:ext cx="1152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Line 15"/>
          <p:cNvSpPr/>
          <p:nvPr/>
        </p:nvSpPr>
        <p:spPr>
          <a:xfrm flipH="1">
            <a:off x="3574800" y="2852640"/>
            <a:ext cx="86508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10450440" y="6683400"/>
            <a:ext cx="1521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93D7F-6614-4D3D-AFFC-0DB706E32D6D}" type="slidenum">
              <a:rPr b="1" lang="en-US" sz="3200" spc="-1" strike="noStrike">
                <a:solidFill>
                  <a:srgbClr val="40404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565200" y="480960"/>
            <a:ext cx="11376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基督教会以外的人群分布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伊斯兰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              约十八亿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无神论者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            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10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亿五千万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兴都教徒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            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9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亿五千万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华人民间宗教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       四亿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5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千万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佛教徒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                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5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亿千万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精灵敬拜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               二亿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5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千万万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Microsoft JhengHei"/>
                <a:ea typeface="Microsoft JhengHe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Microsoft JhengHei"/>
                <a:ea typeface="Microsoft JhengHei"/>
              </a:rPr>
              <a:t>总未得之民             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Microsoft JhengHei"/>
                <a:ea typeface="Microsoft JhengHei"/>
              </a:rPr>
              <a:t>50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Microsoft JhengHei"/>
                <a:ea typeface="Microsoft JhengHei"/>
              </a:rPr>
              <a:t>亿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Microsoft JhengHei"/>
                <a:ea typeface="Microsoft JhengHei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232DF-27EF-4353-AA36-0458FA8924A7}" type="slidenum">
              <a:rPr b="1" lang="en-US" sz="1000" spc="-1" strike="noStrike">
                <a:solidFill>
                  <a:srgbClr val="40404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95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</p:pic>
      <p:sp>
        <p:nvSpPr>
          <p:cNvPr id="350" name="Text Box 3"/>
          <p:cNvSpPr/>
          <p:nvPr/>
        </p:nvSpPr>
        <p:spPr>
          <a:xfrm>
            <a:off x="1847880" y="5300640"/>
            <a:ext cx="2232000" cy="5814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拉丁美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351160" y="4724280"/>
            <a:ext cx="1728720" cy="5814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平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495520" y="4149720"/>
            <a:ext cx="1584360" cy="5814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勒比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639880" y="3429000"/>
            <a:ext cx="1440000" cy="5814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欧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2782800" y="2997360"/>
            <a:ext cx="1297080" cy="5814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非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3071880" y="2421000"/>
            <a:ext cx="1008000" cy="5814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亚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2208240" y="1844640"/>
            <a:ext cx="1871640" cy="5814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欧亚大陆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2208240" y="1125360"/>
            <a:ext cx="1871640" cy="5814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东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1774800" y="0"/>
            <a:ext cx="889308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1738440" y="260280"/>
            <a:ext cx="8713800" cy="6426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万人口中的宣教士人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E08BC-D677-4887-BA42-D5C924F2942F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34800" y="549360"/>
            <a:ext cx="115984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世界人口在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960-202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年增长一倍（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8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亿）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都市人口：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越过一百万人口都市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82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越过一千万人口的都市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市人口占全数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8%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种族：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「环球基督教百科全书」， 约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,00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语言群体，分布世界各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B9640-FC15-4359-BA73-3EE3F127015B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07880" y="254160"/>
            <a:ext cx="106570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</p:pic>
      <p:sp>
        <p:nvSpPr>
          <p:cNvPr id="363" name="Text Box 3"/>
          <p:cNvSpPr/>
          <p:nvPr/>
        </p:nvSpPr>
        <p:spPr>
          <a:xfrm>
            <a:off x="982800" y="3645000"/>
            <a:ext cx="9685080" cy="52056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图表显示世界能从美国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加拿大神学院毕业生服事的情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23880" y="4581360"/>
            <a:ext cx="10728360" cy="5508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5%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美加神学毕业生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服事了生活于当地约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%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世界人口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22440" y="5135400"/>
            <a:ext cx="10802880" cy="20646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美加共有五十八万间教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会与人口对比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 1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7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00AE1-F6CA-4110-9B22-76D7C3E43690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407880" y="0"/>
            <a:ext cx="1116036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5230800" y="1052640"/>
            <a:ext cx="1728720" cy="581400"/>
          </a:xfrm>
          <a:prstGeom prst="rect">
            <a:avLst/>
          </a:prstGeom>
          <a:solidFill>
            <a:srgbClr val="ebe7b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7751880" y="1052640"/>
            <a:ext cx="3097080" cy="581400"/>
          </a:xfrm>
          <a:prstGeom prst="rect">
            <a:avLst/>
          </a:prstGeom>
          <a:solidFill>
            <a:srgbClr val="ebe7b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23880" y="2060640"/>
            <a:ext cx="3024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出生率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839880" y="2968560"/>
            <a:ext cx="3384360" cy="1323000"/>
          </a:xfrm>
          <a:prstGeom prst="rect">
            <a:avLst/>
          </a:prstGeom>
          <a:solidFill>
            <a:srgbClr val="ebe7b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界人口生出率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839880" y="4437000"/>
            <a:ext cx="3384360" cy="1323000"/>
          </a:xfrm>
          <a:prstGeom prst="rect">
            <a:avLst/>
          </a:prstGeom>
          <a:solidFill>
            <a:srgbClr val="ebe7b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透过生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增长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863640" y="5791320"/>
            <a:ext cx="3576600" cy="1323000"/>
          </a:xfrm>
          <a:prstGeom prst="rect">
            <a:avLst/>
          </a:prstGeom>
          <a:solidFill>
            <a:srgbClr val="ebe7b3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透过宣教而 增长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Microsoft JhengHei"/>
                <a:ea typeface="Microsoft JhengHei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7E05F-EDC8-4074-8563-7D71D4DED520}" type="slidenum">
              <a:rPr b="1" lang="en-US" sz="1000" spc="-1" strike="noStrike">
                <a:solidFill>
                  <a:srgbClr val="40404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3792600" y="189000"/>
            <a:ext cx="2303280" cy="581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福音派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7896240" y="189000"/>
            <a:ext cx="1728720" cy="581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3216240" y="1125360"/>
            <a:ext cx="1655640" cy="1323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口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万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5232240" y="1125360"/>
            <a:ext cx="1295640" cy="1323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率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增长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6959520" y="1052640"/>
            <a:ext cx="1656000" cy="1323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口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百万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8975880" y="1052640"/>
            <a:ext cx="1295280" cy="1323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率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增长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1774800" y="1125360"/>
            <a:ext cx="936720" cy="581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0C0C3-A12B-4BF0-A23C-5BDAB00426E9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258840" y="0"/>
            <a:ext cx="1167444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3000240" y="115920"/>
            <a:ext cx="5327640" cy="6426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entury Gothic"/>
                <a:ea typeface="新宋体"/>
              </a:rPr>
              <a:t>伊斯兰主要分布地区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2782800" y="6021360"/>
            <a:ext cx="280836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entury Gothic"/>
                <a:ea typeface="新宋体"/>
              </a:rPr>
              <a:t>伊斯兰集中人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8A913-4B51-4C2D-A7E7-2981979CDD3E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58840" y="0"/>
            <a:ext cx="1167444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3"/>
          <p:cNvSpPr/>
          <p:nvPr/>
        </p:nvSpPr>
        <p:spPr>
          <a:xfrm>
            <a:off x="3489480" y="33480"/>
            <a:ext cx="541476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Gothic"/>
                <a:ea typeface="新宋体"/>
              </a:rPr>
              <a:t>伊斯兰分布情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5375160" y="4653000"/>
            <a:ext cx="20894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entury Gothic"/>
                <a:ea typeface="新宋体"/>
              </a:rPr>
              <a:t>伊斯兰人口百份比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A6616-8BFE-4D16-A652-A03609114C27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-1440" y="189000"/>
            <a:ext cx="814212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3"/>
          <p:cNvSpPr/>
          <p:nvPr/>
        </p:nvSpPr>
        <p:spPr>
          <a:xfrm>
            <a:off x="982800" y="303120"/>
            <a:ext cx="6878520" cy="581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40186" dir="430364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百个渡口城市及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/40/95/2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之窗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8140680" y="17640"/>
            <a:ext cx="405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“</a:t>
            </a:r>
            <a:r>
              <a:rPr b="1" lang="en-US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10/40 </a:t>
            </a:r>
            <a:r>
              <a:rPr b="1" lang="zh-CN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之窗” 是指地球上位于北纬 </a:t>
            </a:r>
            <a:r>
              <a:rPr b="1" lang="en-US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10 </a:t>
            </a:r>
            <a:r>
              <a:rPr b="1" lang="zh-CN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度到北纬 </a:t>
            </a:r>
            <a:r>
              <a:rPr b="1" lang="en-US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40 </a:t>
            </a:r>
            <a:r>
              <a:rPr b="1" lang="zh-CN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度之间。这个区域包含了世界上许多未接触福音的、人口稠密的地区，其中许多国家人口主要信仰伊斯兰教、印度教或其他非基督教宗教。 “</a:t>
            </a:r>
            <a:r>
              <a:rPr b="1" lang="en-US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95/25” </a:t>
            </a:r>
            <a:r>
              <a:rPr b="1" lang="zh-CN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指的是经度范围， 将这个经度范围与 “</a:t>
            </a:r>
            <a:r>
              <a:rPr b="1" lang="en-US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10/40 </a:t>
            </a:r>
            <a:r>
              <a:rPr b="1" lang="zh-CN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之窗” 的纬度范围结合起来， 这个结合的区域（大约北纬 </a:t>
            </a:r>
            <a:r>
              <a:rPr b="1" lang="en-US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10 </a:t>
            </a:r>
            <a:r>
              <a:rPr b="1" lang="zh-CN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度到 </a:t>
            </a:r>
            <a:r>
              <a:rPr b="1" lang="en-US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40 </a:t>
            </a:r>
            <a:r>
              <a:rPr b="1" lang="zh-CN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度，东经 </a:t>
            </a:r>
            <a:r>
              <a:rPr b="1" lang="en-US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25 </a:t>
            </a:r>
            <a:r>
              <a:rPr b="1" lang="zh-CN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度到 </a:t>
            </a:r>
            <a:r>
              <a:rPr b="1" lang="en-US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95 </a:t>
            </a:r>
            <a:r>
              <a:rPr b="1" lang="zh-CN" sz="2200" spc="-1" strike="noStrike">
                <a:solidFill>
                  <a:srgbClr val="1f2329"/>
                </a:solidFill>
                <a:latin typeface="Microsoft JhengHei"/>
                <a:ea typeface="Microsoft JhengHei"/>
              </a:rPr>
              <a:t>度）包含了南亚和东南亚的大部分地区，包括印度、尼泊尔、孟加拉国、缅甸、泰国、老挝、越南和中国的一部分。 这个地区以人口众多而闻名，在历史上，基督教传教工作也面临着重大挑战。 将纬度和经度结合起来，可以更精确地定义传教组织的目标区域。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1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BE8B5-B5F8-4ADA-B380-E469E923A5D6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263520" y="276120"/>
            <a:ext cx="11669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全球范围内，基督教宣教工作的重点和目标地区通常包括那些基督徒比例较低、福音接触有限或存在文化、法律和地理挑战的地区。以下是一些主要的目标地区和原因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.1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未得之民（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Unreached People Groups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定义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徒比例少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本地缺乏成熟的基督徒团体来开展有效的传福音。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要分布：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东与北非：如沙特阿拉伯、伊朗、也门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南亚：如印度的未得之民群体、巴基斯坦、孟加拉国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亚：如乌兹别克斯坦、土库曼斯坦。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挑战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法律限制、语言和文化障碍、政治局势动荡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1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Slide Number Placeholder 2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947F9-3D2F-4BFF-B8B0-E5B68EF53FE4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263520" y="276120"/>
            <a:ext cx="11669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. 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都市化地区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原因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球都市化加速，城市成为人口流动的中心，但基督教资源可能集中于乡村。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•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要目标城市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 • 亚洲：孟买、雅加达、东京、北京。 • 非洲：拉各斯、开罗、内罗毕。 • 拉丁美洲：墨西哥城、圣保罗、利马。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•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策略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发展都市宣教团队，提供实际援助（如教育、医疗），同时通过社区活动传福音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1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Slide Number Placeholder 2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A8303-32BF-425D-A1C5-C02437120A93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192240" y="276120"/>
            <a:ext cx="11741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以伊斯兰教为主的地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特点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些地区的福音接触受到严格限制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重点地区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东：沙特阿拉伯、阿联酋、阿曼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北非：阿尔及利亚、摩洛哥、苏丹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东南亚：印尼的部分地区、马来西亚的部分地区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策略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通过生活见证和个人关系建立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Friendship Evangelism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来传播福音</a:t>
            </a:r>
            <a:r>
              <a:rPr b="0" lang="zh-CN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1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Slide Number Placeholder 2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39B3C-D7E6-44AC-AC4A-041ECBE43D74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263520" y="276120"/>
            <a:ext cx="1166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. 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以佛教或印度教为主的地区 •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特点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福音缺乏了解，或对基督教持有偏见。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•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重点地区：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佛教：缅甸、泰国、不丹、柬埔寨。 • 印度教：印度、尼泊尔。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•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策略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通过文化适应和跨宗教对话，传递福音信息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A801F-5944-469A-86E9-88BD7B8DC608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92240" y="271440"/>
            <a:ext cx="1047564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最通用语言（用作母语的人口）：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华语（普通话）：十亿                                                        英语：                  三亿五千万                                                        西班牙语：           三亿三千六百万                                                  印度乌都语：       二亿六千三百万                                              阿拉伯语：           二亿四千八百万                                               孟加拉语：           二亿一千七百万                                                葡萄牙语：           一亿八千四百万                                          日语：                  一亿二千八百万                                           德语：                  一亿六千万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1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B3497-95F1-443D-8B70-FE73ACBFCE2A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263520" y="276120"/>
            <a:ext cx="1159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. 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世俗化严重的地区 •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特点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在历史上曾占主导地位，但现今宗教影响力下降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•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要地区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 • 西欧：法国、德国、瑞士。 • 北美：部分大城市如纽约、旧金山。 • 东亚：日本、韩国的年轻一代。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•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策略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通过创新方法（如媒体宣教、网络教会）吸引年轻人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1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Slide Number Placeholder 2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DC765-50C9-4E0F-B314-A3F45A339F14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192240" y="276120"/>
            <a:ext cx="11741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6. 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部落与偏远地区 •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特点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地理位置偏远、文化独特，未被传统宣教覆盖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•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目标地区：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非洲：刚果、乍得、尼日尔。 • 亚马逊地区：巴西、秘鲁、哥伦比亚的原住民部落。 • 东南亚：印尼的偏远岛屿、菲律宾的山地部落。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•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策略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用本地语言和文化来传福音，通过医疗和教育服务打破隔阂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1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Slide Number Placeholder 2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6FB4D-2857-4E8A-89E6-9AAC691E77E9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263520" y="404640"/>
            <a:ext cx="1166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7. </a:t>
            </a: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新移民与难民群体 •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特点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许多难民和移民群体首次接触到基督教文化。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•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目标群体： 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从中东和非洲流向欧洲的难民。 • 拉美移民到北美。 • 东南亚移民到中东。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•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策略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移民中心、社区服务中展开宣教，提供援助与福音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oter Placeholder 1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6A55A-0E17-4AD7-9653-13C4FD5C3D30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334800" y="276120"/>
            <a:ext cx="11738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建议行动：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祷告与研究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这些地区祷告，深入了解当地文化、宗教和需求。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支持本地宣教士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资助并培训本地信徒，使他们成为宣教工作的重要力量。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.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跨文化团队合作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组建多语言、多文化的团队，提高宣教效率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. </a:t>
            </a:r>
            <a:r>
              <a:rPr b="1" lang="en-MY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创新宣教工具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利用社交媒体、短视频和移动应用来扩展福音接触点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DF13F-B004-4585-BC43-0484CB1EA7E6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63520" y="276120"/>
            <a:ext cx="10620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Microsoft JhengHei"/>
                <a:ea typeface="Microsoft JhengHei"/>
              </a:rPr>
              <a:t>用作官方语言（使用国家的人口，非全体）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英语：十九亿                                                                     华语：十二亿九千万                                                           西班牙语：三亿七千三百万                                                       法语：二亿八千九百万                                                                 阿拉伯语：二亿四千二百万                                             葡萄牙语：二亿一千五百万                                               俄语：二亿七百万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突厥语：一亿三千万                                                             德语：一亿一千万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FA25F-8CAE-4394-99CD-28C66B5E1185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34800" y="452520"/>
          <a:ext cx="11090520" cy="3952800"/>
        </p:xfrm>
        <a:graphic>
          <a:graphicData uri="http://schemas.openxmlformats.org/drawingml/2006/table">
            <a:tbl>
              <a:tblPr/>
              <a:tblGrid>
                <a:gridCol w="5545440"/>
                <a:gridCol w="55450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有圣经译本的语言所占的百分比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正在译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72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有部分译本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91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新约全书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7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新旧全书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83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完全没有圣经译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Text Box 41"/>
          <p:cNvSpPr/>
          <p:nvPr/>
        </p:nvSpPr>
        <p:spPr>
          <a:xfrm>
            <a:off x="258840" y="4365720"/>
            <a:ext cx="115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全球共有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7,148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种语言，透过圣经翻译的努力，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40%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要语言已有圣经译本，已使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90%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的世界人口，可以用母语或第二语言读到圣经。仍有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000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种在等待新约的译本，翻译的工作恐怕在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025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年以前不会完成。需要更多人员的投入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6E693-BE4E-415D-B306-8E3C027489A0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58840" y="276120"/>
          <a:ext cx="11674440" cy="6465960"/>
        </p:xfrm>
        <a:graphic>
          <a:graphicData uri="http://schemas.openxmlformats.org/drawingml/2006/table">
            <a:tbl>
              <a:tblPr/>
              <a:tblGrid>
                <a:gridCol w="3630600"/>
                <a:gridCol w="2206440"/>
                <a:gridCol w="3310200"/>
                <a:gridCol w="25272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世界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人口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信徒数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年增长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普世基督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.54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亿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,3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+ 1.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伊斯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1.09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亿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,9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+ 2.1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无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.4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亿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,88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 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印度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.5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亿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0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+ 1.4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佛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 1.2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中国民间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3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亿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,3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传统民族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亿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,6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+ 1.7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锡克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05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+ 1.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犹太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42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 0.6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2004</a:t>
                      </a:r>
                      <a:r>
                        <a:rPr b="1" lang="zh-CN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年合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0</a:t>
                      </a:r>
                      <a:r>
                        <a:rPr b="1" lang="zh-CN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亿</a:t>
                      </a: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6,510</a:t>
                      </a:r>
                      <a:r>
                        <a:rPr b="1" lang="zh-CN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Arial"/>
                          <a:ea typeface="宋体"/>
                        </a:rPr>
                        <a:t>+ 1.3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F71C3-9E11-4C28-B410-B905BA510055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8840" y="276120"/>
          <a:ext cx="11674440" cy="6581880"/>
        </p:xfrm>
        <a:graphic>
          <a:graphicData uri="http://schemas.openxmlformats.org/drawingml/2006/table">
            <a:tbl>
              <a:tblPr/>
              <a:tblGrid>
                <a:gridCol w="2619360"/>
                <a:gridCol w="1379520"/>
                <a:gridCol w="1378080"/>
                <a:gridCol w="1380960"/>
                <a:gridCol w="1285920"/>
                <a:gridCol w="1654200"/>
                <a:gridCol w="1976400"/>
              </a:tblGrid>
              <a:tr h="6573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经典楷体简"/>
                        </a:rPr>
                        <a:t>各大洋洲主要宗教国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五大洋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非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亚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欧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美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大洋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全世界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普世基督教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28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2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45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5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32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158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伊斯兰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26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27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3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56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佛教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1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1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无宗教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5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6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印度教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2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3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民族宗教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2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2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犹太教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0000"/>
                          </a:solidFill>
                          <a:latin typeface="Microsoft JhengHei"/>
                          <a:ea typeface="Microsoft JhengHei"/>
                        </a:rPr>
                        <a:t>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9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合计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57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48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49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51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32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经典楷体简"/>
                        </a:rPr>
                        <a:t>237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2"/>
          <p:cNvSpPr/>
          <p:nvPr/>
        </p:nvSpPr>
        <p:spPr>
          <a:xfrm>
            <a:off x="3489480" y="6307200"/>
            <a:ext cx="521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宋体"/>
              </a:rPr>
              <a:t>普世宣教概论：曾老师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10469520" y="630720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3CADA-5FBA-46AC-8EE2-F67E652BDBCA}" type="slidenum"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58840" y="276120"/>
          <a:ext cx="11674440" cy="5927760"/>
        </p:xfrm>
        <a:graphic>
          <a:graphicData uri="http://schemas.openxmlformats.org/drawingml/2006/table">
            <a:tbl>
              <a:tblPr/>
              <a:tblGrid>
                <a:gridCol w="1792080"/>
                <a:gridCol w="2022480"/>
                <a:gridCol w="2022480"/>
                <a:gridCol w="2022480"/>
                <a:gridCol w="2022480"/>
                <a:gridCol w="1792440"/>
              </a:tblGrid>
              <a:tr h="11703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全球更正教，独立教派，圣公会，宣教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差往国家（接受宣教士国家）总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洲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差会宣教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外国宣教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本国宣教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宣教士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宋体"/>
                        </a:rPr>
                        <a:t>人口比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非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7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3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0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9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亚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3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6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,9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4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1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0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,5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拉丁美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5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北美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3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3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2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太平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全球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,9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97,7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104,27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01,92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30,0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Line 69"/>
          <p:cNvSpPr/>
          <p:nvPr/>
        </p:nvSpPr>
        <p:spPr>
          <a:xfrm>
            <a:off x="2063880" y="5589720"/>
            <a:ext cx="972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9:59:32Z</dcterms:created>
  <dc:creator>Pastor Chan</dc:creator>
  <dc:description/>
  <dc:language>en-US</dc:language>
  <cp:lastModifiedBy>chan HK</cp:lastModifiedBy>
  <dcterms:modified xsi:type="dcterms:W3CDTF">2024-12-26T02:01:50Z</dcterms:modified>
  <cp:revision>20</cp:revision>
  <dc:subject/>
  <dc:title>Slide 1</dc:title>
</cp:coreProperties>
</file>