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3B8-CC11-42B4-8BEB-40079123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B3B-ED1B-43B2-97FF-676617F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5BB-DC4B-4422-B6B7-E5DB6613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C7E-0EF9-4B00-BC00-E90E9569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86D-A795-4DAF-A28E-5CAFC5E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843-BDC1-4823-84D0-238D77B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A59-787B-4FDF-B4FF-3BA0A364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58C-4304-4ACB-A9E2-9B9C0BF3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AB0-7316-4D78-B24A-6770E45E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EEF-B352-4563-A59F-0951B72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1CD-A53F-413C-962E-C599681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560-D348-4306-A49B-DC4CB3F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B055-571F-439A-8AD4-E35340D8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865-8AC9-4617-8B3C-4A4CEF908C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二）：称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麦西哈尔撒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上帝的儿子，为主宰，是以物配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9:30-3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犹太人说：欧宰尔是真主的儿子。基督徒说：麦西哈（弥赛亚耶稣）是真主的儿子。这是他们信口开河，仿效从前不信道者的口吻。愿真主诅咒他们。他们怎么如此放荡呢？他们舍真主而把他们的博士，僧侣和麦尔彦（马里亚）之子麦西哈（弥赛亚）当做主宰。他们所奉的命令只是祟拜独一的主宰，除他之外，绝无应受崇拜的。赞颂真主超乎他们所用来配他的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不会收养儿子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赞颂真主，超越万物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判决一件事的时候，他只对那件事说：有，它就有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5FF-5970-4670-A832-7AB4618B19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) 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天使而来的见证，所生的要称为神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0-3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天使对他说：「马利亚，不要怕！你在神面前已经蒙恩了。 你要怀孕生子，可以给他起名叫耶稣。 他要为大，称为至高者的儿子；主神要把他祖大卫的位给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4-3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利亚对天使说：「我没有出嫁，怎麽有这事呢？」 天使回答说：「圣灵要临到你身上，至高者的能力要荫庇你，因此所要生的圣者必称为神的儿子（所要生的，必称为圣，称为神的儿子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E73-B24A-4502-A6AF-8D44DF443C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灵界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-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一下船，就有一个被污灵附着的人，从墓地里迎面而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远远的看见耶稣，就跑过去拜他。大声呼叫说：至高上帝的儿子耶稣阿，我与你有什么关系呢？我指着上帝恳求你，不要叫我受苦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黑暗的灵界，邪灵也认得出耶稣基督的神性，承认耶稣是上帝的儿子，不得不服在耶稣的权柄下，给他下拜，口称耶稣是至高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FE3-D0CF-4607-B44F-AC0EA3E1C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门徒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5-17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门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承认，他就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神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门徒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说我是谁？西门彼得说：「你是基督，是永生上帝的儿子」。耶稣对他说，西门巴约拿，你是有福的，因为这不是属血肉的指示你的，乃是我在天上的父指示你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稣的回答中，他没有责备彼得说僭妄的话，反而因门徒有属灵看见，而称他是有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B570-C1F6-48F8-BA87-2862C27DCC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36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论点，我们看出称耶稣是「上帝的儿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有五方面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于耶稣自己的口说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上上帝，自己发声的见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使报告佳音时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门徒多时跟随观察结论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灵界来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9A4-8219-4ED7-A3C2-C61B972CB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耶稣宣称自己与上帝有独特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很自夸的责问基督徒说：耶稣基督在那里，有说过我是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自称？。以下我们就提出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与父原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过一些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为， 耶稣把自己当作与上帝是同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0-3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说：「我与父原为一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犹太人拿石头要打他。耶稣对他们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从父显出许多善事给你们看，你们是为那一件事拿石头打我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回答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是为你说了僭妄的话。又因为你是个人，反将自己当作上帝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7BC-7A75-4675-B918-3EED344867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称上帝为「我的父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「耶稣就对他们说，我的父作事直到如今，我也作事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越发想杀他。因为，他不但干犯了安息日，行驶医治的神迹，并且还称上帝为他的父，将自己和上帝当作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称上帝为：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我的父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ho pater mou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用了单数，而不是用「我们的父」，这表明他与父上帝之间有个人特殊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的父作事直到如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heos arti ergazetai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而我也作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go ergazomai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这样表达，是把自己的工与上帝的工作，结合在一起。他所作所说，所做的，就是神在做，神在说。怪不得犹太人气到要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AC8-3AF8-4C30-A013-4C6F958DE4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12144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*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自有永有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5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Aman Aman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还没有亚伯拉罕，就有了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ego eimi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节经文里，「实实在在」在希腊原文是阿门阿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犹太人宗教上非常尊严的说辞，当犹太人听见祭司宣读神的话，百姓就要用阿门，阿门来回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说：「我阿门，阿门的告诉你们」，当耶稣用这句话来形容他接下来要说的：等于宣告他说出了，如同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误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话。意思是他以阿门阿门所宣告的话，你是绝对可以信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绝对可信赖的话就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还没有亚伯拉罕，就有礼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耶稣基督这句话是在说自己是先存的，这绝对是真理的活，绝对可信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F0E-CF16-4A10-857F-EEADE3F0D2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阿门阿门的告诉你们，还没有亚伯拉罕就有了我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有了我」这字在希腊原文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go eim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可译作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还没有亚伯拉罕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若不信「我是」，必要死在罪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举起人子以后，必知道「我是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听了这几个用阿门阿门口吻说出来的活，结果是气得要拿石头打死耶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B09E-F8D9-4A3C-88F1-ABA58E86CE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1219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人为什么要生气？他们如何理解这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雯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rvin Vinc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「新约字义研究」一书中说：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「耶稣对自己身份的称呼，是用了绝对的，超越的「我是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go eimi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」这两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参考旧约的启示，就能理解「我是」这两字的超越性。旧约圣经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用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用的「我是」和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启示给摩西的名字「我是自有永有的（我是那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 that 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是一致的用法。</a:t>
            </a:r>
            <a:r>
              <a:rPr b="0" lang="en-US" sz="1800" spc="-1" strike="noStrike">
                <a:solidFill>
                  <a:srgbClr val="218282"/>
                </a:solidFill>
                <a:latin typeface="Verdana"/>
                <a:ea typeface="新宋体"/>
              </a:rPr>
              <a:t> 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出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3:1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神对摩西说：「我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(ego eimi)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自有永有的」；又说：「你要对以色列人这样说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那自有的打发我到你们这里来。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CE54-A38E-4F73-81E4-D3D640B159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告诉摩西说：「你要对以色列人这样说：是那位「我是」打发了我到你们这里来」。上帝的圣名，在希伯来文中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HW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「我是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熟悉旧约的耶和华上帝，在论及自己的称呼时：曾自称说：「我是自有永有的（「我就是那我是」）。耶和华上帝这「我是」的自称，后来成了形容上帝永存的专用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把这专属上帝的专用自称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go eime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用在自己身上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犹太人的反应看，他们明白耶稣是在自称，自己就是：那位绝对自有永有的独一上帝。所以他们才气得想用，摩西所定亵渎上帝的刑罚，即用石头打死他（利未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3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明显耶稣在告诉你，他就是神，是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1A3-1AA2-4ABB-86C4-04DC8FD790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在过往或现今的教会历史里，基督教会从来没有把博士，神父，牧师，主教，甚至教皇，当作是上帝，主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新约所记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没有直接的说：「我就是上帝」。却有两位旧约的先知，预告要来临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弥赛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世人的救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其根源与本质为「上帝」的预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因有一婴孩为我们而生，有一子赐给我们。政权必担在他的肩头上。他名称为奇妙，策士，全能的上帝，永在的父，和平的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必有童女怀孕生子，人要给他取名为以马内利（意思是上帝与我们同在）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A2E-471E-44DA-A60C-B254C990E9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接受人对上帝那种的尊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当尊敬耶稣如同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3-2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都尊敬父，如同尊敬子一样。不尊敬子的，就是不尊敬差子来的父。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manA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那听我话又差我来者的，就有永生，不至于定罪，是已经出死入生了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段经文的后半部，耶稣作出犹太人指责他犯了僭妄罪的辩护。他告诉指责他犯僭妄罪的人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尊重他就是不尊重父上帝，辱骂他就是辱骂上帝。阿门阿门的劝他们说，如果不敬重他的话，是会惹动上帝之忿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D06A-2066-4385-B49C-CC3B0BE8B6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认识耶稣就必认识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们就问他说：你的父在哪里？耶稣回答说，你们不认识我，也不认识父。若是认识我，也就认识父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荣耀我的乃是我的父，就是你们所说是你们的上帝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回答犹太人说：认识他，就等于是认识了所信的上帝。耶稣如此形容自己，等于在告诉我们，他们是同一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见耶稣如同看见父上帝，看见耶稣所做的，等于看见神所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对他说：腓力，我与你们同在这么久，你还不认识我么？人看见了我，就是看见了父。你怎么说，将父显给我们看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作的，等同父上帝所作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父怎样叫人从死里起来 ，使他们活着；子也照样随着自己的意思，使人活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FE67-F946-4FC7-859A-C1EE9F67B9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受造物都要对他的敬拜如同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长大麻疯的来「拜」他（耶稣）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个生来是瞎眼的，得医治后就「拜」他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5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拜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多马就下拜说：我的主，我的上帝。耶稣对他说，你因为看见我才信，那没有看见就信的有福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7-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们都「拜」他说：你真是上帝的儿子了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的使者（天使）也要拜他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神使长子到世上来的时候，就说：神的使者（天使）都要拜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灵界中堕落的灵也要伏服下拜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5: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 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他（污鬼一）远远的看见耶稣，就跑过去拜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AF8-1776-4B8E-8810-565677581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说的话就是灵，就是生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实实在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告诉你们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,22,26,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在这几节文中，我们看见耶稣根据他自己的身份，以肯定方式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等于是宣布他所说，所传的真理事实，属于绝对无误的。他没有用从前先知们所惯用的方式：「这是主耶和华上帝所说的」。而是一再的强调说：「我，阿门，阿门的告诉你们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要废去，我的话却不能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3:3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活着的是灵，肉体是无益的。我所说的话就是灵，就是生命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713-E84E-4BDB-8419-991E2466F4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120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有赦罪的权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赦罪的权柄属于上帝，唯有上帝能赦罪。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事议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耶稣看见他们的信心，就对瘫子说：孩子，你的罪赦了。当时，有几个文士在哪里。心里议论说：这个人为什么这么说呢？他（耶稣）说了僭妄的话，除了上帝以外，谁能赦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对他们说：你们为什么心里议论这事？对瘫子说：「你的罪赦了」，或者「起来，拿着你的褥子走」，那一样容易呢？然而为了要你们知道，人子在地上有赦罪的权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对瘫子说：我吩咐你，起来，拿起你的褥子，回家去吧」。那瘫子就起来，立刻拿着褥子，当众出去了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B71-111A-45F2-B6AF-AB213D923C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0"/>
            <a:ext cx="120729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赐生命的源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就如父上帝是生命的源头，照样他也使子成为生命的源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就是道路，真理，生命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复活在我，生命也在我。信我的人虽然死了，也必复活。活着信我的人，必永远不死（第二次的死），你信这话么？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说完这话，耶稣叫死了四天之久的拉撒路，从死里复活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许多特殊的宣称，即说明他就是旧约的耶和华上帝。耶稣在公开的场合中，曾间接或直接的宣称，他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儿子的身份与神性。下表列出新约中，耶稣为上帝儿子的身份，与旧约耶和华上帝的某些专有名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31E2-09CB-4530-AF54-02DB3C82486A}" type="slidenum">
              <a:rPr b="1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9160" y="0"/>
          <a:ext cx="11953800" cy="6302520"/>
        </p:xfrm>
        <a:graphic>
          <a:graphicData uri="http://schemas.openxmlformats.org/drawingml/2006/table">
            <a:tbl>
              <a:tblPr/>
              <a:tblGrid>
                <a:gridCol w="3214440"/>
                <a:gridCol w="4535640"/>
                <a:gridCol w="4203720"/>
              </a:tblGrid>
              <a:tr h="94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论耶和华上帝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的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身份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新约同样论及耶稣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0: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创造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3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万物藉着道创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2; 43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救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4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撒上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使死人复活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翰福音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申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0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万王之王，万主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7:14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提前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6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7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与人同在的上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太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 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约耳书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审判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0:19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光，世界的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8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出埃及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我是自有永有的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我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ego e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8: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8: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3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牧者，好牧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0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E675-751B-431C-9A15-3EF324FE3C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9520" y="0"/>
          <a:ext cx="11102760" cy="6945480"/>
        </p:xfrm>
        <a:graphic>
          <a:graphicData uri="http://schemas.openxmlformats.org/drawingml/2006/table">
            <a:tbl>
              <a:tblPr/>
              <a:tblGrid>
                <a:gridCol w="3620880"/>
                <a:gridCol w="3948120"/>
                <a:gridCol w="35337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2:8, 48: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的荣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7: 1;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1:4; 4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是首先的，末后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17; 2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何西亚先知书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3: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救赎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示录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2:5, </a:t>
                      </a: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何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新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1:2;</a:t>
                      </a: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太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磐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林前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0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耶利米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1: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赦罪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马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7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天使敬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希伯来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论耶和华上帝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共同的称谓与上帝的工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新约同样论及耶稣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从头直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祈求的对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徒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7: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8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创造天使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歌罗西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40E7-547E-4CEF-B991-416F69EB6B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" y="0"/>
          <a:ext cx="11306160" cy="6675480"/>
        </p:xfrm>
        <a:graphic>
          <a:graphicData uri="http://schemas.openxmlformats.org/drawingml/2006/table">
            <a:tbl>
              <a:tblPr/>
              <a:tblGrid>
                <a:gridCol w="3384720"/>
                <a:gridCol w="4681440"/>
                <a:gridCol w="3240000"/>
              </a:tblGrid>
              <a:tr h="106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约书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:14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5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耶和华的元帅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,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君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 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叫万有伏在他脚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9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能的上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0:28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天上地下，地底下的权柄归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万膝跪拜，万口承认的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7-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基督胜过死亡万膝跪拜万口承认的主</a:t>
                      </a: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 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但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地的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1: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地成了我主耶稣基督的国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申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:4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独一的主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犹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不认识我们独一的主宰：耶稣基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9:10</a:t>
                      </a: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结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赐平安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27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我留下平安给你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以赛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称为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腓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1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口称耶稣为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E198-CE08-4FC9-870E-08767097D7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0"/>
            <a:ext cx="12192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5.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耶稣随自己的意思行神迹，显示他是上帝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麻疯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-4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40-4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2-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瘸腿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-9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:3-12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8-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热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14-17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29-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臣重病的孩子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4:46-5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瘫痪了三十八年的人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-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枯乾的手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2:9-1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3:1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聋子与哑巴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7:31-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瞎子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2-2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约翰九章；而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0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十个大麻疯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7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一根断了的耳朵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2: 47-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患非漏病的女人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0-2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25-3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忠水鼓病的人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4:2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BD2B-C4CB-4D8D-A224-4D55F2946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0"/>
            <a:ext cx="121921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弥迦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伯利恒以法他阿，你在犹大诸城中为小。将来必有一位从你哪里出来，在以色列中为我作当权的。他的根源从恒古，从太初就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基督教信仰绝对是：信一位，独一真神的信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是如此的教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:18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了上帝一位之外，再没有良善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:29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以色列阿，你要听，主我们的上帝是独一的主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EC5E-F58A-4F15-8AB3-8D6F7969F4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121921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具有掌管自然界的</a:t>
            </a:r>
            <a:r>
              <a:rPr b="1" lang="zh-TW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权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转化物质结构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迦拿将清水变成美酒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自然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息狂风巨浪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3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动物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知道哪里有鱼；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差鱼送来税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掌管物质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5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食物立刻培增，五饼二鱼喂饱五千，四个饼几条小鱼喂饱四千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5-52) .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植物界的权力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8-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无花果树立刻枯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超越及掌管死亡的权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叫管会堂女儿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1-56)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叫寡妇的儿子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叫死了四天的拉撒路复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D2D-3DAC-4F1E-98F1-954D9BC1A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的本体等同于上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等同上帝本体的真相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他（耶稣）是上帝荣耀所发的光辉，是上帝本体的真像，常用他权力和职能的命令托着万有。他洗净了人的罪，就坐在高天至大者的右边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我们也知道，上帝的儿子已经来到，且将智慧赐给我们，使我们认识那位真实的，我们也在那位真实的里面，就是在他儿子耶稣基督里面，这是真神，也是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2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等同上帝的荣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:6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那吩咐光从黑暗里照出来的上帝，已经照在我们心里，叫我们得知上帝荣耀显在耶稣基督身上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这世上有智慧，有权有位的人，没有一个知道的，他们若知道，就不会把荣耀的主钉十字架上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03E-1A81-45F4-A01C-766FA285C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7.3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耶稣等同上帝的形象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此等不信之人被这世界的神弄瞎心眼，不叫基督荣耀福音的光照着他们。基督本为上帝的像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西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爱子是那不能看见之上帝的像，是首生的，在一切被造的先」。耶稣等同上帝的显明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从来没有人看见上帝，只有在父怀里的独生子将他表明出来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太初有道，道与上帝同在，道就是上帝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道成了肉身，住在我们中间一充充满满的有恩典，有真理。我们也见过他的荣光，正是父独生子的荣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7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耶稣等同上帝的本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2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在那蒙召的人，无论是犹太人，希腊人，基督总为上帝的智慧」。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3-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万物是藉着他造的，凡被造的没有一样不是藉着他造的。生命在他里头，这生命就是人的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1C6B-A2A6-4FFE-B458-411B5F0B5F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520" y="0"/>
            <a:ext cx="11952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赛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9:6 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因有一婴孩为我们而生，有一子赐给我们。政权必担在他的肩上。他名称为奇妙策士，全能的上帝，永在的父，和平的君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8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耶稣的名超越一切的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世人靠着得救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除他以外别无拯救；因为在天上人间，没有赐下别的名使我们可以靠着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8.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腓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2:9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上帝将他升为至高，又赐给他超乎万名之上的名，叫一切在天上的，地上的和地底下的，因耶稣的名无不屈膝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奉耶稣的名给病人膏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雅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5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你们中间有病了的呢，他就该请教会的长老来；他们可以奉主（耶稣）的名用油抹他，为他祷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593-A315-4A2C-B86A-C641174F6C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0"/>
            <a:ext cx="119998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受洗归入耶稣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3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彼得说：你们各人要悔改，奉耶稣基督的名受洗，叫你们的罪得赦，就必领受所赐的圣灵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他们听见这话，就奉主耶稣的名受洗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藉耶稣基督的名罪得赦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4:46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照经上所写，基督必受害，第三日从死里复活。并且人要奉他的名传悔改，赦罪的道，从耶路撒冷直传到万邦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写信给你们，因为你们的罪藉着主的名得了赦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6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得称为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: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但如今你们奉主耶稣基督的名，并藉着我们上帝的灵，已经洗净，成圣，称义了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F0A6-1245-41B1-8CA2-22EC2A624F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12072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集会敬拜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耶稣说：无论在哪里，有两三个人奉我的名聚会，就有我在他们当中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靠耶稣之名的人能得永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信他的人，不被定罪，不信的罪已经定了，因为他不信上帝独生子之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凡不认子的，就没有父；认子的连父也有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将这些话写给你们信奉上帝儿子之名的人，要叫你们知道自己有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4890-4E65-4626-A959-DB9B1925C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求告耶稣之名的必得救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凡求各主名的就必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9:21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现在你为什么耽延呢？起来，求告他的名受洗，洗去你的罪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行神迹奇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:10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众人和以色列百姓都当知道，站在你们面前的这人得痊愈，是因你们所钉十字架，上帝却叫他从死里复活的拿撒人耶稣基督的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耶稣说：信的人必有神迹奇事随着他们，就是奉我的名赶鬼，说新方言。手能拿蛇。若喝了什么毒物也必不受害，手按病人，病人就好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22E-B4B6-43CF-88BA-591D5BC58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可赶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那七十个人欢欢喜喜的回来说：主阿，因你的名，就是鬼也服了我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8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她一连多日这样喊叫，保罗就心中厌烦，转身对那鬼说；我奉耶稣基督的名，吩咐你从她身上出来，那鬼当时就出来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向上帝祷告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4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奉我的名无论求什么，我必成就，叫父因儿子得荣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你们若向父求什么，他必因我的名赐给你们。向来你们没有奉我的名求什么，如今你们求，就必得着；叫你们的喜乐可以满足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要为耶稣的名受苦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;14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若为基督的名受辱骂，便是有福的；因为上帝荣耀的灵常住在你们身上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0D8E-B5CB-43EF-8969-F6C6C9039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119998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确认耶稣的身份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究竟是上帝的儿子，是骗子或是疯子？一度曾是不信耶稣是救主的前剑桥大学哲学教授，路易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 S LEWI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说：「自我确信耶稣基督是救世主以后，我总是阻止人们这样无知的论到耶稣说：「我相信耶稣是个伟大的道德家，但我不能接受耶稣自称是上帝儿子，及与上帝原为一的主宰之说法」。我总是告诉他们，这样的说法是不正确的。因为，一个纯粹是人的人，没有能说出像耶稣那样说话及教训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绝对不止是一个伟大的道德家而已。从耶稣所说，所做的，你只能说他就是上帝的儿子，是创造的主成了肉身，成为救主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耶稣的教训，言论，行为中看见，他确实在私下或在公开的场合，宣称，他是上帝的儿子，他是自有永有的，他与上帝原为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C78-D9F7-4F4F-A022-813B143321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宣告他就是创造的主成了肉身。这宣称只有三个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宣称是假的，他是个骗子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骗子的说法根本不能成立。若是骗子必然显出其虚伪的，自私的，堕落的，败坏的本性。根据人类的逻辑，常理，知识和纸包不住火，等原则来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若是骗子，他又怎样自始至终，保持诚实良善，高贵的风度，有实际果效的行动，却丝毫不露出任何作假的破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骗子如何能瞒骗天下，又无私的广施善行，处处表现出无上的美德，伟大的品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5DDD-8752-4831-863E-32991C4D88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3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认识你独一的的真神，并且认识你所差来的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这就是永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此，基督徒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教导中，可以作证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上帝以外，别无真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-ilaha-illa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525-01B6-4FD5-BC45-BBEBDE73D5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121921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明知道作完这一切美善的结果，当他崇高的身份要被显露出来，他要被误会为亵渎神，而要牺牲生命，且死在痛苦的十字架上，一个骗子为何要坚持演完这场死亡游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，如果有人能效法耶稣当年所作的，全然为叫百姓得益处，那他在我们当中，也绝不会被人当作是个骗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若有这样的善人，不会被认为是骗子，那我们岂可以把当年的耶稣，归入是骗子的结论呢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A8D2-12D7-4A91-A506-6608D1C30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-96840" y="0"/>
            <a:ext cx="1216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是个疯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耶稣不是骗子，那他有没有可能因为思想过度，热心过度陷入魔障自以为是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成为疯子一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控耶稣是个精神病，妄想者，是绝对不合理的。在耶稣一生当中有人能找出或看见，耶稣有这类病的痕迹吗？耶稣凭着权柄说话和教训人，从他所说的教训中，能察觉出有精神病的痕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能以非常简明的生活故事，比喻解说出崇高的真理；还能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更新的权柄。耶稣不单能说，也能行；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从中找到狂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痕迹吗？耶稣能测透人心所想，能预知人的未来；从他处处为了叫人得到益处，而找出这是出于精神病狂的痕迹吗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ED5E-B795-4794-949F-4F4BF05E6B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诚然就是道成肉身的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所列举的种种证据，明显的看出，耶稣既不是宗教骗子，也不是宗教的疯子；那么他就是上帝独生的爱子，是上帝的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必须接受的事实。有些人以为这个结论，会牵涉到人类的自尊，道德，知识，而否定这些证据。但我们不能否定真理，而必须作个决定；耶稣他究竟是骗子，是疯子，还是他诚然就是爱我们的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132F-0ADD-4328-9CA9-5A58F0128A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对「耶稣基督究竟是谁」这问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下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论，非常重要。这不能只是学术上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探讨。耶稣究竟是骗子，疯子，或者他是你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；你必须选择一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如使徒约翰所说：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记这些事，是要叫你们信耶稣是基督（救主），是上帝的儿子，并叫你们信了他，就可以因他的名得生命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愛的穆斯林弟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的第二个帕子：称耶稣基督为上帝的儿子，为主宰，是以物配主。奉主的名，现在可以拿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198-9D97-4D1D-9A75-E6CAC3822F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斯林问：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直接自称为上帝，为何基督徒却称他为上帝的儿子，为主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呢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以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为了记念他们的老师，所以把他尊为主，尊为上帝的儿子。这绝对是错误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好相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门徒在传道时，提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，是主；这只有加重他们的重担，逼迫，困难，加重犹太人对他们的拒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却要如此称呼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上帝怀里的独身子呢？这是因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81D3-28CA-4D7A-A228-FEE6CD1D1C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28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称自己是神的儿子，而受了死刑的定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1-6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大祭司又问耶稣说：你是那当称颂者的儿子基督不是？耶稣说：我是。你们必看见人子，坐在那权力和职能者的右边，驾着天上的云降临。大祭司就撕开衣服说：我们何必再用见证人呢？你们已经听见他这僭妄的话了，你们的意见如何？他们都同声定他该死的罪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犹太人的议会被控时，控状就是：他曾否「亵渎了上帝的名」。这次的审讯非常特殊，他们要查询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回避这个问题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回答清楚承认，他有他们所提的三种身份：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（弥赛亚），人子，神的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BB3-D9FD-40C5-89FC-FB254432DF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回答，说明了三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坐在全能者右边的基督（弥赛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将驾云从天，第二次再临的人子，大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大祭司，明白他回答的意思。因此，他们总括一句：「这样，你就是上帝的儿子么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实在在的回答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说的是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些犹太教长老的眼中，不需要其他的见证人了。他们亲耳听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口供，也根据这口供来判他死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770-C1A8-48A7-B03C-A818EAA475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44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人类的救主）； 上帝的儿子（与父原为一）；是末世将从天降临的耶和华（撒迦利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言论不是他的门徒，不是世人，不是犹太人，不是敌人，给他定下的称呼。这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自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口向大祭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的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大祭司的逼问下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承认自己为「上帝的儿子」，结果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死罪，但他还是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的犹太宗教领袖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犯了僭妄的罪：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自己以为是上帝的儿子」，而把他钉死在十字架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207-5954-432D-89DB-450859169B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上帝而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说，当耶稣出来传道前，先去接受施洗约翰的受洗时，约翰就看见：「圣灵降临在他身上，形状彷佛如同鸽子。又有声音从天上来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是我的爱子，我喜悦你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第一次天上的神，亲口发出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从天上来有声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耶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你是我的爱子」的见证，是在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当时耶稣和门徒上山祷告时，有云彩围绕他们，突然看见摩西和以利亚出现和耶稣谈论，他将要上十字架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后摩西和以利亚离开。突然天上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发出声音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是我的爱子，你们要听他说的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3:56:40Z</dcterms:created>
  <dc:creator>Pastor Chan</dc:creator>
  <dc:description/>
  <dc:language>en-US</dc:language>
  <cp:lastModifiedBy>chan HK</cp:lastModifiedBy>
  <dcterms:modified xsi:type="dcterms:W3CDTF">2025-02-24T07:08:45Z</dcterms:modified>
  <cp:revision>55</cp:revision>
  <dc:subject/>
  <dc:title>Slide 1</dc:title>
</cp:coreProperties>
</file>