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DFA9-7E62-425B-A04D-0CA74D6F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4D9-89FE-401D-91B8-09FCC430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BFEE-DB23-4DAB-8698-48153359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FE0-627B-4CFE-8AF6-C1CF3A39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ADF-9FD7-4E4F-BBE2-11A2EA6D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71A-9241-40E7-BFB8-B2E9AAF8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287-EE13-40F1-B34F-43625ABA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CCB-B2DD-4AC9-80CB-B7C4B250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5B9-7E4A-4812-972D-8B88C149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872-AB63-41F4-B459-16ED78A6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5E6-B513-4264-8268-61D33EB3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699-125B-4BA6-BB20-939A4165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FFE5-79CC-4AEC-BE1C-7E5615F27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5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7FB5-A6C0-49CC-AB70-B499DA616D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穆斯林的五大帕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224240" y="1600200"/>
            <a:ext cx="42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4723-B74F-4889-9523-4E7BBFE873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3480" y="122400"/>
            <a:ext cx="12191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犹太人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这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些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怪异反应，是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出于政治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，社会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与宗教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的自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我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保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护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意图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一：他们知道穆罕默德所说的与讨拉特有许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他们曾私下去纠正默罕默德，穆罕默德不接受，反指责是他们炒炒写写，拿到市场卖的，抄错了。穆罕默德即或知道自己可能有误传，但已经被宣告成为先知，骑虎难下。犹太人知道他无法改变事实，免得冒犯对立或指出穆罕默德的错误，令他不快。就表面顺从私下贬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二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犹太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私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向穆斯林批评说，默氏说错了圣经，穆斯林会去默罕默德那里告状，犹太人说你说错了圣经。带来的从冲击和矛盾就会非常严重。因此，犹太人只好在穆斯林要求请示圣经的说法和立场时，就宣称不知道，或者故意扭曲与隐藏讨拉特的真理 。穆斯林会误会，犹太人对神的启示非常自私，对神的旨意很不重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FEC6-E973-4C11-802C-18740C357E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0" y="0"/>
            <a:ext cx="12192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大部份犹太人， 根本不把穆罕默德所说的当作真理，甚至他们在引用穆罕默德的话语时，讲给没有听过的同胞时，便“改变了其中的话语”。他们说</a:t>
            </a: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：“如果穆罕默德给你们说了话，你们当假意接受。如果没有，就不要认同接受。也不要告诉穆斯林，讨拉特的真理，免得和他们引起争论与宗教冲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认为自己已有真经，加上默罕默德说错了某些圣经，就不肯接受穆罕默德先知身份。但又不敢明明得罪这位有政治与宗教力量的先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表面顺从，私下对犹太人同胞说话时，却将穆罕默德说过的话不当一回事，甚至拿来开玩笑，改变了，批评了一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C77D-8F20-4A37-8D9E-72792D107A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0"/>
            <a:ext cx="12192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为什么犹太人的反应会那么扭曲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默罕默德来到麦地那的第一年，就为了获得经济，养活百多位和他一起迁都过来麦地那的穆斯林，他需要他们去不同的麦地那部落，去教导他们，故此，就鼓励他的队伍，带着刀剑去向路过麦地那的商队，邀请他们信伊斯兰，不信的就抢夺他们的商队。因此，有麦地那当地的妇女与男诗人，质疑穆罕默德的先知身份，地位，品格而被暗中处死。穆罕默德也曾攻打反对他的犹太族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2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穆罕默德亲自监督了一场大屠杀的行动。穆罕默德和他的军队，将犹太巴尼古利杂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ani-Quryz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村庄包围。二十五天之后，村民们投降，希望穆罕默德放他们一条生路。相反的是，穆罕默德命令他的士兵挖了几个大的壕沟，将约九百个犹太人的头斩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DAF8-00AA-4891-9F7C-C0573B4E21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0" y="0"/>
            <a:ext cx="12072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这些历史事实，我们就可以清楚的知道，为什么犹太人会那样的扭曲，要将自己经典的内容隐藏，同时以口舌变更，窜改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只能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私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扭曲所听见穆罕默德的真理内容。这一切都是为了避免宗教的对立；避免对穆罕默德的冒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然而，这都只犹太人口头上的，态度上对真理的窜改，而不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字面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改变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作为有权柄的宗教与政治人物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看见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此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扭曲真理，不忠於神的启示，听见了他所传的道，还加以扭曲，更变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然就会指责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窜改与扭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从这历史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背景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事实去理解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能理解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5;78-7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指责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67F5-0638-44A3-A70C-0E42CBBBAD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0" y="0"/>
            <a:ext cx="11999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於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77-7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控有些犹太生意人，抄写圣经拿到市场去卖。默罕默德认为，犹太人这么做，不知不觉就错写圣经，误导「买，读，教」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经文的犹太人被控「变更」圣经的话，乃是由于犹太人在市场上，以手抄卷当商品作买卖。那是轻视不尊重圣经的话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问题是：在市场上出售手抄本的圣经，就是一种「变更」讨拉特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ORA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必然的结果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C394-175A-493F-8B5B-1CA4AD3F59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0"/>
            <a:ext cx="121442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必须明白，当时在市场上出卖手抄的旧约经卷，这是非常正常的现象。犹太人抄写圣经，以便流传下去的习惯，距离穆罕默德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前的犹太人，就已经那么做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纪元前第三世纪时，旧约讨拉特的三十九卷书，早已被犹太社会鉴定为正典。来到穆氏的时代，旧约讨拉特正典，已经被全体的犹太人共同复制，诵读超过一千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代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还没有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印刷业，只能用手来抄写。有人在市场出售手抄写的经卷，就像今天有人在市场，教堂，书店里，出售圣经与古兰经那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把经文制造成书本，精品等出售，是得罪神的作法，那等于说，今天人在市场上出售古兰经，或出售用经文制成的精品，乃是得罪神的作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CB6C-9BCA-479F-8D02-5026E03012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0"/>
            <a:ext cx="12192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么，今天所有回教徒的书店，出售的书本，精品，也就沦落为作恶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他们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么做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「变更经卷」的恶人么？ 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经卷，导致旧约内容窜改，这是假设性的说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穆氏或穆斯林，知道犹太人是如何看重妥拉，他们抄写卷经书的严谨态度，就不会轻易的，指责「市场所卖的经卷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被窜改过的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责犹太人将圣经抄写，结果变成伪造圣经。这样的指控，已被历史学家，考古学家，圣经学者所鉴定：这是不曾发生过的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时新旧约圣经，已经流传整个罗马帝国，并译为几种文字流传，绝对没有全被窜改的可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试问犹太人及基督徒为何要窜改他们的圣经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7C91-0C6E-4AC7-B3ED-EBA12F59CC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0"/>
            <a:ext cx="120729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:14-15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指责尔撒的新约记载，放弃了旧约中许多律法的引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由於新约圣经启示尔撒的救赎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功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效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的人得以重生（约三章），神的律法不再是字句的，而是已刻在心上。新约里的人遵守神的律法，是藉着爱与圣灵的引导。按尔撒的教导，一切律法的总纲就是尽心尽力爱神与爱人如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带给基督徒新的诫命总纲是；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爱弟兄，为弟兄舍命」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新约的新命令。如果一个人能爱人如己，就已经守全律法。而且基督徒的圣经还包含了旧约圣经，组成整本的新旧约圣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爱的诫命肯定会比规条的律法更高。基督徒认为在弟兄，为弟兄放下自己（舍命），这肯定比律法还要更高。然而，基督徒并没有丢弃任何穆沙（摩西）的律法内容。基督徒看摩西的整个律法系统为启蒙的老师，引导人类去寻求基督的重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D47F-B801-45B6-A87B-572FDCB735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废除新旧约与圣经被窜改之说，来自伊斯兰中期学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学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khund Mulla Muhammad Taqqiyi Kashan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8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在他所完成的波斯语的着作中写到（页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；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伊斯兰教的人，承认穆罕默德是先知，并且他的宗教废除了以前所有的宗教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样的观点，被无知者及一些人云则云的伊斯兰者所接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但事实乃是：古兰经里没有这样的教导；在逊尼派，或什叶派教徒中，流传的穆罕默德是圣训中，也没有支持这样的观点与论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1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灯片编号占位符 2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6F38-F053-499B-8CF6-A0ADA703F5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"/>
          <p:cNvSpPr/>
          <p:nvPr/>
        </p:nvSpPr>
        <p:spPr>
          <a:xfrm>
            <a:off x="0" y="0"/>
            <a:ext cx="12144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后来伊斯兰者还加入另一些推理而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旧约圣经被废除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今天犹太教及基督教徒所使用的圣经，已是不同于古兰经所描述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现今的新旧约圣经，没有真正在古兰经中被提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B73C-12B7-4CAE-AD34-FF28CA26F8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0" y="0"/>
            <a:ext cx="120729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新宋体"/>
                <a:ea typeface="经典长宋简"/>
              </a:rPr>
              <a:t>古兰经中的五大帕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新宋体"/>
                <a:ea typeface="经典长宋简"/>
              </a:rPr>
              <a:t>引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经典长宋简"/>
              </a:rPr>
              <a:t>☆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经典长宋简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经典长宋简"/>
              </a:rPr>
              <a:t>2:7-9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经典长宋简"/>
              </a:rPr>
              <a:t>曾提醒世人，有些人的心地黑暗，耳朵发沉，灵眼被蒙闭；</a:t>
            </a:r>
            <a:r>
              <a:rPr b="1" lang="zh-CN" sz="3200" spc="-1" strike="noStrike">
                <a:solidFill>
                  <a:srgbClr val="009900"/>
                </a:solidFill>
                <a:latin typeface="新宋体"/>
                <a:ea typeface="经典长宋简"/>
              </a:rPr>
              <a:t>「真主已经封闭他们的心和耳，他们的眼上有翳膜，他们将受重大的刑罚。</a:t>
            </a:r>
            <a:r>
              <a:rPr b="1" lang="en-US" sz="3200" spc="-1" strike="noStrike">
                <a:solidFill>
                  <a:srgbClr val="009900"/>
                </a:solidFill>
                <a:latin typeface="新宋体"/>
                <a:ea typeface="经典长宋简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新宋体"/>
                <a:ea typeface="经典长宋简"/>
              </a:rPr>
              <a:t>.</a:t>
            </a:r>
            <a:r>
              <a:rPr b="1" lang="zh-CN" sz="3200" spc="-1" strike="noStrike">
                <a:solidFill>
                  <a:srgbClr val="009900"/>
                </a:solidFill>
                <a:latin typeface="新宋体"/>
                <a:ea typeface="经典长宋简"/>
              </a:rPr>
              <a:t>他们想欺瞒真主和信士，其实他们只是自欺，却不觉悟。他们心里有病，故真主加增他们的心病</a:t>
            </a:r>
            <a:r>
              <a:rPr b="1" lang="en-US" sz="3200" spc="-1" strike="noStrike">
                <a:solidFill>
                  <a:srgbClr val="009900"/>
                </a:solidFill>
                <a:latin typeface="新宋体"/>
                <a:ea typeface="经典长宋简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新宋体"/>
                <a:ea typeface="经典长宋简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经典长宋简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经典长宋简"/>
              </a:rPr>
              <a:t>新旧约圣经也有类似的警告。新约圣经，称呼这类的「翳膜，蒙闭」作「帕子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36F6-3D05-4791-A0F8-BABD2C89DA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摩西的讨拉特，大卫的宰不尔，新约（引支勒），是否真的被篡改或废除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意为「停止，废除」的动词「拿撒卡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Nasakha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」，这字在古兰经里出现过两次（古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:106; 22:52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:106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凡我所废弃的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Nasakha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或使人忘记的启示 必以更好的，同样的启示代替它。难道你不知道真主对万事是全能的吗？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2:52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在你我之前所派遣的使者和先知，没有一个不是这样的：当他愿望的时候，恶魔对于他的愿望有一种的建议，但真主破除（废除）恶魔的建议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Nasakha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然后真主使自己的迹象成为坚确的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E586-7CF5-4081-8167-6BC0A70806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0" y="0"/>
            <a:ext cx="120729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两次提到「废除</a:t>
            </a: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Nasakha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的经文，都不是用来指「停止，废除」新旧圣经。反而是指废除古兰经一些的经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早期顶尖穆斯林的教师说：古兰经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经文被废除。一个最好的证明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aizawi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自己对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5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评论。他指出真主怎样废除了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:19-20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这些是有高贵的天鹅。他们的代祷确实是有希望的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认为：撒旦曾使穆罕默德对「拉特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at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欧萨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Usa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麦娜苔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na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这三尊亚拉伯女神，说出尊敬的话，在这方面，撒旦已经欺骗，迷惑了穆罕默德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说出对偶像尊敬的话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相关的经文必须被废除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古兰经中有关「停止，废除」一词，所指的都是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废除某些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的经文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EB4E-46D5-4E4F-B67A-752AF6D874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0"/>
            <a:ext cx="120729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研究圣经的伊斯兰学者</a:t>
            </a:r>
            <a:r>
              <a:rPr b="1" lang="zh-TW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反对圣经被废除的观点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「讨拉特（律法书），被宰不尔（诗篇）废除；宰不尔（诗篇）被引支勒（福音书），废除；引支勒又被古兰经废除，而古兰经永不废除。这样的观点，完全没有获得被古兰经及穆罕默德言论支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凡对圣经有研究的伊斯兰学者，都会极力反对这样的说法。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haikh Haji Rahmatu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‘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lah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他的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zharu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 Haqq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一卷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-1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中，指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关于「讨拉特，被宰不尔废除，宰不尔，被引支勒废除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这样的说法是无知，错谬及误导的。古兰经文及圣言录中都找不到这样的说法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』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BEFE-D526-4968-97C0-B34BD67785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0" y="0"/>
            <a:ext cx="1207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haikh Haj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张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只有无知和没深度的穆斯林，才会持有那些错误观点。穆斯林相信，上帝的道是立定在天，永不改变的。试问：「上帝既是全知全能，他所启示的话，既是真理，就必立定在天，成为永不改变的话」，它岂能需要被「停止与废除吗」？若全能上帝的话，需要被废除；那表示，上帝的话不完全，不正确，继续有亏缺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1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2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7B6F-C733-4652-B98D-E8B5785660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"/>
          <p:cNvSpPr/>
          <p:nvPr/>
        </p:nvSpPr>
        <p:spPr>
          <a:xfrm>
            <a:off x="0" y="18900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圣经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从没有以新约，取代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（废除）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旧约经文的立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＊旧约民数记 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23:19</a:t>
            </a: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「上帝非人，必不致说谎，也非人子，必不致后悔。他说话岂不照着行呢？他发言岂不要成就呢？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＊旧约以赛亚书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46:9-11</a:t>
            </a: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「你们要追想上古的事，因为我是上帝，并无别神。我是上帝再没有能比我的。我从起初指明末后的事，说我的筹算必立定，凡我所喜悦的，我必成就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我已说出，也必成就，我已谋定也必作成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837C-0CF1-4068-8789-0600004935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0"/>
            <a:ext cx="121921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普世的犹太，基督徒都铁定的说：上帝说过的话，绝不需要废除或更改。为什么伊斯兰学者，会继续相信毫无理由的话</a:t>
            </a:r>
            <a:r>
              <a:rPr b="1" lang="zh-CN" sz="30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：「上帝启示在讨拉特，宰不尔，引支勒所记录的话，已经被废除了呢？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理由（一）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单把古兰经的地位，放在第一位，又不照古兰经的命令，去研读新旧约圣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理由（二）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在启示的过程中，出现「废除」的问题。他们认为其它先知的经典启示，也应该会出现这样的情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理由（三）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后期穆斯林憎恶犹太教，而不愿读他们的经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不能以「憎恶」为理由，来拒绝上帝的启示。因为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新旧约圣经作了这些见证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5475-C9A1-4D4F-A84C-AA201755A1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0"/>
            <a:ext cx="121921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古兰经为新旧约圣经的权威</a:t>
            </a:r>
            <a:r>
              <a:rPr b="1" lang="zh-TW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作了这些见证：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154-15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摩西的律法书及耶稣的福音书，有崇高的启示权威，且是出于安拉的主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10-11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耶稣基督领受了智慧，能力与恩典，连他的门徒也得到安拉的启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wahi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3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律法书与福音书，不单为犹太人和基督徒，也是为全人类而赐下的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3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穆斯林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也必须接受先前所降下的圣经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orah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及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njial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A7EB-E581-463E-A5C7-FED7E34136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0" y="0"/>
            <a:ext cx="121921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94 ;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4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有不明白之处，应当向先前领受经典之人求问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回教学者以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8-79; 3:77-78; 5:14-1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不明显经文，说圣经已被窜改；则古兰经命令人要去读，去查，去听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的讲解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成为没有意义的古兰经命令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主耶稣的教导，只提成全，没提废弃的论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引支勒圣经，共引证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次旧约的经文，以此说明引支勒（新约）是如何「承先启后」，与旧约合为一体。引支勒见证它成全了，讨拉特的一切应许，真理与教训。就引支勒成全了讨拉特的真理，这是古兰经也加以肯定的事实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:46 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继他们之后，继派玛利亚之子尔撒（耶稣），以证实在他之前的讨拉特，并把引支勒对他赐于，其中蕴含向导和光辉的真谛，以证实在他之前的讨拉特，以便向敬畏者指导和劝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ADBA-0C0C-4B33-8A2B-8493A8FA3E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4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正确的解法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耶稣基督来，他要证明及成全旧约的真理。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正是新约的精神。旧约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某些宗教的仪式，如献祭与守节期等，对新约的基督徒没有遵守的约束力，这是因为它所预表的真理，被耶稣基督在救恩的救赎中成全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新约希伯来书说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律法既是将来美事的影儿，不是本物的真像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新约加拉太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2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这因信得救的道理还未来以先，我们被看守在律法之下，直圈到那将来的真理显明出来。这律法是我们训蒙的的师傅，引我们到基督哪里，使我们因信称义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4D01-4ECA-496B-8D8C-3A179336E1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0" y="0"/>
            <a:ext cx="121921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旧约所献祭的羊羔，预表耶稣基督，他要为世人赎罪。旧约以赛亚先知曾启示出这真理（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:1-1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神许可羔羊的血能赎罪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来了，以无罪的代替有罪的受死复活，就解除了律法中对罪一切的仇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基督徒为何不遵守一些不可摸，不可吃的律法；这是因为基督徒从主耶稣受了更大的律法总纲：「要尽心，尽性，尽力，爱主你的上帝；其次也要爱人如同自己」。全心爱上帝，又爱人如已，就守全了律法（路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26-2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许多旧约中的礼仪，已从字义进入了精义，从影子进入实体，被成全了；故此外在的一些仪式，象徵，就不再需要固守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9EAE-6463-4C03-BB6E-62C799F2F0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7520" y="0"/>
            <a:ext cx="121446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☆</a:t>
            </a: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使徒保罗的帕子：</a:t>
            </a:r>
            <a:r>
              <a:rPr b="1" lang="zh-TW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因看见主的荣光，眼睛立刻瞎掉。有基督徒前来为他祷告，眼中掉出如同鳞片的帕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犹太人的帕子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心里刚硬，在诵读旧约的时候，心灵的帕子还没有揭开（错误的弥赛亚观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感叹的说：「他们的心几时归向基督，帕子（翳膜）就几时除去（林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2-1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D5E4-BF25-4236-AAF5-AB32754228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0" y="0"/>
            <a:ext cx="121921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主耶稣基督把他一生的事迹联结于旧约</a:t>
            </a:r>
            <a:r>
              <a:rPr b="1" lang="zh-CN" sz="30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：「你们如果信摩西也必信我。他书上有指着我而写的话。你们若不信他的书，怎能信我的话呢（约</a:t>
            </a:r>
            <a:r>
              <a:rPr b="1" lang="en-US" sz="30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5:46-47</a:t>
            </a:r>
            <a:r>
              <a:rPr b="1" lang="zh-CN" sz="30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耶稣曾公开的说</a:t>
            </a:r>
            <a:r>
              <a:rPr b="1" lang="zh-CN" sz="30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：「莫想我来要废掉律法和先知：我来不是要废掉，乃是要成全。我实在告诉你们，就是到天地都废弃了，律法的一点一划也不能废弃，都要成全（太</a:t>
            </a:r>
            <a:r>
              <a:rPr b="1" lang="en-US" sz="30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5:17-18</a:t>
            </a:r>
            <a:r>
              <a:rPr b="1" lang="zh-CN" sz="30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与古兰经中关于上帝的话是不能被废弃，是完全一样的道理（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34,11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65; 18: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超越一切，他是全知，全能的，他的计划不是任何事物所能改变。上帝非人，必不致说谎，也非人子，必不致后悔。他说话岂不照着行呢？他发言岂不要成就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B5F9-ECB6-41ED-82E0-8AC9A792C9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0" y="0"/>
            <a:ext cx="12072960" cy="57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古兰经</a:t>
            </a:r>
            <a:r>
              <a:rPr b="1" lang="zh-TW" sz="36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见证圣经没有被窜改</a:t>
            </a:r>
            <a:r>
              <a:rPr b="1" lang="zh-CN" sz="36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见证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信仰真经的基督徒没有失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:113-115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有真经的基督徒，在夜间诵读真主上帝的经典，为真神而叩头；确信真主和未日，劝善戒恶，争先行善；无论他们作什么善功，绝不会徒劳无酬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:199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这些人信仰真主和他们从真主所受的启示，敬畏事奉主，不以真主的迹像换取些微的代价（“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些人”按上文是指信圣经的基督徒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当他们听见所降示的经文，他们为自己所认识的真理而眼泪汪汪，他们信真主和降临在他们中的真理，真主要以乐园报酬他们（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:82-85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1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2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5D0D-ED78-436F-BF92-B9EE23F9EC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0" y="0"/>
            <a:ext cx="12192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见证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信仰真经的犹太人没有失误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＊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7:159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穆萨（摩西）的宗族中，有一伙人，本着真理引导他们，因真理而主持公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＊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7:170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犹太人坚守真经，谨守拜功者，真主必不会使他们当中的行善者徒劳无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古兰经见证，基督徒，犹太人，信真主所启示的经典，按照教导行真理现善行。能使他们受乐园的报酬。这说明，犹太人的旧约，基督徒的新约</a:t>
            </a:r>
            <a:r>
              <a:rPr b="1" lang="zh-TW" sz="3200" spc="-1" strike="noStrike">
                <a:solidFill>
                  <a:srgbClr val="ff3300"/>
                </a:solidFill>
                <a:latin typeface="宋体"/>
                <a:ea typeface="宋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没有失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172F-24E3-4C35-A24A-65D0A192E4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． 古兰经表明，在尔撒时代的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还是是真实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年，古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19:12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节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真主说：叶哈雅啊！你应当坚持经典。他在童年时代我已赏赐他智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2. 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2-3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年</a:t>
            </a:r>
            <a:r>
              <a:rPr b="1" lang="zh-TW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3:48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节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在尔撒降生前，迦百列天使对玛利亚（麦尔彦）谈到尔撒时说“他要教他书法和智慧，讨拉特和引支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年，古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66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12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“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麦尔彦为通道的人们的模范，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她信她的主的言辞和天经，她是一个服从的人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9BC1-B03E-418D-AB43-0727552271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2-3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年，古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49-50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（我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奉命来）证实在我之前降示的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并为你们解除一部分禁令。我已昭示你们从真主发出的一种迹象，故你们应当敬畏真主，应当服从我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5. 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年，古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61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6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当时，麦尔彦之子尔撒曾说：以色列的后裔啊！我确是真主派来教化你们的使者，他派我来证实在我之前的讨拉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6.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10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年，古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46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：“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在众使者之后续派麦尔彦之子尔撒，以证实在他之前的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并赏赐他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其中有向导和光明，能证实在他之前的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并作敬畏者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包挂穆斯林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的向导和劝谏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新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DB04-37A5-4556-B166-40BBDA6C05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0" y="0"/>
            <a:ext cx="1219212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7. 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10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年古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110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：“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那时，真主将说：麦尔彦之子尔撒啊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!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你当记忆我所赐你和你母亲的恩典。当时，我曾以玄灵扶助你，你在摇篮里，在壮年时，对人说话。当时，我曾教你书法、智慧、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和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对基督徒手中的旧约圣经的立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年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3:48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尔撒说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是来证实在他之前的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》</a:t>
            </a: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49-50</a:t>
            </a:r>
            <a:r>
              <a:rPr b="0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，古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61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6</a:t>
            </a:r>
            <a:r>
              <a:rPr b="0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；在穆罕默德时代</a:t>
            </a: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真主也证实他曾教导尔撒讨拉特（古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46</a:t>
            </a:r>
            <a:r>
              <a:rPr b="0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，古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46</a:t>
            </a:r>
            <a:r>
              <a:rPr b="0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伊历七年</a:t>
            </a:r>
            <a:r>
              <a:rPr b="1" lang="zh-CN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19:12</a:t>
            </a: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说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;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尔撒的母亲麦尔彦信真主的天经</a:t>
            </a: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66</a:t>
            </a:r>
            <a:r>
              <a:rPr b="1" lang="zh-CN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12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真主说在尔撒出生前</a:t>
            </a: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就亲自教导他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》</a:t>
            </a: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D995-37BF-4703-ABFF-3916CB822F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47520" y="0"/>
            <a:ext cx="121446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可以从这些古兰经得出结论，在尔撒的时代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还是真实的，并没有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既在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的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；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麦尔彦信“他（真主）的天经”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那就一定指其他先知们，所带给犹太人的经典，也包括穆撒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时至那时，还是具正典的权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历十年，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6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宣称，尔撒证实了「引支勒与讨拉特的合法地位」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若这些经文的见证真实，请问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於伊历何年被窜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224A-A383-4890-949C-82ECAE48F3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0" y="0"/>
            <a:ext cx="1219212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．古兰经见证，从尔撒至和穆罕默德时代，有得到真道的基督徒 （证明经书的纯正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-3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年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2-5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当尔撒确知众（犹太人）人不通道的时候，他说：‘谁为真主而协助我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?’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众门徒说：‘我们为真主而协助你，我们已确信真主，求你作证我们是归顺者。我们的主啊！我们已确信你所降示的经典，我们已顺从使者。’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历三年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通道的人们啊！你们应当做协助真主的人，犹如麦尔彦之子尔撒对他的门徒所说的：‘谁是与我共同协助真主的？’那些门徒说：‘我们是协助真主的。求你作证我们是归信的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）’。以色列的后裔中，有一派人已经通道，有一派人并不通道。我扶助通道的人们变成优胜的。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726A-377F-44DC-8B31-9AF1FBC5F8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0" y="0"/>
            <a:ext cx="12192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两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说，信道者当效法跟随尔撒当年的门徒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选成为“真主帮助者”的门徒，也是归顺真主者，得真道者，以致真主使他们“成为优胜的人”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呼籲寻道者，效法尔撒的门徒，这显示穆罕默德认为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加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时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还存在得着真道的基督徒和犹太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A4AC-E0F5-4DBE-ADF9-4AD9BB0445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0" y="0"/>
            <a:ext cx="12192120" cy="24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历八年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6-2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。。。我又继续派遣麦尔彦之子尔撒，我赏赐他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我使他的信徒们心怀仁爱和慈悯。他们自创出家制－－－他们创设此制，以求真主的喜悦；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。。。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故我把报酬赏赐他们中的通道者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见证，在第四世纪埃及的基督徒当中，虽然已有为信仰而出家的制度，这并没有使他们的信仰出现偏差，仍保持着真正得救的基督教信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虽然出家制（禁欲主义）不是尔撒在引支勒的主要教导，但他们中确实有真正的通道者，且真主把报酬（即天园）赏赐给了他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531A-EB4E-48EF-AE61-5B375910F7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0"/>
            <a:ext cx="1219212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年犹太人的「翳膜，心病，帕子」，今天也临到普世的穆斯林信徒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在穆斯林中流传的五大帕子（翳膜）如下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)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摩西的妥拉；耶稣的引支勒已被窜改。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)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新约称耶稣基督为神的儿子，是错误，是亵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)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基督徒宣称上帝是三位一体，是错误及亵渎的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.)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基督没被钉死在十字架上（古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57-158; 3:55; 19:33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 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.)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经曾预告穆罕默德或伊斯兰的来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ED46-A515-4E01-A574-D9AE38A154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加章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当时，有几个青年避居山洞中，他们说：‘我们的主啊！求你把你那里的恩惠赏赐我们，求你使我们的事业完全端正’ 他们在山洞里逗留了三百年，（按阴历算）他们又加九年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Yusuf Al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他翻译的古兰经译本的注释中，说这是指在以弗所的七个年轻的基督徒，在躲避逼迫时，藏在一个山洞里，直到三百年后才醒过来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oufiq Al-Hakim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他的剧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hel Al-Kahf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把他们清楚地描写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得救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2B30-A8B7-476C-9051-21F3F8789E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早期麦加章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-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愿掘坑的人们，被弃绝，那坑里有燃料点着的火，当时，他们坐在坑边，他们见证自己对信士们的罪行，他们对于信士们，只责备他们信仰真主万能的、可颂的主，天地的国权只是他的，真主是见证万物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midulla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他译本的注释中，指这是第六世纪一个也门逼迫基督徒的犹太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Dhou Nuwa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活活的烧死了那些不愿意信犹太教的基督徒，他们是得道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奥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halif Omar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也门修建了清真寺，以示尊敬那些基督徒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Yusuf Al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也提说它是三种可能的解释之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1F2F-ECB6-4ACB-B5E4-AD7E7E4B4A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穆罕默德和当年麦加人所理解是基督徒，即那些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在以弗所（土耳其）的基督徒和六世纪在叶门被活埋而殉道的基督徒，以及在穆罕默德同时期，都还存有真正得道的基督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穆罕默德当时的阿拉伯，土耳其和叶门，既然还有真正得道的基督徒，就一定还有基督徒的经书和著作留下。如果说他们的信仰是真的，经典必然也是真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在较後的时期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典才渐渐被窜改。那么我们一定还能挖掘出一些当时的古抄本，找到其被改变的踪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考古中所发掘出来的古抄本，事实证明没有发掘出符合窜改经文的历史证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EE13-FFB1-435F-B1AA-9093D06B46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． 穆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氏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用新旧约圣经证明圣经的纯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早期麦加，古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-38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你告诉我吧！违背正道，稍稍施舍就悭吝的人，难道他知道幽玄，故认自己的行为为真理吗？难道没有人告诉过他穆萨的经典，和履行诫命的易卜拉欣的经典中所记载的事情吗？一个负罪者，不负别人的罪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麦加，犹太人对天经是熟知的。穆罕默德对它也是熟悉的，甚引用它来责备教训犹太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EFA8-5A46-4653-A83A-4A6C2D8D8A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68-17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：“我曾使他们（犹太人）散处四方，成为若干派别，他们中有善人，有次于善人的，我用种种祸福考验他们，以便他们觉悟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难道天经中没有明文教导他们只能以真理归于真主吗？难道他们没有诵习过那些明文吗？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坚持天经、谨守拜功者，我必不会使他们当中的行善者徒劳无酬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说：犹太人有一伙人，是得道的义人，这些人的善工不会徒劳。他还引用讨拉特申命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6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宰凯里雅先知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的话：警告犹太人说：真主曾让不顺命的犹太人散处四方，又用种种祸福考验他们，以便他们觉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2D6F-C708-4955-9702-F9C26E6B07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期麦加，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他们（麦加人）说：‘他怎么不从他的那里拿一种迹象来给我们呢？什么！难道没有以前的天经降临他们吗？”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期麦加，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在你（穆罕默德）之前，我没派其他人而只派遣了曾奉启示的男人们；如果你们不知道， 就应当询问有天经的那些人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aidaw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这一节的评论，他说这“以前的天经”指“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查布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安拉说：这些天经已被当时的麦加人所熟悉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F77D-82E7-404D-9B1C-81D90C0E0E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期麦加，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我确已写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查布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：大地必为我的善仆所继承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查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布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的直接引用：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“义人必承受地土，永居其上。”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我们考虑前面所引用的苏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时，根据古兰经，我们清楚地明白，古兰经（真主）也引用在穆罕默德时期的旧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查布尔（诗篇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6239-E6EA-4018-B44F-BE201D48AC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（西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2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你看他们鞠躬叩头，要求真主的恩惠和喜悦，他们的标记就在他们的脸上。。。那是他们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的譬喻。他们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的譬喻，是他们象一棵庄稼，发出支条，而他助它长大，而那支条渐渐茁壮，终于固定在苗本上，使农夫欣赏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在他的讲道与教导中，明确地使用了两处圣经的经文：一处是查布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6:5 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流泪撒种的，必欢呼收割！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二处经文提出了引支勒马可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6-2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尔撒的话语：“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神的国，如同人把种撒在地上，黑夜睡觉，白日起来，这种就发芽渐长，那人却不晓得如何生出五谷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0657-6B4C-4197-8A9A-FDB548AFF4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0" y="0"/>
            <a:ext cx="121921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.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93-9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：“一切食物对于以色列的后裔，原是合法的。除非在降示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之前以色列（的后裔）自己所戒除的食物。你说：‘你们拿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当面诵读吧，如果你们是诚实的。’此后，凡是假借真主的名义而造谣的人，都是不义的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古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我在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对他们制定以命偿命，以眼偿眼，以鼻偿鼻，以耳偿耳，以牙偿牙；－切创伤，都要抵偿。自愿不究的人，得以抵偿权自赎其罪愆。凡不依真主所降示的经典而判决的人，都是不义的。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里古兰经引用真主给穆撒的律法，是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律法的重申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出埃及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-2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说：‘若有别害，就要以命偿命，以眼还眼，以牙还牙，以手还手，以脚还脚，以烙还烙，以伤还伤，以打还打。’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88CA-EACB-4AE9-9CE0-BEC3D3AE7A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0" y="0"/>
            <a:ext cx="12360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穆氏要穆民请教犹太人基督徒证明他们的道纯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后期麦加，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假若你怀疑我所降示你的经典，你就问问那些常常诵读在你之前所降示的天经的人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后期麦加，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不通道的人们说：‘你不是使者。’你说：‘真主足以为我和你们之间的见证，认识天经的人也足以为我和你们之间的见证。’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借助讨拉特，查布尔，引支勒已存在的事实，来支持他所传讲的道。他认为自己所传的道，不是新奇的道，乃是根据先前已启示的经典。这是可以查问到的事实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7671-8FCA-4016-8007-E94AFDECB5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0" y="0"/>
            <a:ext cx="12144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帕子（一）：犹太人将妥拉（旧约）窜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2:75;78-79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他们当中有一派人，曾听见真主的言语，他们既了解之后，便明知故犯的加以篡改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你们盼望他们信你吗？他们之中有伙人，曾听到安拉的话，而在了解它以后，故意变更。他们之中有些失学的人，不知经典，只是妄想，他们不过是揣度。可叹那般人！他们亲手写经，且称：这是从安拉来的。为的是用它换取些微的代价。他们因亲手所写的遭祸了！他们因所做的遭祸了！」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:77-78 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的确他们之中有伙人，伪造天经，使你们认为是经而实非经的。并且他们自称是出自安拉，而实非出自安拉；他们明知而给安拉造谎言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1DCF-A050-45BA-A2F7-4D5E9BB117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0" y="0"/>
            <a:ext cx="12192120" cy="286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.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穆罕默德用圣经作判决证明圣经的权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历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(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西元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32)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古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5-67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假若信奉天经的人通道而且敬畏，我必勾销他们的罪恶，我必使他们入恩泽的乐园。假若他们遵守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他们的主所降示他们的其他经典，他们必得仰食头上脚下的。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历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古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7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信奉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人，当依真主在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所降示的律例而判决。凡不依真主所降示的经典而判决的人，都是犯罪的。”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些古兰经文是穆罕默德已经得着麦地拿，麦加的政治，军事，宗教掌控权。他要求犹太人照着他们的讨拉特法典，基督徒照着他们的引支勒，作为宗教，信仰，生活的依据。穆罕默德做出这样的要求，说明当时的讨拉特，查布尔，引支勒是以纯正的形式存在着。如果这些经典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当时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已经，窜改，失真，废除。穆罕默德是不会做如此的宣布。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E76A-3021-47D6-AFC4-56D211C1E8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0" y="0"/>
            <a:ext cx="12192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后一处经文临到穆罕默德时，是伊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的苏拉筵席（马以代，古兰经第五章）说犹太教徒和基督徒被告知：“你们如果不遵守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你们的主所降示你们的其他经典，你们就什么也不能成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着名评经家之一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Ishaq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把这一处经文与下面一段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联系起来，即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哈里达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ritha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儿子拉飞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fi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马功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shkum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儿子沙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lam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还有其他两个人来到穆圣这里，问道：‘哦，穆圣！你不是宣称为易卜拉欣的宗教和信仰的跟随者吗？你不是相信我们拥有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并证明它真是从真主而来的吗？’穆圣回答说：‘是的，是真的。但你们发明了新的学说，你们否定了你们和真主之间的约，你们把你们当向人类显明的事给藏了起来，所以我将自己和你们的新观点隔离。’他们说：‘对于我们来说，我们坚持在我们手上的，是我们所跟随的真理及向导；我们不相信你，也不跟随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然后伟大荣耀的真主显现说：‘哦，有经之人啊！你们如果不遵守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你们任何事也不能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6DDD-3019-4C9E-AEA3-81B48413C1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穆斯林的这段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记录是真的，那么它本身就证明穆罕默德，在伊历十年时，他还深信在麦地拿的犹太人手中存有正本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这是一个强有力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，证明伊斯兰年历的第一、二世纪，阿拉伯半岛上的穆斯林应当知道，有真实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管有没有这段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补充，许多处的古兰经见证说：在穆罕默德时期的麦加和麦地娜，存在着真实的基督徒，得道的犹太宗族，他们的讨拉特，查布尔，引支勒，与古兰经确是等同的权威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但如此，穆罕默德有时也运用它来教导或指导麦加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1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2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59A4-CEF6-4E54-AE41-667C859F0E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0" y="169920"/>
            <a:ext cx="12157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们可能会说今天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流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当时存在于阿拉伯地方的不同。那请问，正确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，在穆罕默德以後，又儿去了那里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实际上，在犹太人或基督徒的历史考古，所发掘出来的古抄本中（已发掘的古抄本，超过三万份），都没有发掘出另一本与现今的讨拉特与引支勒有别的经书。全世界只有一本讨拉特；那就是犹太教徒和基督徒所拥有的旧约圣经，还有一本被称为引支勒的书，这两本书可从基督徒那里找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CBFC-A3E2-4576-A4C5-D7293C5E1C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0" y="0"/>
            <a:ext cx="12192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8.1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祭司及文士的专业抄写圣经的流传，证明圣经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没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被窜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早期的祭司，文士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圣经呢？他们分成一组一组的人，非常小心并分工合作。由于希伯来文字有许多的点与划，只要多一个点，意思就会不同。因此，他们把工作分配成有一组人专门抄写。抄写完了，就交给另一组人去查看，点算每一行有没有抄错或少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后，再交由另一组人去查看，它们的点与划有没有记录错误。如果，抄错一个字或少写一个字，或多加，或少加一点一划，整篇的抄写就立刻要把它毁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1AFA-AF41-4251-809E-ADFAF5E739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0" y="0"/>
            <a:ext cx="12192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一天只工作几个小时，间中有几次的休息，目的是要保持自己的精神体力，在最清醒的状态里。他们将圣经抄写在清洁的羊皮卷上。每一组的人不单手要动，眼要动，口也要动，因此要开口把经文念出来，一面抄，一面把它读出声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写到「耶和华上帝」这字时，他们必须先把笔头擦干净，如果自己的手有些墨汁，就要立刻去将手洗干净。甚至如果身体出汗，就立刻要放下工作，去洗澡，免得污秽了上帝神圣的名及神圣的话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B4C2-C287-4395-80F2-E60A33F644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0" y="0"/>
            <a:ext cx="120729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一位着名的拉比（犹太的宗教司）对从事这类工作的文士这样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「你们当庄严的看待你们的工作，上帝圣言的规范在你们手中。你们所做的，乃是属天的执事。若你们在抄写上有心或无心的，减少或增加了一个字，或一点，一划，你们就是一个败坏这世界的恶者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像这样的认知，对所有的犹太人来说是平常的。世界上所有的宗教经典，在其流传的过程中，从没有像犹太文士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圣经这样的敬重，庄严看待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43CF-9771-422B-9406-F99ABA7F7A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0" y="0"/>
            <a:ext cx="121921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古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犹太经典编纂家，必须严格遵守抄写圣经的纪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会堂所用的经卷一律抄在清洁的兽皮之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是经由犹太人的手来为犹太人的会堂而预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卷必须用清洁的兽皮所制成的皮带系在一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卷中每张的兽皮，所包含的段数必须一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每一段数的宽度不得少过四十八行，也不得多过六十行；每一行长度不得超过三十个字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全本需以划行列抄写，若头三字写成时，尚未划好行列，必须作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用黑色墨水，须照同一配方制成，不得用红，绿，蓝或其它墨水书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用的范本必须是真品，抄写时不得任意修改其中的字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A6F4-BFBA-45D7-8B2E-96E462A125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-96840" y="0"/>
            <a:ext cx="12288960" cy="51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时，必须按抄本所记抄写。不可有一字，一点，一划是按自己的记忆来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每个字音之间必须有细微的空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每段间，应留有九个子音空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每一书卷之间要留出三行空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五经中第五经末尾结束时，必须划出一行空隙。其它书则不必如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之人必须穿戴犹太人的衣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前必须沐浴更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沾墨水的新笔，不能用来写上帝的名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写及神的名时，即使有王来对他说话，也不能停下理会，必须完成。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9064-47D4-44F7-BEDA-CD85204AF8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0" y="0"/>
            <a:ext cx="1219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凡不依以上规定写成的经卷，应被弃之不用，有误差的，必将它焚烧，绝不能用在会堂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固此，犹太人对文士们所抄写的抄本，非常具有信心。他们相信这些副本，就如正本一样地有权威。因为，那是非常专业的作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AB51-5BB9-4D52-834F-4A0A326B9A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0"/>
            <a:ext cx="12192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:14-15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与那些自称耶稣教徒的人立约，但他们忘掉所劝他们的一部份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有经的人哪！我的使者业已来至你们；解明很多你们在经上所隐匿的，且放弃了许多。确实光亮与清楚的经典，已经从安拉达至你们了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6:91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你们把那部天经抄录在一些散纸上，你们发表一部份，隐藏大部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A188-622B-4788-9101-6F746876EB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0" y="0"/>
            <a:ext cx="1207296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8.2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现在所流传的圣经与古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抄本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一样，证明圣经没有被窜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历史学家罗拔逊，曾统计过已发现的圣经古抄本数量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最早的新旧约全本圣经，拉丁文通俗译本圣经的手抄卷（约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0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的历史），已被发觉的有八千件，另外至少有一千卷其它更古的抄本，再加上四千卷希腊文的抄本，共计一万三千多部古圣经手抄本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历史留下了这么多的古旧抄本，成为我们后世最宝贵的遗产。我们只要把现代的译本拿来对照，就能知道现在所流传的圣经，与古代的圣经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是否有出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A91E-F11C-4390-B1B0-D32B0F367E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0" y="0"/>
            <a:ext cx="121921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森德森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.Sender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「英语文学史研究简介」一书中，曾列举三重最基本考验及编纂史料的原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参考文献的测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ibliographical test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I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文体内证测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nternal evidence test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II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文体外证测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xternal evidence test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今天所流传的圣经，已经经过这三大测验，而证实它的真实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1CA1-CBB0-426D-9392-382C850C59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0"/>
            <a:ext cx="12192120" cy="42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8.3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今天的圣经经得起历史考证，证明没被窜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东尼何德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fenton john anthony hort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毕生献身研究圣经的各种抄本，他被视为经卷考证学的权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说：「圣经中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8%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文，已被专门考究而确定是符合原本的圣经。至于其余的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％的经文，在经文批判学中看来，只限于文句排列的先后次序的不同看法，而有些争议未免太过琐碎根本无足轻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我们放下这些琐碎的争议，那么差异的范围就可以大为减少。如果我们下定决心，若不是找到绝对的证据，就不轻易论断现有经文的对错；再略去抄本拼字法不同的差异，那么圣经中真正能有一些争议的经文不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%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以此计算，那么我们就知道，真正值得研讨下去的抄本间经文的差异，只占非常非常小的部份，甚至不超过经文的千份之一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E0F9-A0D3-4A4B-BE58-A68533957E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8.4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初期的原文手抄本，印证今天圣经的可靠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赖兰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John Ryland: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最早的一份新约圣经抄本，于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间写成，现存英国曼彻斯特的赖兰图书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彻斯贝弟草纸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hester Beatty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约于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左右写成，现存在柏林博物馆，其中一部份属于美国密西根大学所有。这三大卷包含大部份的新约经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383E-AA68-4880-8572-EB74A79D80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0" y="0"/>
            <a:ext cx="121921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宝母草纸经卷手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odmer Paparu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约于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之间的作品，现存于世界文学宝母图书馆，经卷中主要是约翰福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西乃山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Sinaiticu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约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写成，现存于大英博物馆。这抄本除了缺少马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9-20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及约翰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53-8:1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外；几乎包括新约及旧约所有圣经的部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历山大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Alexandrinu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之间写成，现存于大英博物馆，分四卷装钉以希腊文写成。旧约失去十页，马太福音失去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；约翰福音失去两页，哥林多书信失去三页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几乎包括整本新旧约圣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43D1-6B50-4A78-A463-4D739288DB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0" y="0"/>
            <a:ext cx="121921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梵蒂冈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Vaticanu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5  3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写成，现存在梵蒂冈图书馆里，抄本几乎包括全本圣经。计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5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，只失掉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-4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，提摩太，提多，腓力门书及启示录一，二两章。学者认为这是最有价值的希腊文手抄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法连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Ephraem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写于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现存于法国巴黎图书馆。这是一份羊皮卷抄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贝撒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Bezae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完成，现存于剑桥图书馆中，包含同时用希腊文及拉丁文写成的四福音及使徒行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D25E-9292-4306-87A7-5161EED2DD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华盛顿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washingtone;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50-5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间完成，包括四福音，以下例顺序写出：马太，约翰，路加，马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抄本之权威性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经文批判学家格林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rold Greelee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已发现的新约圣经手抄本，其抄成日期与新约圣经原作者写成的时间日期，相隔非常短，这是一切古典文献所不能比美的。圣经原稿完成后不及 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100</a:t>
            </a: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至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400</a:t>
            </a: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年间，就有了许多的手抄本留下。这样看来，新约圣经的可靠性，岂不是显而易见的么。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3DE6-30FB-4467-B9E3-D1C9248208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8.5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早期的非原文译本印证了今天圣经的可靠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教自创始就是一个向外传的宗教。但圣经在传道的过程中，则没有太快被译成他们的文字。因此，古代的圣经手抄本，可以印证原稿的可靠性，主要原因是这些古代的译本并不太混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圣经最早的译本是由一群传道人，用叙利亚，拉丁及北非文字写成。以叙利亚文及拉丁文写成的圣经，早在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就开始出现，这与新约圣经原本写成的日期非常相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DBAA-8B62-4806-8EC5-236B143D9F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0" y="0"/>
            <a:ext cx="121921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叙利亚文通俗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yriac peshitt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eshitt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字的原意为「简单」，此乃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左右完成的标准译本。自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流传下来的此类译本尚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斐罗圣尼版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hiloxeni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约在公元后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0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时完成，是教会教父波理克为马博主教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ishop of mabug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由斐罗圣尼所译成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叙利亚文的新约圣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哈克兰叙利亚交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rkleian syriac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由哈克理的多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homas of harkle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于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1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译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B4C2-E935-4B77-9A39-A0F843F1DE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勒斯坦叙利亚文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lestinan syriac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一般学者考据此译本是在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（第五世纪左右）时译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古拉丁文译本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old la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拉丁文译本：这是第四至十三世纪时常用的语言，在第三世纪时，就已经有一种古拉丁文新约译，本在北非及欧洲流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比安西拉丁文译本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corbiensi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其中包含四福音书，约在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间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委西冷兰拉丁文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vercellensi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在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6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写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9CFE-712D-4324-8431-DEB0A5163C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1219212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按以上论篡改经文</a:t>
            </a:r>
            <a:r>
              <a:rPr b="1" lang="zh-TW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的指控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，</a:t>
            </a:r>
            <a:r>
              <a:rPr b="1" lang="zh-TW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有几个重点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当中有一派人，曾听见真主的言语，他们既了解之后，便明知故犯的加以篡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之中有些失学的人，不知经典，只是妄想，他们不过是揣度。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圣经来卖。他们这么做，不知不觉就错写圣经，误导「买，读，教」的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耶稣的教徒，他们忘掉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放弃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劝他们的一部份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们把那部天经抄录在一些散纸上，你们发表一部份，隐藏大部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DCB8-3158-4849-B5BE-AC182F0739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0" y="0"/>
            <a:ext cx="12192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拉丁拉丁文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palatinu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在第五世纪写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拉丁文通俗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atia Vulgate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柔米乃大马士革城的教区秘书，后成为罗马主教。他曾应主教之命，将新约圣经于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66-38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间将它译成通俗的拉丁文圣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北非（或埃及）文译本：考古学家布如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FF.Bruce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为第一部埃及文新约圣经，很可能在第三或第四世纪已译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沙希德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hidic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于第三世纪初业开始出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6FD0-6AD0-4285-88FB-252B2B51FB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0" y="0"/>
            <a:ext cx="12192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海里克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ahairic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编者克色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dalphe kasser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为该译本是在第四世纪左右时译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埃及文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iddle Egypti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于第四或第五世纪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8592-6703-4818-8324-9FF3D3914E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9) 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近代考古之发现，证明圣经并没有被窜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圣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ora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共有三十九卷书。在「死海古卷」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还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被发现以前，我们所拥有最完整的妥拉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特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抄本，大都属于在公元五百至九百年左右的作品。旧约的三十九卷希伯来文圣经，真正完成正典鉴定的时间，大约是在主耶稣降世前四百年左右完成。学者们相信，最早的头五卷旧约圣经（摩西五经）是于公元前一千五百年左右（距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5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）写成，距全部正典成形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大约一千二百年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原本与抄本的年代距离相当久远，到底两者之间有没有差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23D8-47E5-4097-A15D-DE03EEBE9C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47520" y="0"/>
            <a:ext cx="12144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乍看之下，旧约方面的抄本文献，不像新约圣经那么丰富，直到「死海古卷」被发现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甘扬爵士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ir kenyo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说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「一切的疑问已找到答案，基督徒可以将圣经，不论是新约或是旧约，拿在手上而可以自信且不自欺的对世人说：这是创造者上帝，启示给人类唯一正典的话语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许多人有个疑问：「今天所流传的旧约圣经，与原本的经卷，究竟有多少的差别」。旧约经卷被重复抄写这么多次，它有没有误差或抄错的可能？由所发现的死海古卷，考古学家找到了非常有力的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DE65-495D-4775-BA5F-7CB4374CD6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9.1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什么是死海古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死海古卷是由约四万个经卷碎片所组成，这些碎片拼凑成五百份大小的经卷。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4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三月间，有个牧童名叫莫罕莫德，出外找寻迷羊。为了探测羊是不是掉入山崖某个洞穴，用一块石头掷入崖洞里，此洞穴距离耶利哥城之南，约有八哩之远。出乎意料之外，他听见石子打破瓦器的声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好奇的爬入洞穴内，发现洞穴地面上摆放几个大瓦罐，里面藏有许多皮质的经卷，全用棉布包裹保存；瓦罐且有妥善密封的收藏。这些经卷后来证实已有两千年的时间（约在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左右存入此地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119B-B15C-4CE5-A2AC-11F0A9B7A0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-3240" y="-34920"/>
            <a:ext cx="121921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9.2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死海古卷的价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几百份的死海古卷的作品中，有一份非常齐全的书卷是以赛亚先知书，据考古学家的鉴定，那是公元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以前的作品。其余的作品，约完成于公元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0-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公元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各不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死海古卷的发现，所带来最大的影响力，乃是印证了于公元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以前，所抄写成的以赛亚先知书和主后一千年以后，马所礼人所抄写的以赛亚先知书的内容，两者完全没有差别与误差。这证明古代抄写圣经的文士们，抄写的精确性程度，历经一千多年都没有差别。近代考古学的印证，给马所礼人抄写希伯来人文圣经的准确性，作了鉴定的见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AE1D-779A-4FB1-A28C-5DAFE37899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0" y="0"/>
            <a:ext cx="1219212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考古学者部如斯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F.F. BRUCE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在当地昆兰的其它石穴中，我们又发现另一卷不全的以赛亚先知书，为方便，我们称它为「以赛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卷」。它若与马所礼抄本的以赛亚书比较，我们可以说它们两者间并没全什么误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鲍罗斯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Millar Burrows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在「死海古卷」一书中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圣经历经了一千多年，不断重复的抄写，我们发现两千年前的古抄本，与一千年后的抄本的内容，在对照之下却无什么变动，这实在是件神迹。死海古卷被发现，其最重要的价值与供献，乃是它能印证马所礼旧约圣经抄本（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50-9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间）的可靠性」。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2EE1-9331-46BD-9C00-D581498D43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0" y="0"/>
            <a:ext cx="1207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9.3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马所礼时代的旧约抄本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Massorectic period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所礼人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he Massorectic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有传统的意思），他们是犹太人，专门从事编辑，抄写，校订，出版，修补圣经的人士。他们出现于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百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百年间，总部设在犹太地的加利利海附近。他们所编辑，抄写，校订出来的旧约圣经，被称为马所礼经卷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ssorectic text.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所礼经卷直到今天，被公认为最标准的希伯来旧约圣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的生活与工作态度非常严谨，以极敬虔的心态来从事圣经的抄写。为了避免抄错，他们设计出一套十分复杂的系统，来防止差误的发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9B7E-B5EE-4DDD-844C-5A5220BC0D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0" y="0"/>
            <a:ext cx="12192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例如；在抄写前，甚至先计算每卷书中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每个字母出现几次，出现在第几排，每排的第一个字，中间，最后一个是什么字等等。除此以外，他们也设计许多更精细的计算法，以此来校对所抄写的经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甘扬爵士</a:t>
            </a: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Sir Frederic Kenyon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说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所礼人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设计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套有效抄写圣经的方法，在校对的时候，常着手于字数的计算。马所礼人记下经文的句数，字数，甚至有多少点与划的数目。他们也计算出每行字中间的字，与左右两边的字是什么。这些细节听起来非常琐碎。但在抄本的校对时，这些数字能立刻指出，所抄写的经文有否误差。马所礼人是真做到关心圣经的每一句，每一个字，每一点，每一划都不被抄漏的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5F01-F148-4BD2-A0F6-CB94837126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47520" y="0"/>
            <a:ext cx="12144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二十世纪的犹太教法师阿巴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bbi Aquip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一心视印制最正确的圣经为已任，他说：马所礼人正确及有效的抄写圣经，成为保存旧约圣经，处于最准确的一道防护墙，使流传于现今世界的圣经，处于不误差的地位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旧约圣经对历史有精准的记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狄威胜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Dick Wilso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其「科学化的旧约探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cientific Investigation of Old Testament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一书中，如此说道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27AE-03E4-4026-8289-A598804B5A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首先，必须明白穆罕默德说出这指控的背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由于穆氏迁都到麦地那，他希望向犹太人示好，就宣称所传的道与祖先亚伯拉罕同为一根源。由于穆罕默德所论说讨拉特（旧约）的内容，与旧约圣经某些记载的不十分吻合，他又自称为先知，犹太人知道在麦地纳的穆罕默德，已经拥有政治，军事，宗教，经济的权柄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加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鼓吹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战手段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都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敢正面挑战他的先知权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只有非常少部份的人，敢大胆的，指他说的不符合讨拉特。大部份都是胆小的，只能巧妙的避开，表面假装顺从，心却远离，甚至在转述给同胞时，扭曲默氏所说过的，并向请教他们的穆斯林，隐满真理事实，不肯告诉穆斯林，讨拉待的真正意思。目的是为了避免穆斯林把他们询问的，转告诉默罕默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4463-FC6E-4225-A558-9619FB2B64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由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件自埃及文，亚述文，巴比伦文，及摩押文之古文献中，我们发现由其音译成希伯来的国名，地名中；或者由四十位不同时代的圣经作者，由希伯来文译成以上各语文字的地名，国名等名字中，有二千三百年至三千九百年的时间，圣经中所有的地名，国名，人名从没有记错及译错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初的文士们在译这些名字时，必定是使用了最正确的语言学原则，使原名与译名间达到最接近，这充分证明他们的细心与学术精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FBE0-2849-46FC-AA1A-FE941C4B4C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根据这个有力的事实证据。狄氏总结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经过科学化的考证，这个证据说明旧约圣经的原版，经过二千年的重复抄写，仍然以十分精准的形式，遗留给今天的我们，这样的一个确据不容我们忽略。这不但证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前的原版圣经与两千年后的圣经抄本，就历史的记载来说，仍旧是百分百的准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除此之外，我们实在不得不佩服，这种能经得起科学性批判的精确性记载，这样的精确性，可说是空前绝后的，且是有目共睹的。」圣经能有这样神奇性的保守，岂不是出于上帝之使然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6348-484F-4111-B0BE-C64DDD4949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0" y="0"/>
            <a:ext cx="121921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9.4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其它考古学者的证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名考古学家尼孙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Nelson Glueck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道：「我可以非常肯定的说，至今所有考古学上的发现，还没有一项是与圣经内容相抵触的。圣经中有关历史的记载，其精确性是无可比拟的，尤其考古学的发现一一证明它们时，更是鉴定了它的精准性权威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甘扬爵士</a:t>
            </a:r>
            <a:r>
              <a:rPr b="1" lang="en-US" sz="28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Sir Frederic Kenyon</a:t>
            </a:r>
            <a:r>
              <a:rPr b="1" lang="zh-CN" sz="28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可以名正言顺的说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纪末期，那些企图破坏圣经权威的人士与学说，如今已不能站立与存留。近代考古学的种种证据，印证圣经所提到的古代民族，文化，社会的事实情况。同时加强我们对圣经，所记的历史背景有更深，更完整的新知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F705-24D7-423F-89F2-35F9CA06BA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考古学的工作至今尚未全部完成，但从已发掘的证据，足以使所有的人类，可以对圣经的精确性，产生全备信心的依据。圣经的真实性，将随着人类知识的增加，而更为显着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奥部来德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william F Albright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近代世界闻名考古学权威；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无疑的，考古学已经证明了，旧约圣经有绝对精准的历史记载。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纪期间，许多历史学家有些怀疑，圣经中历史的记载是否正确。但早期的这些怀疑学派之疑点已被一一否定。考古学上种种的新发现，一再证明圣经中许多细枝末节部分的可靠性，使学者们不得不信，圣经乃是一部查考人类历史，最好的参考资料」。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08FB-4769-4FDD-A7D6-1F2ECC2EA1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0" y="0"/>
            <a:ext cx="12192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反对圣经的人士，尤其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七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纪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后的穆斯林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当被问及所传的信息内容，为何会与旧约及新约的内容有别时，他们宣称摩西的律法（旧约圣经）及耶稣基督的福音（新约），已经被后期的人窜改过，失去它的真实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徒这样的指责，除了没有办法提供「窜改」的证据；证明犹太人或基督徒曾作过窜改。反而，在近代科学，历史预言，考古学及死海古卷的发现与鉴定之下，再次证明这些指责是绝对没有根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考古学及「死海古卷」，同时证明圣经在其流传越过一，两千年后，今天所流传的圣经与两千年前所流传的圣经，完全是一样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指犹太人及基督徒，将妥拉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Torah(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旧约圣经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及引支勒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Injial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（新约圣经）窜改的误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解帕子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，奉真主的名，现在可以移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D117-69A4-4643-959B-B0EEF0466F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0" y="0"/>
            <a:ext cx="121921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犹太人对穆罕默德的教导不认真对待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原因有三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icrosoft JhengHe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默罕默德确实用旧约讲道，讲错了圣经，又不愿接受纠正，为了避免揭开了他对旧约的错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责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让他被质疑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                                                      2.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接受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同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具备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知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职分教导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肯向穆斯林显明真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免得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出默罕默德的错误，引起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起冲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穆罕默德说：他古兰经的道，就是讨拉特的道。犹太人不敢认同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避重就轻的态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拒绝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表面表达接受默罕默德，私下在自己犹太人的圈子中就藐视，批评，拿默罕默德说过的开玩笑。被穆斯林邻居看见听见。结果就被默罕默德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责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，要求别人成为义的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却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忘了自己应当成为义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此，犹太人被认为是一群对神话语和态度，表现极其不忠实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1:34:04Z</dcterms:created>
  <dc:creator>Pastor Chan</dc:creator>
  <dc:description/>
  <dc:language>en-US</dc:language>
  <cp:lastModifiedBy>chan HK</cp:lastModifiedBy>
  <dcterms:modified xsi:type="dcterms:W3CDTF">2025-02-24T07:05:00Z</dcterms:modified>
  <cp:revision>109</cp:revision>
  <dc:subject/>
  <dc:title>Slide 1</dc:title>
</cp:coreProperties>
</file>