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2798-118B-49D4-A667-6607DBDE3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BF87-EF35-4816-8BF9-ACC71454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C997-CB73-4921-83CF-2F6E75BA6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5184-8368-4F43-A021-B1E582B4F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480A-D289-4685-95A9-33FA9951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90EF-7F0E-4DB4-B530-8A0E04A3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54F2-1812-4ECB-BA06-E6BA67C9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1AAE-C1D3-4119-94E3-A1D21CA8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C744-5EC6-4FFB-8752-4E9D21AB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CA8E-6566-40C5-86CA-80517993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A2F1-1DCD-48A4-8A9E-D4F6071B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4A3B-A0A2-413B-AE22-BDFCB9FB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E7F434-8356-4A74-86BF-E70EA59E87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0"/>
            <a:ext cx="12192120" cy="309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第三个帕子（三）：上帝，岂是三位一体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徒与回教徒，都确信上帝是独一的。但古兰经不能同意上帝是「三位一体」，也不能同意「上帝之子」的观点。认为：称真主上帝是三位一位，或者说上帝有儿子，这是非常得罪上帝的信仰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徒从始致终都坚信：上帝是独一的真神。这是新旧约圣经的教导。有位犹太宗教司问耶稣基督：旧约中最大的诫命是什么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基督回答：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第一要紧的，就是：以色列阿你们要听。主我们上帝，是独一的主。你要尽心，尽性，尽意，尽力，爱主你的上帝（可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12:29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）」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0" y="0"/>
            <a:ext cx="12072960" cy="420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旧约圣经经文对三位一体真神的展示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上帝采用复数之名字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罗欣 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ELOHIM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圣经第一个上帝的名称，却是复数的。「起初上帝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Elohim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创造天地（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；以罗欣在这里是个复数的名词，却用了单数的动词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经接着在神创造的时候展示了三位一体上帝的同工：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的灵运行在水面上。上帝说：要有光，就有了光（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2-3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注意圣经在这里将圣父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ELOHIM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圣子（道），圣灵的一起同工启示了出来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上帝创造人的时候说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说：我们要照着我们的形像，按着我们的样式造人，使他们管理海里的鱼，空中的鸟，地上的牲畜和全地，并地上一切的昆虫（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26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0" y="0"/>
            <a:ext cx="120729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论人的意志时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和华上帝说：那人已经与我们相似，能知道善恶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创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22)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论言语被变乱的时候时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（上帝）下去，在哪里变乱他们的口音，使他们的言语，彼此不通（创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: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亚古耳王的教训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谁升天又降下来？谁聚风在掌握中？谁包水在衣服里？谁立定地的四极？他名叫什么？他儿子名叫什么？你知道吗？（箴言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0: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赛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4: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「因为造你的主（复数）是你的丈夫。万军之耶和华（复数）是他的名。救赎你的以色列的圣者，他必称为全地之上帝」。在这经文中，上帝的名以复数的形式出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赛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:1: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我又听见主的声音说：我可以差遣谁呢？谁肯为我们去呢？我说：我在这里，请差遣我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传道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: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你当趁着年幼衰败的日子尚未来到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.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记念造你的主（复数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0" y="0"/>
            <a:ext cx="12192120" cy="265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以赛亚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8:16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你们要就进我来听这话，我从起初并未曾在隐密处说话，自从有这事，我就在哪里，现在主耶和华差遣我（道）和他的灵来」。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从上下文看，文中的「我」是指耶和华上帝，但这「我」来到本节，却作另一位格的谓称。因此，这是旧约另一处强烈启示，上帝是独一的，但在自显中，他不止于一个位格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神的智慧为创造之本源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和华还没有创造大地和田野，并世上的土质，我已生出。他立高天我在哪里，他在渊面的周围划出圆圈，上使穹苍坚硬，下使渊源稳固；为沧海定出界限，使水不越过他的命令，立定大地的根基。那时我在他哪里为工师，日日为他所喜爱，常常在他面前跳跃；跳跃在他为人预备可住之地，也喜悦住在世人之间（箴言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26-3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0" y="0"/>
            <a:ext cx="1228896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旧约大卫的诗篇中，圣父对圣子说话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世上的君王一齐起来，臣宰一同商议，要敌挡耶和华并他的后膏者说：我们要挣开他们的捆绑，脱去他们的绳索。那坐在天上的必发笑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那时他要在怒中责备他们，在烈怒中惊吓他们，说我已经立我的君在锡安我的圣山上了。受膏者说：我要传圣旨，耶和华曾对我说：你是我的儿子，我今日生你。你求我，我就将列国赐你为业，将地极赐你为田产。你必用铁杖打破他们，你必将他们如同窟匠的瓦器打破（诗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-9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和华对我主说；你坐在我的右边，等我使你仇敌作你的脚凳。耶和华必使你从锡安伸出能力的杖来，你要在你仇敌中掌权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…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和华起了誓言，决不后悔说：你是照着麦基洗德的等次，永远为祭司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诗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0:1-5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诗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-9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受膏者弥赛亚被神称为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的儿子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他说将来要掌管神国的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诗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0:1-5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大卫说，神称耶稣基督为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主（大卫的神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启示录独一的神以外，还有一位主（神），他要作永远的王，永远的祭司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0" y="0"/>
            <a:ext cx="1066788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新约论及三位一体的经文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⊕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于耶稣降生时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天使回答说：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灵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要临到你身，至高者的能力要荫庇你，因此所要生的圣者必称为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上帝的儿子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3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⊕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于耶稣受洗时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「耶稣（圣子）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受了洗，随即从水里上来，天忽然为他开了，他就看见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上帝的灵，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同鸽子降下，落在他身上。从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天上有声音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：这是我的爱子，我所喜悦的（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6-1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⊕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于耶稣受试探时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当时，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耶稣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被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圣灵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到旷野，受撒旦的试探（太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0" y="0"/>
            <a:ext cx="10667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⊕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于耶稣的教训</a:t>
            </a: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我（圣子）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要求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父（上帝），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父就赐给你们另外一位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保惠师（圣灵），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叫他永远与你们同在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1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「另外一位」，希腊文这字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LLOS,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指同类中的另一位之意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⊕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于耶稣的事工能力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上帝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所差来的就说上帝的话，因为上帝赐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圣灵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给他是没有限量的。父爱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子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已将万有交在他手里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3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⊕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于大使命的内容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所以，你们要去使万民作我的门徒，奉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圣父，圣子，圣灵的名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给他们施洗，凡我所教训你们的都教训他们遵守，我就常与你们同在，直到世界的未了（太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8:19-2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0" y="0"/>
            <a:ext cx="10667880" cy="478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⊕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于施给祝福时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愿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主耶稣基督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恩惠，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上帝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慈爱，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圣灵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感动，常与你们众人同在（林后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3:1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就是照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父上帝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先见被拣选，藉着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圣灵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得成圣洁，以致顺服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基督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又蒙他血所洒的人；愿恩惠平安多多加给你们（彼前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⊕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于圣灵降临前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我（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圣子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要从圣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父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哪里差保惠师来，就是从父出来真理的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圣灵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他来了，就要为我作见证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5:2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⊕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于上帝的和好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你们从前远离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上帝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人，如今在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基督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里，靠着他的血，已经得亲近了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为，我们两方面藉着他，被一个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圣灵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所感，得以进到父面前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弗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3)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-96840" y="0"/>
            <a:ext cx="1076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⊕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于主的蒙召上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使我为外邦人作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基督耶稣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仆役，作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上帝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福音的祭司，叫所献上的外邦人，因着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圣灵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成为圣洁，可蒙悦纳（罗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5:1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⊕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于主的悦纳上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上帝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将他的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灵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赐给我们，从此就知道我们是住在他里面，他也住在我们里面。父差子作世人的救主；这是我们所看见且作见证的（约一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13-1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-96840" y="0"/>
            <a:ext cx="12241080" cy="521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2. </a:t>
            </a: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论圣父，圣子，圣灵是上帝的经文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父是上帝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加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照父上帝的旨意，为我们的罪舍已，要救我们脱离这罪恶的世代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弗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愿恩惠平安从上帝我们的父和主耶稣归于你们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弗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2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凡事要奉我们主耶稣基督的名常常感谢父上帝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西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感谢父，叫我们能与众圣徒在光明中同得基业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帖前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3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在上帝我们的父面前，不住的记念你们因信心所作的工夫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帖前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3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好使你们当我们主耶稣同他众圣徒同来的时候，在我们父上帝面前，心里坚固，成为圣洁，无可指责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帖后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但愿我们主耶稣基督和那爱我们，开恩将永远的安慰，并美好的盼望赐给我们的父上帝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。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来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:9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我们曾有生身的父管教我们，我们尚且敬重他，何况万灵的父，我们岂不更当顺服他得生吗」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4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从今以后，你岂不向我呼叫：我父阿，你是我幼年的恩主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2: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愚昧的民哪，你们这样来报答耶和华吗？他岂不是你们的父，将你买来的吗？他是创造你，建立你的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47520" y="0"/>
            <a:ext cx="12144600" cy="508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子是上帝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:30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稣说：我与父原为一」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9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稣对他说：腓力，我与你们同在这么久，你还不认识我吗？人看见我，就是看见了父；你怎么说：将父显给我们看呢？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:28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我从父出来，到了世界；我又离开世界，往父哪里去」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35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父爱子，已将万有交在他手里」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21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父怎样叫死人起来，使他们活，子也照样随自己意思使人活着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26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父怎样在自己有生命，就赐给他儿子也照样在自己有生命」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:5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稣对他说：复活在我，生命也在我，信我的人虽然死了，也必复活，活着信我的人必永远不死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:2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我（耶稣）又赐给他们永生，谁也不能从我手里把他们夺去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24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我实实在在的告诉你们，那听我话，又信差我来者的，就有永生；不至于定罪，是已经出死入生了」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太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8:20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无论在哪里，若有两三个人奉我的名聚会，哪里就有我在他们当中」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0" y="-1440"/>
            <a:ext cx="11891880" cy="280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472c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保罗对教会说：「我们知道偶像在世上算不得什么，也知道上帝只有一位，再没有别的上帝（林前</a:t>
            </a: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4</a:t>
            </a:r>
            <a:r>
              <a:rPr b="0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经清楚的教导，上帝是独一的，基督徒也如此信，但到今天为止，穆斯林总误以为，基督徒敬拜三位上帝，而不是一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位早期的伊斯兰学者阿巴斯</a:t>
            </a: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bn Abbas</a:t>
            </a:r>
            <a:r>
              <a:rPr b="0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：「所谓的三位一体是指：至高的上帝，他的灵及他的儿子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然而，学识不深的穆斯林学者则认为；基督教的三位一体是指：上帝，马利亚及耶稣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0" y="0"/>
            <a:ext cx="12192120" cy="393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灵是上帝：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徒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3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彼得说：亚拿尼亚，为什么撒旦充满你的心，叫你欺哄圣灵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.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你不是欺哄人，是欺哄上帝了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林后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主就是那灵，主的灵在哪里，哪里就有自由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来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 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圣灵有话说：你们今日若听他的话，就不可硬着心，像在旷野惹他发怒，试探他的时候一样。在哪里，你们的祖宗试探我，并且观看我的作为有四十年之久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林前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只有上帝藉着圣灵向我们显明了，因为圣灵渗透万事，就是上帝深奥的事也都渗透了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创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:3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和华说：人既属乎血气，我的灵就不永远住在他里面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结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6:2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我必将我的灵放在你们里面，使你们顺从我的律例，谨守遵行我的典章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罗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1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因为凡被上帝的灵引导的，都是上帝的儿子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一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凡灵认耶稣基督是道成肉身来的，就是出于上帝的；从此你们可以认出上帝的灵来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0" y="0"/>
            <a:ext cx="12192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约翰福音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:16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中「独生子」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字在希腊原文圣经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onogenes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这字在新约中曾出现九次。三次出现在路加福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:12; 8:42; 9:3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四次在约翰福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4; 1:18; 3:16; 3:1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另一次在约翰一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9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及希伯来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:1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                                          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根据新约字义字典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Exegetical Dictionary Of New testament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给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onogenes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独生子」这字所下的定义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onogenes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由两字组成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onos,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Genos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onos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字最基本意思是：唯一的，同一类，仅仅，只有，独一的。               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Genos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意思有：同类，被生，后裔，族类，种类等含意。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Genos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字根，在新约圣经中的用法中，并没有包含「两性」交配之观念。它基本的含意是「同类」，并不重在强调「生育」的概念。故此，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onogenes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最基本的意思是：独一的同类，族类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0" y="0"/>
            <a:ext cx="10667880" cy="2671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新约福音书的用法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路加福音将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onogenes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意思定位于「仅有，独一的」，没有一次用它表达「生育」的意思。而译为「独生」之真正意思，可以从希伯来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:1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中看出来：「亚伯拉罕因着信，被试验的时候，就把以撒献上。这便是那喜欢领受应许的，将自己独生的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onogenes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中文译本）儿子献上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亚伯拉罕那时已经生有一个儿子（以实玛利）。当时，夏甲及以实马里，已被主母撒拉拒出家门；当亚伯拉罕献以撒时，以撒可说是他仅有的儿子。撒拉死后，亚伯拉罕有另娶妻子，又另外生有许多儿子。可见新约希伯来书的作者，在这里将「独生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onogenes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这字的意思定为「仅有」，而不是「育有」的意思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0" y="0"/>
            <a:ext cx="12072960" cy="265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翰福音使用「独生儿子」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onogenes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来形容耶稣时，每一次都用来形容：耶稣独特的个性；形容耶稣与父上帝独特的关系及耶稣的使命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4; 1:18; 3:16; 3:1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没有一次指「生育」的意思。按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道成了肉身（上帝的话）是唯一从父上帝而出的；因此，「道」是唯一启示，表明父上帝的渠道。「道」与「上帝」的亲密关系，只能用「子，从父而出」，才能表达两者的关系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另一方面，我们也必须留意，每逢圣经对上帝用「生（希腊文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Gennao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英文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eget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这字的时候，总是形容「关系」而已。诗篇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徒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3:33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希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例如：在旧约中，当有新的王登基，坐上王位的时候，当天这王被视为上帝所生的儿子。这就如古时的中国人，称呼皇帝为天子（上帝之子）一般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0" y="0"/>
            <a:ext cx="12072960" cy="289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新约保罗引用旧约诗篇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你是我的儿子，我今日生你」这话，来形容耶稣从死里复活以后的荣耀。故此，每逢圣经运用「上帝独生子」，来形容耶稣与上帝的关系时，从没有一次用来形容，「父子」是指上帝对耶稣的生育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上帝独生爱子之含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显明父上帝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翰福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从来没有人看见上帝，只有在父怀里的独生子将他表明出来」。 当你把一棵树的树杆，完全砍掉，只存留树根，没有树杆，没有叶子。然后让人单从树根来分辨那是一棵什么果树。绝大部分的人会分辨不出那是什么果树。在怎样的情况下，人们才容易分辨那是什么果树呢？只有当那棵树不单长出树杆，叶子，最后长出果子来，人们就马上能知道那是一棵什么树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0" y="0"/>
            <a:ext cx="121921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照样，我们对上帝的认知，面对更大的问题；除了从来没有人曾以肉眼面对面见过上帝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:4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上帝也是不容易被人认知的，因为他的道路非同我们的道路；他的意念非同我们的意念。那么我们要如何认识上帝呢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如从果子能知道树；耶稣就像树上的果子，藉着他我们认识了那不能被看见的上帝。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如知道果树的滋味，是通过品尝果子而知；照样我们藉着耶稣基督舍身救赎的爱，而尝到主恩的甘甜。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如树根与果子有不同之处，但树根与树上的果子原为一，照样耶稣基督与父上帝有位格上的不同，但在本质上原为一。（耶稣基督没有明说：我就是父，他乃是说：「我与父原为一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:3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0" y="0"/>
            <a:ext cx="121921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如果子，将隐藏起来之树根的本质表明出来；照样，主耶稣基督也把那自隐上帝之本质，给表明了出来。这就是耶稣是「上帝怀里独生爱子」的意思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上的比喻，只在说明一点：「就如外显的果子，显明隐藏树根的本质；照样上帝的独生爱子，显明了自隐上帝的本体与真像」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门徒腓力问耶稣一个问题：「求主将父显给我们看，我们就知足了」。耶稣对他说：「腓力，我与你们同在这样长久，你还不认识我么？人看见了我，就是看见了父。你怎么说：将父显给我们看呢？我在父里面，父在我里面，你不信么？我对你们所说的话，不是凭着自己说的，乃是住在我里面的父作他自己的事。你们当信我，我在父里面，父在我里面。即或不信，也当因我所作的事信我（约翰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8-1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0" y="0"/>
            <a:ext cx="12192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上帝独生的爱子」，这尊称是用来表达耶稣基督具有神性与属神的本质。耶稣基督是「道」成为肉身，虽取名为耶稣，但他的根源从恒古，从太初就有（弥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故此，「上帝的独生儿子」，与「上帝的道（话语）」是类同的意思。两者都是为将那不能见的，自隐的上帝显明出来的渠道。耶稣基督非常清楚的告诉信的人说：人看见了他，就是看见了父上帝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新约的经文也如此说：「从来没有人看见过上帝，只有在父怀里的独生子将他表明出来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 「太初有道，道与上帝同在，道就是上帝。这道太初与上帝同在。万物是藉着他造的。凡被造的，没有一样不是藉着他造的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-3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「道成了肉身，住在我们当中，充充满满的有恩典有真理。我们也见过他的荣光，正是父独生子的荣光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0" y="0"/>
            <a:ext cx="12192120" cy="393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成为上帝创造万有的渠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经教导父上帝创造了宇宙万有，他是造物之主。但圣经也教导说：耶稣基督，上帝的道，他创造了万有。万物是藉着他造的，也是为他造的（西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5-1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太初有道，道与上帝同在，道就是上帝。这道太初与上帝同在。万物是藉着他造的。凡被造的，没有一样不是藉着他造的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-3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他（耶稣）是上帝荣耀所发的光辉，是上帝本体的真像，常用他全能的命令托着万有（来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3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爱子（耶稣）是那不能看见之上帝的像，是首生的，在一切被造的以先。因为万有都是靠他造的，无论是天上的地上的，能看见的，不能看见的，一概都是藉着他造的，又是为他造的。他在万有之先，万有也靠他而立（西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5-1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0" y="0"/>
            <a:ext cx="12288960" cy="159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徒绝不会反对，只有一位创造之主的观念。因为，基督教确信只有一位创造主。父上帝创造了万有，但他是藉着他的道，即他怀里的独生子创造了万有。以上的几处圣经，清楚的说明，上帝创造了万有，但他是藉着道（独生爱子）来创造万有；万有是藉着「道」来创造，也是为「道」而创造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让我们以「太阳」来作比喻。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                                                                    以太阳的本体当作上帝，太阳的光芒为爱子（道）。太阳的本体原是距离我们非常遥远的恒星。太阳本体如何能成为我们的祝福呢？他亲自来到我们当中吗？不，它以所发出的光辉「阳光」来照耀大地，温暖大地。就如上帝与我们的距离好像非常遥远，他如何祝福我们呢？他乃是藉着他的光辉，即他的爱子来祝福我们，因为爱子是上帝荣耀所发的光辉。自隐的上帝如何带给我们温暖和爱呢？他乃是藉着爱子耶稣基督将慈爱赐给我们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0" y="0"/>
            <a:ext cx="12192120" cy="2378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穆斯林不能接受三位一体的观点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72-75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妄言真主就是麦尔彦（马里亚）之子麦西哈（弥赛亚）的人，确已不信道了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…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。妄言真主确是三位中的一位的人，确已不信道了。除独一的主宰外，绝无应受崇拜的。如果不停止妄言，那未，他们中不信道的人，必遭痛苦的刑罚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…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。麦尔彦之子麦西哈，只是一个使者，在他之前，有许多使者确已逝去了」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116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当时真主将说：麦尔彦之子尔撒（耶稣）阿，你曾对众人说过这句话吗？你们当舍真主而以我和我母亲为主宰。他说：我赞颂你超绝万物，我不会说出我不该说的话。如果我说了，那你一定知道。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0" y="0"/>
            <a:ext cx="12192120" cy="181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太阳升上水平联机，全地不论在那一个角落，都能看见它的光辉；照样，当耶稣基督为罪人代死，从死里复活，将不会到死的身体，荣耀的身体显给我们看时，证明他已经胜过死亡，他就像被放在地平联机显明是上帝的独生爱子，世人就看见上帝荣耀所发的光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人是藉着体会到太阳的光辉，而体会到太阳的存在；照样，人是藉着体会到耶稣基督的大爱，而体会到上帝的真实。严格说起来，太阳的本体不是光辉，太阳的光辉也不是太阳的本体，但太阳的本体与太阳的光辉原为一。这就如父上帝不是爱子，爱子也不是父上帝，但父上帝与爱子原为一。什么时候有太阳，什么时候就有太阳的光辉；照样，什么时候有父，什么时候就有子。太阳与其光辉同时存在；照样，父上帝与爱子也同时存在。太阳与其光辉是不能分的；照样，上帝兴爱子是不能分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0" y="0"/>
            <a:ext cx="12144240" cy="202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经见证说，上帝的道成为肉身，这道成肉的，就是那被称为麦西哈尔撒（基督耶稣）的。上帝的爱子即是上帝口里所发出来的道，所以基督徒信耶稣基督就是创造的主，是上帝。因为「太初有道，」就是上帝。就如这世界若没有了阳光，这世界就不能孕育生命；照样，人若没有上帝的儿子，就没有生命。万物是藉着「道」而造的，也是为「道」而造的。上帝的爱子，既然就是上帝的道，因此，基督徒相信上帝藉着耶稣基督创造了一切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藉着他的话（道）来创造万有，即或是古兰经也同意，上帝是藉着他的话（道）来创造万有的，因为上帝说有，就有，说命立，就立（古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47; 59; 16:40; 19:35; 40:68.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0" y="0"/>
            <a:ext cx="12192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成为上帝审判的渠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经教导说：上帝不但藉着爱子，即上帝的道来创造万有；将来上帝也要藉着爱子，即上帝的道，来审判万有。上帝把审判的事全交给爱子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徒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:4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他吩咐我们传道给众人，证明他（耶稣）是上帝所立定的，要审判活人死人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徒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:30-3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世人蒙昧无知的时候，上帝并不监察，如今却吩咐各处的人都要悔改。因为，他已经定下日子，要藉着他所设立的人（耶稣），按公义审判天下。并且叫他（耶稣）从死里复活，给万人作可信的凭据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罗马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就在上帝藉耶稣基督审判人隐秘事的日子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2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天父不审判什么人，乃将审判的事全交给子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0" y="0"/>
            <a:ext cx="12192120" cy="393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爱子是上帝救赎的渠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藉着爱子创造，藉着爱子审判，也要藉着爱子救赎。圣经教导说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上帝差他的儿子降世，不是要定人的罪，乃是要叫世人因他得救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犹大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愿荣耀，威严，能力，权柄，因我们的主耶稣基督，归与独一的救主上帝，从万古以前，并现今，直到永永远远，阿门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徒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1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除他（耶稣基督）以外，别无拯救。因为天下人间，没有赐下别的名，我们可以靠着得救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既然万物是藉着他（耶稣基督）造的，凡被造的，没有一样不是藉着他造的；论到上帝的救赎，照样，除他（耶稣基督）以外也别无拯救。因此，上帝藉着圣经启示，爱子亦是上帝救赎的渠道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0" y="0"/>
            <a:ext cx="12192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爱子是上帝慈爱的渠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不单藉着爱子创造万有，藉着爱子审判万有，藉着爱子救赎罪人，圣经说：上帝也藉着爱子爱世人。圣经教导说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上帝爱世人甚至将他的独生爱子赐给他们，叫一切信他的不至灭亡反得永生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罗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唯有基督在我们还作罪人的时候，为我们死，上帝的爱就在此向我们显明了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经文告诉我们，上帝为爱我们，为要拯救我们，只好牺牲爱子。父上帝与爱子原为一，父在子里面，子在父里面。因此，爱子降卑成为人，则等同父上帝降卑；爱子为罪人受苦受死，等于父上帝为罪人受苦受死；爱子牺牲自己，等于父上帝牺牲自己。爱子为罪人而降卑，受苦受死，牺牲；这一切牺牲显明了上帝对世人的大爱，也说明了上帝藉着爱子成为爱我们的渠道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-33480" y="115920"/>
            <a:ext cx="12072960" cy="311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所谓「上帝独生爱子」的意思等同于「道成肉身」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藉着耶稣（道成肉身）显明自己；上帝藉着耶稣（道）创造万有；上帝藉着耶稣（道成肉身）拯救世界；上帝藉着耶稣（道成肉身）向世界表明大爱；上帝藉着耶稣（道成肉身）审判万有。爱子耶稣（道）是上帝用来创造世界，拯救罪人，审判世人，显明自己，彰显大爱的渠道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古兰经被穆斯林看为上帝的话被降下来与称耶稣为上帝的话，属类同的观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新约中被译为「父怀里的独生子」之希腊字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onogenes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字。按前所诉，其基本意思为「从上帝而出」。因此，新约不论是「上帝的独生爱子」，或者「上帝的话」；其含意都属「从上帝而出」之意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样的观念对回教徒，并不是莫生的观念。因为，回教认为古兰经不是人为的，受造的，而是出自上帝的，永恒的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0" y="0"/>
            <a:ext cx="12192120" cy="265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从以下的观点可以看出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哈什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bn Hazm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告知含巴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bn Hanbal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：上帝的话（指古兰经）既是他永恒的智慧，因此它不是受造的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回教学者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Kanzal Ommal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用圣言录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Hadith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：「古兰经若不回返到它的根源之处，末世审判是不会到来的。有一天它的响声将围挠在上帝的宝座如同蜂鸣，以至上帝问：这是什么回事？古兰经亦会回答：我出于你，也必归于你，我虽被众人所念，但没有一个人愿完全照着遵行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传统的回教学者相信：「古兰经虽出于口诉，抄成经卷，被牢记在人心中，虽是外在的，被传达到人心，或记录在纸张上，却由于上帝而存在，因此它永不会与上帝分开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0" y="0"/>
            <a:ext cx="12192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回教学者认为古兰经具有两性，这就如基督徒认为耶稣基督具有两性（人性与神性）。有好些回教学者曾在如此的观点：「古兰经虽被人手写成经卷，沦落为时间，空间之物；但它的根源从太初就在上帝里面。共同的观点已经被鉴定下来，即上帝自己的话不是受造的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回教的降经节，亦要说明这点。因此，回教徒相信古兰经不只是一本宗教经卷，而是上帝永恒的智慧。他们认为古兰经不是被造的，而是永恒的，是从上帝而出的智慧，穿上亚拉伯语言，出现在人类的历史中，被穆罕默德的门徒们收集成经书。故此，古兰经被认为具有两种层面；属历史经卷的物质层面；属永恒神圣的层面。它具有物质层面的属性，即被写下成为书面文字，修定钉装成书本，会破损朽坏，虫柱火烧。属神性层面的属性，即它是上帝永恒的智慧，本于上帝，出于上帝，永远与上帝同在的非受造之物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0" y="0"/>
            <a:ext cx="12144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如所有的回教徒，相信古兰经有属地的属性，也确信古兰经有属天的属性；照样，基督徒亦相信耶稣基督被生成为人，具有属人的属性，另一方面耶稣基督亦「是道成肉身的主」。因此，他也具有上帝的属性。若回教徒对文字的古兰经能作「属地也属天」的确信，为什么要指责基督徒作同样的确信呢？耶稣基督具有从上帝而来的属天属性，这不是出于基督徒对他尊重，而作如此的宣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乃是耶稣基督多次清楚的向门徒申明；他具有属天的本质；出于上帝也必归回上帝： 「那时耶稣在殿里教训人，大声说：你们也知道我，也知道我从哪里来。我来并不是由于自己，但那差我来的是真的，你们不认识他。我却认识他。因为我是从他来的，他也是差我来的。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法利赛人听见众人为耶稣这样纷纷议论，祭司长和法利赛人就打发差役去捉拿他。于是耶稣说：我还有不多的时候和你们同在，以后就会回到差我来的哪里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:28-3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0" y="0"/>
            <a:ext cx="10667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也曾对他的门徒说：「父上帝自己爱你们，因为你们已经爱我，又信我是从父出来的。我从父出来，到了这世界，我又离开世界往父哪里去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:27-2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我们从以上的经文，可以清楚的看见，耶稣非常清楚自己的来历：他的属天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将要临到世界的救主，基督，他具有永恒的根源，这是旧约先知早有预告的事：「伯利恒以法他阿，你在犹大诸城中为小，将来必有一位从你那出来，在以色列中为我作掌权的。他的根源从亘古，从太初就有（弥迦先知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0" y="4680"/>
            <a:ext cx="12192120" cy="55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古兰经中所隐藏的三位一体论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论到耶稣基督的降生，古兰经如此说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4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171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麦西哈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·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尔撒    麦尔彦之子，只是真主的使者，只是他授予麦尔彦的一句话，只是从真主发出的精神（圣灵）；故你们当确信真主和他的众使者</a:t>
            </a:r>
            <a:r>
              <a:rPr b="1" lang="en-MY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节古兰经文说：真主向玛利亚发出神的灵和神的道，神的灵和神的道，就来到玛利亚身边，化成一位使者，对玛利亚说：上帝的能力要护庇你，你要怀孕生子。玛利亚顺服，她就以童女身份怀孕生了耶稣基督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这里我们看见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真主，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真主的灵，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真主的道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就是古兰经中的三位一体的表达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0" y="0"/>
            <a:ext cx="121921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的道，是属天的，永恒的，非受造的，这样的观点也是所有基督教会所确信的。基督教完全认同后期的回教学者把「上帝之道」当作是非受造，与上帝同本质的观点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从经卷注释学来看，严格说起来，古兰经并没有真正，清楚，肯定的说：古兰经就是上帝永恒的道，它的根源从亘古，从太初就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难怪早期曾有一名回教犹长卡立玛姆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Kalib Mahmud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主后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86-833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，召开一次的集会，反对「古兰经为非受造，具有神性」的观点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致给巴格达行政首长第三封信中，他曾如此辨说：「那些相信古兰经具有非受造，具有永恒属性的人，他们就像基督徒所相信的，马里亚之子耶稣基督，为上帝之子，非受造的，是上帝永恒的道成肉身（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hilosophy Of The Kalam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页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40-24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是同样的观点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0" y="0"/>
            <a:ext cx="121921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经有清楚的教导说，耶稣确实是创造者，成为肉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后期的穆斯林学者，开始以所谓的学术论据来辩论，宣称耶稣基督在他所传的道理中，没有清楚的说出：他自己就是创造的主成为肉身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南非的回教学者阿玛地达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Ahmad Deedat)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就是其中一位最先指出；耶稣基督并没有公开宣称：「我是上帝，你们要敬拜我」。阿玛氏这样的论据是非常危险的，因为这样的论据可以两用；一方面用来批评基督徒，也可以迷惑回教徒，让回教徒永远被拦阻，看不见耶稣基督的荣美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其实，新约的证据告诉我们，虽然耶稣没有明说：「我是真神，你们要来拜我」这句话。但当有长大麻疯及瞎眼的人被医治以后，他们来向耶稣感谢下拜时，耶稣明明的接受这样的尊荣，他并没有拒绝他们说：请不要拜我，我不是上帝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0" y="0"/>
            <a:ext cx="12192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曾说到他自己具有神性的言论。那些言论清楚到不必明说：我就是上帝；世人只要按这些言论，都可以知道耶稣在告诉听的人；他自己就是上帝；或者把自己当做是与上帝同等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是我们的论点，我们要从古兰经及圣经里，找出那些唯有上帝才能使用的属性，圣名，尊号等，用它来对证，耶稣是否曾以这原属上帝专用的尊称，用在他自己的身上，以此公开向听道的人，宣称他具有神性，具有与上帝同等的言论。耶稣在其言语中，曾用原属上帝的圣名，称号，属性，来称呼自己；皆在向世人公开说：他自己就是创造的主成为肉身。人看见了他，就是看见了上帝。在本论据中，我们会采用古兰经，但这不意味着我们同意古兰经是上帝所默示的经卷。在此论据中使用它们，是要让回教徒知道，古兰经中某些专属上帝的尊称，都曾被耶稣用上了。让我们来看这些证据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0" y="0"/>
            <a:ext cx="12288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1. 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耶稣说：我是首先的，未后的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以赛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4: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和华以色列的君，以色列的救赎主，万军之耶和华如此说：我是首先的，未后的，除我以外再没有真神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7:3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他（真主）是前无始，后无终的，是极显着，极隐微的，他是全知万物的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新约启示录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7-1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我一看见他，就仆倒在他脚前，像死了一样。他用右手按着我说，不要惧怕，我是首先的，我是未后的。又是那存活的，我曾死过，现在又活了直活到永永远远，并且拿着死亡和阴间的钥匙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我是首先的，末后的」，天上人间，没有一个受造之物，能够配用这话来称呼自己。这词句只有造物之主上帝才配用的。因为，上帝超越及掌管一切；上帝创造万有，一切始于上帝，也终于上帝。然而，当耶稣基督在升上高天，进入荣耀以后，当他向门徒约翰启示未后的事时，耶稣却用这称呼来称呼自己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0" y="0"/>
            <a:ext cx="12288960" cy="350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2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）耶稣说：他拥有天上地下一切的权柄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☆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7: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天地的国权，归他（真主）所有；他能使人生，也能使人死；他对于万事，是全能的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89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天地的国权归真主所有。真主对于万物是全能的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但以理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:13-1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我在夜间的异象中观看，看见有一位像人子的驾着天云而来，被领到恒古常在者面前。得了权柄，荣耀，国度，使各方各国各族的人都事奉他。他的权柄是永远的，不能废去的，他的国必不败坏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马太福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8:1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稣进前来对他们说：天上地下所有的权柄都赐给我了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翰福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:1-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稣说了这话，就举目望天说：父阿，时候到了，愿你荣耀你的儿子，使儿子也荣耀你。正如你曾赐给他权柄，管理凡有血气的，叫他将永生赐给你所赐给他的人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0" y="0"/>
            <a:ext cx="121921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也许伊斯兰学者会反辩说：「耶稣需要被赐于权柄，这说明在他之上还有一位更大的」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请问原本为受造之物的，如何能被提高到赐生命之主的地位？圣经也乐意为此作见证：「我耶和华凭公义召你，必搀扶你的手，保守你，使你作众民的中保，作外邦人的光，开瞎子的眼睛，领被掳的出牢狱，领坐黑暗的出监牢。我是耶和华，这是我的名。我必不将我的荣耀归给假神，也不将我的称赞归给雕刻的偶像。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为自己的缘故必行这事。我岂能使我的名被亵渎，我必不将我的荣耀归给假神（赛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2:8; 48:1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说：属上帝的荣耀不会归给不是上帝的假神。换句话，被造者，永远不会成为造物者。受造者，也永远不会由于某种因素而高升为创造者。原属创造之主，上帝的权柄，地位，全能，属性，又怎能转移给受造之物，使他被称为创造之主呢？古兰经反对「以物配主」，圣经也绝对禁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止这点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0" y="0"/>
            <a:ext cx="12288960" cy="376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基督能得一切天上地下所有的权柄，这原本是他所拥有的，诚如他对上帝祷告时所说：「父阿（真主），现在求你使我同你享荣耀，就是未有世界以先，我同你所有的荣耀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: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徒与穆斯林既然都相信，上帝不会将受造者提高成为创造者，也不会将创造者之权柄，身份，地位，尊称，名分赐给任何受造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即或耶稣及他的学生不知羞耻，定意要自欺；或者如耶稣所说：在创世以前，他就与父上帝那样，同享一切的荣耀权柄。口说无凭，耶稣必须将上帝的荣耀全能行使出来，证明他如同上帝，有权柄，有能力，能随自己的意思行使支配，管理天地的权柄；耶稣能做到吗？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47520" y="0"/>
            <a:ext cx="1214460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四福音书告诉我们，耶稣具有创造者之权柄，能随自己的意思行使支配万有的能力，做到不是一个受造之物所能作到之事；这事实证明耶稣不是一个平凡受造之人；乃是出于上帝自己作为之使然。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所行过的神迹奇事的兆头计有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行过三次叫死人复活的神迹，证明他有胜过死亡的权势（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:11-1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命令清水变成酒的神迹；证明他有掌管物质界的权柄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-1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用五个饼二条鱼喂饱五千人；证明他有繁殖创造物质的能力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章）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能命令狂风和巨浪停止；证明有管理自然界的权柄（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35-4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从人身上赶出群鬼；证明他有支配灵界的权柄（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1-2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立刻叫无花果树枯乾；证明植物界也顺服他（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:12-2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0" y="0"/>
            <a:ext cx="12192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叫一只鱼送来税银；证明动物界也顺服他（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:24-2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医治瞎眼，麻疯，哑吧，耳聋，瘫子等病；证明他有胜过所有疾病的权柄（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,2,7,8,9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章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能预知一切，包括人心的思想和意念；证明他知道一切的事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43-51; 2:24-25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能在门徒面前变形象，脸面发光如日头，衣裳洁白如光；证明他拥有上帝的荣耀（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:1-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能赦免人的罪，并立刻治好那人因罪所生的病；证明他如上帝有赦罪的权柄（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;17-2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0" y="0"/>
            <a:ext cx="1219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以上所述，耶稣所表现的能力，权柄与智慧，岂是任何一个先知所能相比的？他所表现的，远超过一个君王，先知，圣人所能承受的。以前没有，以后也不会有。因为那是：「道成了肉身，住在我们中间，充充满满的有恩典，有真理，我们也见过  的荣光，正是父独生子的荣光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基督曾对他的门徒说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腓力，我与你们同在这样长久，你还不认识我么？人看见了我，就是看见了父（真主）。你怎么说：将父显给我们看呢？我在父里面，父在我里面，你不信么？我对你们所说的话，不是凭着自己说的，乃是住在我里面的父，作他自己的事。你们当信我，我在父里面，父在我里面。即或不信，也当因我所做的事信我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约翰福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9-1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2"/>
          <p:cNvSpPr/>
          <p:nvPr/>
        </p:nvSpPr>
        <p:spPr>
          <a:xfrm>
            <a:off x="0" y="0"/>
            <a:ext cx="121921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是真主的使者，道与灵成为肉身：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　　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是真主非受造之道， “是真主的使者 （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asul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，是他授予麦尔彦的话（道）（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Kalimatuhu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，是从神发出的灵（精神） （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uh-u minh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” （古兰经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1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为甚么唯有尔撒得着古兰经给他这样的见证：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从真主口出的话（ 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Kalimatuhu 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 这个称谓呢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还被称为 “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从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发出的一句话 （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Kalimatim min hus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（古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∶45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“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从真主发出的话 （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Kalimatim minallaahi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” （古兰经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∶39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0" y="0"/>
            <a:ext cx="12192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说：他是始，是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2:13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我（真主）确有后世和今世的主权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以赛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1:4; 44: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谁曾行及做成这事，从起初宣召历代呢？就是我耶和华，我是首先的，也是未后的同在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和华以色列的君王，以色列的救赎主万军之耶和华如此说：我是首先的，我是未后的；除我以外，再没有真神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新约启示录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:6-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他又对我说，都成了。我是阿拉法，我是俄梅加，我是初，我是终。我要将生命泉的水白白赐给那口渴的人喝。得胜的，必承受这些为业。我要作他的上帝，他要作我的儿子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新约启示录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2:12-13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看哪，我（耶稣）必快来，赏罚在我，要照各人所行的报应他。我是阿拉法，我是俄梅加，我是首先的，我是未后的，我是初，我是终」。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2:2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证明这事的说；是的，我必快来。阿门。主耶稣阿，我愿你来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0" y="0"/>
            <a:ext cx="121921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翰见证说：他能得着一切关于人类末世来临的启示，是出于耶稣基督；他是被的羔羊，唯有他配揭开天上的印，将人类末世的奥秘解开（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耶稣告诉约翰，他就是阿拉法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LFA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俄梅加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OMAGA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希腊文字中第一个字母及最后一个字母），是首先及未后的，是初，是终，他还要第二次再来。这样的尊称是单属上帝的，然而耶稣基督却用上这些称呼。不但如此，耶稣也对约翰说；他要作得胜者的上帝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说：他是复活者，是赐生命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0:6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他（安拉）能使人生，能使人死。当他判决一件事的时候，他只对那件事说：有，它就有了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0:6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他确是永生的，除他外，绝无应受崇拜的，故你当祈祷他。诚心顺服他。一切赞颂，全归真主，全世界的主」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0" y="0"/>
            <a:ext cx="12192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申命记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2:39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你们如今要知道我，唯有我是上帝，在我以外没有并无别神。我使人死，我使人活，我损伤，我也医治。并无人能从我手中救出来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翰福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25-2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稣说：我实实在在的告诉你们，时候将到如今就是了，死人要听见上帝儿子的声音，听见的人就要活了。因为父怎样在自己有生命，就赐给他儿子也照样有生命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翰福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:25-2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稣对他说，复活在我，生命也在我。信我的人虽然死了，也必复活。凡活着信我的人必永远不死。你信这话么？」                                          约翰福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父怎样叫死人起来，使他们活着，子也照样随自己的意思使人活着。父不审判什么人，乃将审判的事全交与子」。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因为父的意思是要叫一切见子而信的人得永生，并且在末日我要叫他复活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启示录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7-1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他用右手扶着我说；不要惧怕，我是首先的，未后的。又是那存活的。我曾死过，现在又活了，直活到永永远远，并且拿着死亡和阴间的销匙」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0" y="0"/>
            <a:ext cx="12192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5.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说：他是无所不在的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1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东方和西方都是真主的，无论你们转向哪方，哪里就是真主的方向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7: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无论你们在哪里，他是与你们同在的，他是鉴查你们行为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以赛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1:4; 44: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谁曾行及做成这事，从起初宣召历代呢？就是我耶和华，我是首先的，也是未后的同在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马太福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8:2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稣说：无论在哪里，有两三个人奉我的名聚会，哪里就有我在他们中间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马太福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8:2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凡我所吩咐你们的，都教训他们遵守，我就常与你们同在，直到世界的未了」。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翰福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2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稣回答说：人若爱我，就必遵守我的道，我父也必爱他。并且我们要到他哪里去，与他同在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启示录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2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看哪，我站在门外叩门。若有听见我声音就开门的，我要进到他哪里去。我与他，他与我一同坐席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0" y="0"/>
            <a:ext cx="12192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6.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说：他是听祷告的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8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如果我的仆人请问我的情状，你就告诉他们；我确是临近的，确是答应祈祷者的祈祷的。当他们祷告我的时候，教他们答应我，信仰我，以便他们遵循正道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诗篇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5: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听祷告的主阿，凡有血气的都要来就你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诗篇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2:1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和华垂听穷人的祷告，并不藐视他们的祈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王上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:3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和华上帝对他说，你向我所祷告祈求的，我都应允了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翰福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13-1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你们无论奉我（耶稣）的名，无论求什么，我必成就，叫父因儿子得荣耀。你们若奉我的名求什么，我必成就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翰福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:23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我（耶稣）实实在在的告诉你们，你们若向父求什么，他必因我的名赐给你们。向来你们没有奉我的名求什么，如今你们如此求就必得着，叫你们的喜乐可以满足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0" y="0"/>
            <a:ext cx="12192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7.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说：他是世界的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诗篇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9: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和华阿，他们必在你脸上的光里行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以赛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0:19-2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日头不再作你白昼的光，月亮也不再发光照耀你。耶和华上帝却要作你永远的光，你上帝要成为你的荣耀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为耶和华必作你永远的光。你悲哀的日子也完毕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4:3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真主是天地的光明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.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即使没有点火也几乎发光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----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光上加光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----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引导他所意愿者走向他的光明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翰福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1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稣又对众人说；我是世界的光。跟从我的就不在黑暗里走，必要得着生命的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翰福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: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稣说；我在世界的时候，就是世界的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启示录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2: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不再有黑夜，他们也不用灯光日光。因为主上帝要光照他们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.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0" y="0"/>
            <a:ext cx="12192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8.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说：他有赦罪的权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民数记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1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和华不轻易发怒，并有丰盛的慈爱，赦免罪孽和过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弥迦先知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:1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和华阿，有何神像你赦免罪孽，饶恕你产业之余民的罪过，不永远怀怒，喜爱施恩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3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做了羞耻或自欺的时候，记念真主，且为自己的罪恶而求饶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除真主外，谁能赦免罪恶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马可福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稣看见他们的信心，就对瘫子说：小子，你的罪赦免了。有几个文士坐在哪里，心里议论说：这个人为什么这样说呢？他说僭妄的话了。除了上帝以外，谁能赦罪呢？耶稣心中知道他们心里这样议论，就说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但要叫你们知道人子在地上有赦罪的权柄，就对瘫子说：我吩咐你起来，拿你的褥子回家去罢。那人就起来，立刻拿着褥子，当众人的面前出去了。以致众人惊奇，归荣耀与上帝说：我们从来没有见过这样的事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0" y="0"/>
            <a:ext cx="12072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2560" indent="-525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9.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说：他就是真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诗篇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5: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和华阿，求你以你的真理引导我，教训我。因为你是救我的上帝，我终日等候你」。诗篇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6:1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和华阿，求你将你的道路指教我，我要照你的真理行。求你使我专心敬畏你的名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:11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真主是超绝万物的，宰制众生的（王），体用真实的（真理）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19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难道你没有看见，真主已本真理而创造天地吗？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.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翰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稣说：我就是真理，道路，生命。若不若藉着我 没有人能到父哪里去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218282"/>
                </a:solidFill>
                <a:latin typeface="Microsoft JhengHei"/>
                <a:ea typeface="Microsoft JhengHei"/>
              </a:rPr>
              <a:t>约</a:t>
            </a:r>
            <a:r>
              <a:rPr b="1" lang="en-US" sz="2800" spc="-1" strike="noStrike">
                <a:solidFill>
                  <a:srgbClr val="218282"/>
                </a:solidFill>
                <a:latin typeface="Microsoft JhengHei"/>
                <a:ea typeface="Microsoft JhengHei"/>
              </a:rPr>
              <a:t>14:6</a:t>
            </a:r>
            <a:r>
              <a:rPr b="1" lang="zh-CN" sz="2800" spc="-1" strike="noStrike">
                <a:solidFill>
                  <a:srgbClr val="292f33"/>
                </a:solidFill>
                <a:latin typeface="Microsoft JhengHei"/>
                <a:ea typeface="Microsoft JhengHei"/>
              </a:rPr>
              <a:t>  </a:t>
            </a:r>
            <a:r>
              <a:rPr b="1" lang="zh-CN" sz="2800" spc="-1" strike="noStrike">
                <a:solidFill>
                  <a:srgbClr val="292f33"/>
                </a:solidFill>
                <a:latin typeface="Microsoft JhengHei"/>
                <a:ea typeface="Microsoft JhengHei"/>
              </a:rPr>
              <a:t>耶稣说「我就是道路、真理、生命；若不藉著我，没有人能到父那里去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-96840" y="0"/>
            <a:ext cx="12288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0.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说：他是将来临审判的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诗篇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: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和华向众民施行审判。耶和华阿求你按我的公义和我心中的纯正判断我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赛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3:2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因为，耶和华是审判我们的，耶和华是给我们设立律法的，耶和华是我们的王。他必拯救我们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9:21-23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绝不然，当大地震动复震动，你的主（的命令），和排班的天神，同齐来的时候。在那日，火狱将被拿来，在那日人将觉悟，但觉悟于他有何裨益呢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撒迦利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4-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那日，他的脚必站在耶路撒冷前面朝东的橄榄山上。这山必从中间分裂，自东至西，成为极大的山谷。山的一半向北挪移，一半向南挪移。你们要从我山的谷中逃跑，因为山谷必延到亚萨。你们逃跑必如犹大王乌西亚王年间人逃避大地震一样。耶和华我的上帝必降临，有一切圣者同来。那日必没有光，三光必退缩。那日必是耶和华所知道的。不是白昼也不是黑夜，到了晚上才有光明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0" y="0"/>
            <a:ext cx="12011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马太福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4:29-3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说：「那些日子的灾难一过去，日头就变黑了，月亮也不放光，众星要从天上堕落，天势都要震动。那时，人子（指耶稣基督）的兆头要显在天上，地上的万族都要哀哭。他们要看见人子有能力，有大荣耀的，驾着天上的云降临。他要差遗使者，用号筒的大声将他的选民，从四方，从天这边到天那边，都招集了来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马太福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5:31-4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说：「当人子（耶稣）在他的荣耀里，同着众天使降临的时候，要坐在他荣耀的宝座上。万民都要聚集在他面前，他要把他们分别出来，好像牧羊的分别绵羊山羊一般。把绵羊安置在右边。于是王要向那右边的说：你们这蒙我父赐福的，可以来承受那创世以来为你们所预备的国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王又要向那左边的说：你们这被咒诅的人离开我，进入那为魔鬼和他的使者所预备的永火里去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0" y="0"/>
            <a:ext cx="12144240" cy="333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I</a:t>
            </a:r>
            <a:r>
              <a:rPr b="1" lang="zh-CN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）基督教的上帝观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说：上帝是「天父」；上帝被尊为「天父」，最基本的意思是：上帝是一切的创造者，万物从他而出；人类也从他而出，他供应一切，因此他被尊为天父。就如你从你从你爸爸而出，所以你称他作「父」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.1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上帝原是不可知的：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首先必须说明，上帝是不能被完全了解的。意思是说：除上帝自己，没有能完全了解他的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旧约约伯记</a:t>
            </a:r>
            <a:r>
              <a:rPr b="1" lang="en-US" sz="30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11:7-9</a:t>
            </a:r>
            <a:r>
              <a:rPr b="1" lang="zh-CN" sz="30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：「你考察，就能测透上帝么？你岂能完全测透全能者么？他的智慧高过天，你还能做什么？深于阴间，你还能知道什么？其量，比地长，比海宽」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罗马书</a:t>
            </a:r>
            <a:r>
              <a:rPr b="1" lang="en-US" sz="30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11:33</a:t>
            </a:r>
            <a:r>
              <a:rPr b="1" lang="zh-CN" sz="30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「深哉，上帝丰富的智慧和知识。他的判断，何其难测，他的踪迹，何其难寻」。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0" y="0"/>
            <a:ext cx="12192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1.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说：他是万王之王，万主之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回教的观点：「阿布户莱拉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bu Huraira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告知上帝的使者曾如此说：在真主的眼中，最讨厌听见的词句是万王之王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ALIK AL-AMALIK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万王之王）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.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为除了真主以外，没有王，唯有他是最崇高的，最荣耀的。（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AHI MUSLIM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338, 5339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但以理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4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当那列王在位的时候，天上的上帝必另立一国，永不败坏，也不归别国的人，却要打碎减绝那一切国，这国必存到永远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诗篇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: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唯有耶和华坐着为王直到永远。他已经为审判设摆他的宝座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申命记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:1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摩西说：「因为耶和华你们的上帝，他是万神之神，万主之主， 至大的上帝，有能力，大而可畏，不以貌取人，也不受贿赂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0" y="0"/>
            <a:ext cx="1219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翰福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8:36-3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稣回答说：我的国不属这世界。我的国若属这世界，臣仆必要战争，使我不至交给犹太人。只是我的国不属这世界。彼拉多就对他说：这样你是王么？你说我是王。我为此而生，也为此到世间，特为给真理作见证。凡属真理的，就听我的话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启示录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:1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他们与羔羊（上帝的羔羊，耶稣）战争，羔羊必胜过他们，因为羔羊是万主之主，万王之王。同着羔羊的，就是蒙召被选有忠心的也必得胜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启示录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9:11-1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我观看，见天开了，有一匹白马，骑在马上的，称为诚信真实。他审判争战都按公义。他的眼睛如火焰，他头上戴着许多冠冕。又有写着的名字，除他自己以外没有人知道。他穿着溅了血的衣服。他的名称为上帝之道。在天上的众军，骑着白马，穿着细麻衣，又白又洁跟随他。有利剑从他口中出来，可以击杀列国。他必用铁杖辖管他们。并要踹全能上帝烈怒的酒酢。在他衣服和大腿上，有写着万王之王，万主之主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0" y="0"/>
            <a:ext cx="12072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2.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基督接受受造之物的敬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回教学者阿玛地达问说：「耶稣基督没有说：我就是上帝，你们当敬拜我」，为何基督徒要把耶稣基督当上帝来敬拜呢」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这样做其中的一个理由是：耶稣在肉身时，他已经接受世人对他的敬拜。而且耶稣基督非常清楚，只有上帝才配接受世人的敬拜。「耶稣说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为经上记着说；当拜主你的上帝，单要事奉他（马太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;9-1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上这节经文的内容是耶稣回答撒旦的话说：不论任何受造之物，是高是低，是尊贵或卑微，有功或无劳；都不能接受敬拜。因为，敬拜只能归给独一的真神上帝。耶稣基督清楚知道，只有上帝自己才配接受敬拜。然而，耶稣基督自己却多次接受受造物对他的敬拜。以下，我们将提出圣经中许多的例子与经文证明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基督接受天使的敬拜（来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基督接受东方博士的下拜（太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0" y="0"/>
            <a:ext cx="12192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基督接受长大麻疯得医治者的敬拜（太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基督接受管会堂之人的下拜（太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:1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基督接受叙利亚腓尼基妇人的下拜（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5:2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基督接受门徒雅各布及约翰的母亲的敬拜（太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:2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接受群鬼（堕落天使）俯伏下拜（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3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2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基督接受蒙医治瞎子的敬拜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:3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基督接受门徒多马的俯伏下拜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:20-2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接受门徒集体的敬拜（太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33; 28:9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-96840" y="0"/>
            <a:ext cx="122889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小结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哉，耶稣基督曾公开的，且多次的，采用旧约圣经及古兰经中，用来尊荣全能上帝圣名之尊称，雅号来称呼自己。这些原属上帝特殊的尊称，并不是耶稣的门徒私下为尊荣他，而给他套上的。乃是耶稣基督在论说自己时，出于他自己的口。因此，耶稣的确宣称他自己具有与上帝同等的圣名，属性，荣耀，尊称，地位与权柄。没有一个耶和华上帝的先知，或天使敢如此使用这些称呼。从这些尊称的自称中，我们知道耶稣基督就是创造的主成为肉身。因此，回教徒必须接受的事实是：耶稣基督在论说自己时，使用了只有上帝才能使用的尊称雅号，证实了耶稣基督的确在新约圣经中，宣称自己是创造的主，而且还公然的接受世人对他的俯伏下拜。这是不容否认的事实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0" y="0"/>
            <a:ext cx="12192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圣灵的神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从以上的论据中，我们看见圣子耶稣，是圣父上帝藉他创造，审判，救赎，彰显慈爱的渠道，因为圣子耶稣与父上帝原为一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:3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圣经也将圣子耶稣所作，所是的尊称，归给圣灵（上帝的灵）。基督教从已启示真理中认识，圣灵，或上帝的灵，亦如耶稣基督那样，与上帝原为一。故此，圣灵也被尊为上帝。以下，我们要提出圣经为真理的圣灵（上帝的灵）所作的见证，从中而领悟圣父上帝，圣子耶稣，圣灵原是同尊，同荣，同体，同工，原为一的真神上帝：</a:t>
            </a: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灵亦是创造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创世记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-3;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起初上帝创造天地。地是空虚混沌，渊面黑暗。上帝的灵（圣灵）引行在水面上。上帝说（上帝的道，圣子）：要有光，就有了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创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和华上帝用地上的尘土造人，将生气（原文作灵）吹在他鼻孔里，他就成了有灵的活人，名叫亚当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0" y="0"/>
            <a:ext cx="12288960" cy="22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伯记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3: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上帝的灵造我，全能者的气使我得生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诗篇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4:3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你发出你的灵，他们更受造，你使地面更换为新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灵亦是审判的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:7-1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然而，我（耶稣）将真情告诉你们，我去是与你们有益的。我若不去，保惠师（圣灵）就不到你们这里来。我若去就差他来。他既来了，就要叫世人为罪，为义，为审判，自己责备自己。为罪是因为他们不信我；为义是因为我往父哪里去，你们就不再见我；为审判是因这世界的王受了审判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0" y="0"/>
            <a:ext cx="122889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灵亦是救赎的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罗马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因为赐生命圣灵的律，在基督里释放了我们，使我脱离罪和死的律了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灵亦是上帝的慈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弟兄们，我藉着我们主耶稣基督，又藉着圣灵的爱，劝你们与我一同竭力，为我祈求上帝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明白每一个基督徒都得到父上帝的爱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21; 16:27;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弗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4;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帖后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6;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来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: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圣子之爱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加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20;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弗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9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9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和圣灵之爱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灵具有位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经启示上帝的圣灵是具有位格的，一如圣父与圣子皆有位格，所以圣灵也包含上帝一切的属灵，本质与位格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有心思（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ind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鉴察人心的，晓得圣灵的意思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Mind)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因为，圣灵是照着上帝的旨意，替圣徒祈求（罗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2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0" y="0"/>
            <a:ext cx="12192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灵具有意志（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will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这一切都是这位圣灵所运行，随自己的意思分给各人的（林前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:1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灵具有自己的计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圣灵既然禁止他们在亚细亚讲道，他们就经过弗吕家，加拉太一带地方，到了每西亚的边界，他们想要往庇推尼去，耶稣的灵却不许（徒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:6-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灵对人说话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圣灵对腓力说：你去贴近那车（徒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29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彼得还思想那异象的时候，圣灵向他说，有三个人会来找你（徒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:19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圣灵向众教会所说的话，凡有耳的就应当听（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7; 11;17;29; 3:6;13;2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灵会担忧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不要叫上帝的灵担忧，你们原是受了他的印记，等候得赎的日子来到（弗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3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0" y="0"/>
            <a:ext cx="12192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灵参透万事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只有上帝藉着圣灵向我们显明了。因为圣灵参透万事，就是上帝深奥的事也参透了（林前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灵禁止人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圣灵既禁止他们在亚西亚讲道，他们就经过弗吕家，加拉太一带的地方，到了每西亚的边界边界，他们想要往庇推尼去，耶稣的灵却不许（徒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:6-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圣灵的属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无所不在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我往哪里去，躲避你的灵（指上帝的灵），我往哪里逃，躲避你的面（诗篇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39: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无所不知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灵参透万事，就是上帝深奥的事也参透了。除了在人里头的灵，谁能知道人的事？照样，除了上帝的灵，也没有知道上帝的事的（林前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0-1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0"/>
            <a:ext cx="12072960" cy="374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.2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上帝是独一的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教的威敏斯特信仰问答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 </a:t>
            </a:r>
            <a:r>
              <a:rPr b="1" lang="en-US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Westminster Catechism</a:t>
            </a:r>
            <a:r>
              <a:rPr b="1" lang="en-US" sz="1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)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给上帝所下的信仰定义，可以代表普世基督教徒，对上帝所持的共同信仰观点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「只有一位，独一永活的真神，创造天地万物的上帝，他是至善至美无限的存在，纯正的灵，无形，无肉身，无实体，无欲，不变，不朽，永存，无可测度，全能，全知，至善，无上自由，无上的绝对；为着自己的荣耀，随自己不变和绝对正确的旨意行事；至爱，恩惠，怜恤，恒久忍耐，丰盛的仁慈与真实，赦免过犯，邪恶和罪孽；凡恒心寻求他的，必得奖赏；同时，他的审判是无上公正，极其可畏；恨恶罪恶，又赦免过犯</a:t>
            </a:r>
            <a:r>
              <a:rPr b="1" lang="en-US" sz="30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0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」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0" y="0"/>
            <a:ext cx="122889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永恒的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何况基督藉着永远的灵，将自己无瑕无疵献给上帝，他的血岂不更能洗净你们的心，除去你们的死行，使你们事奉那永生上帝么（来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:1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称为上帝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使徒彼得说：亚拿尼亚，为什么撒旦充满了你的心，叫你欺哄圣灵，你不是欺哄人，是欺哄上帝了（徒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3-4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圣灵与圣父，圣子同尊同荣，同格，同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父，圣子，圣灵参与创造之工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创世记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-3;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起初上帝（圣父）创造天地。地是空虚混沌，渊面黑暗。上帝的灵（圣灵）运行在水面上。上帝说（上帝的道，圣子）：要有光，就有了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基督受洗时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受了洗，随即从水里上来，天忽然为他开了他就看见上帝的灵彷佛鸽子降下，落在他身上。天上有声音说：这是我的爱子，我所喜悦的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6-1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119160" y="0"/>
            <a:ext cx="12169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大使命的宣告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所以你们要去，使万民作我的门徒，奉圣父，圣子，圣灵的名给他们施洗。凡我所吩咐你们的，都教训他们遵守，我就常与你们同在，直到世界的未了（太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8:19-2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上帝永恒救赎计划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就是照圣父上帝的先见蒙拣选，藉着圣灵得成圣洁以致顺服耶稣基督，又蒙他血所洒的人，愿恩惠平安，多多的加给你们（彼前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新约的祝福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愿主耶稣基督的恩惠，上帝的慈爱，圣灵的感动和交通，常与你们众人同在，至到世界的未了（林前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2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0" y="0"/>
            <a:ext cx="12192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从圣灵的名字与尊称看圣灵的神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上帝的灵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林前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岂不知道你们的身体就是上帝的殿，上帝的灵要住在你们里头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基督的灵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如果上帝的灵住在你们心里一你们就不属肉体，乃属圣灵了。人若没有基督的灵，就不是属基督的（罗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9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永远的灵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何况基督藉着永远的灵，将自己无瑕无疵献给上帝，他的血岂不更能洗净你们的心，除去你们的死行，使你们事奉那永生的上帝么（来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:1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真理的圣灵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只等真理的圣灵来了，他要引导你们明白一切的真理，因为他不是凭自己说的，乃是把他所听见的都说出来，并要把将来的事告诉你们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;13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0" y="0"/>
            <a:ext cx="12192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施恩的灵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何况人践踏上帝的儿子，将那使他成圣之约的血当作平常，又亵慢施恩的圣灵，你们想，他要受的刑罚该怎样的加重呢（来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:29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上帝荣耀的灵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你们若为基督的名受辱骂，便是有福的，因为上帝荣耀的灵，常住在你们身上（彼前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1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赐生命的圣灵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因为，赐生命的圣灵的律，在基督耶稣里面释放了我，使我脱离罪和死的律了（罗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智慧启示的灵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求我们主耶稣基督的上帝，荣耀的父，将那赐人智慧启示的灵，赏给你们，使你们真知道他（弗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0" y="0"/>
            <a:ext cx="122889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保惠师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「但保惠师，就是父因我的名，所要差来的圣灵，他要将一切的事指教你们，并且要叫你们想起我对你们说过的一切话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2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善的灵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按圣善的灵说，因从死里复活，以大能显明是上帝的儿子（罗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儿子之灵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你们所受的不是奴仆的心，仍旧害怕；所受的乃是儿子的灵，因此我们呼叫阿爸，父（罗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;1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主耶和华上帝的灵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我也不再掩面不顾他们，因我已将我的灵，浇灌以色列家，这是主耶和华说的（结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7:29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0" y="0"/>
            <a:ext cx="1219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结论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创造者上帝的本质是「三位一体」的名称，虽然没有明文的记载在圣经里，但三位一体的观念，却是圣经的教义。我们从圣经的许多经文里看见：创造的上帝只有一位，他是独一的真神；但独一上帝的神性，曾经同时显于「圣父，圣子，圣灵」三位格中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圣父，圣子，圣灵」都是圣经的名称，用来启示上帝神圣永恒的关系。上帝永远都是三而一的上帝，即「圣父，圣子，圣灵」。这是圣经所启示的真理，不是基督徒自己发明的道理，也不是后人因为要记念什么崇高的供献，而发明的道理。故此，基督教会所信的「三位一体」的上帝观，是基于众先知在圣经里的启示，而不是基于入为推理的结果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0"/>
            <a:ext cx="12072960" cy="506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2)</a:t>
            </a: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上帝是独一的，自显为「三位格」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教会传统对三位一体描述：「圣父，圣子，圣灵」的内在关系。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.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圣子是从圣父而出的永恒「后代」；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圣灵亦是圣父与圣子永恒的呼吸与活动。这论点在主后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2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尼西亚会议定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错误的三一神观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传统上，世人对理解基督教所持的「三位一体」观，常有三种严重的错误观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误以为是指「三神论」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误以为是指；上帝包括三位分离的上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形态论上的错误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误以为是指只有一位上帝，却藉着三种不同的形态，角色启示自己。如上帝在旧约时带上圣父的「面具」，新约时带上圣子的面具，教会时代带上圣灵的「面具」出现。这不是正统基督教的观点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-96840" y="0"/>
            <a:ext cx="12096720" cy="192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54f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正确的三一神观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介入人类历史中，藉着新旧约圣经的启示，向世人自显：创造天地的主是独一的真神，除他以外，没有别神。创造的上帝，在他的自显中，启示给世人而得知；创造的上帝其位格，神性，荣耀，尊荣，全能全知，永恒，无限，属性，乃彰显于圣父，圣子，圣灵三个位格里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父，圣子，圣灵，虽各自有位格，却是同尊，同荣，同工，同质，同源，合一，同心思，同意念，同性，三而一，永不分离，永不独断。圣父在圣子里面，圣子在圣父里面，圣灵从圣父，圣子而出，圣灵也是圣父，圣子的灵。圣父是计划创造，救赎，赐生命的独一主宰；圣子，圣灵则是计划创造，救赎，赐生命的独一主宰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6T11:42:57Z</dcterms:created>
  <dc:creator>Pastor Chan</dc:creator>
  <dc:description/>
  <dc:language>en-US</dc:language>
  <cp:lastModifiedBy>chan HK</cp:lastModifiedBy>
  <dcterms:modified xsi:type="dcterms:W3CDTF">2025-02-25T03:12:52Z</dcterms:modified>
  <cp:revision>39</cp:revision>
  <dc:subject/>
  <dc:title>Slide 1</dc:title>
</cp:coreProperties>
</file>