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FEF-9BF3-47BE-B05B-C882C605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907-ADFE-4666-92B8-0ED40ACE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2DB-10E4-4C85-A973-DA30D95C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A2B-7926-4A7D-A3C3-284F3BBB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7AC-EF68-4A82-A1B3-3B50779F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E7C-7215-4124-9C30-27A78B1B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5FB-F4AA-4E59-8D78-CC61B25D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68F-F88F-415D-8364-FB945F13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292-4801-4628-AD9A-3A026718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BF6-A73C-48DA-A604-B2F843A0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0B7-E8BD-4EC8-B244-32B71264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87E-28D1-4081-929A-446BD60B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2876-2B9B-4C5C-A92F-A9F41DCE7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与圣经，同证明尔撒麦西哈是道成肉身的救世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是真主赐给世人的迹像与恩惠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Rahman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5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我尔撒奉命而来）证实在我之前降示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已昭示你们从真主发出的一种迹象，故你们应当敬畏真主，应当服从我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启示说： 尔撒是祂赐给世人必须服从的迹象。是真主的什么迹象？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1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的主说：这对于我（安拉）是容易的。我要以他（ 尔撒）为世人的迹象，为从我发出的恩惠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这是已经判决的事情。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19160" y="0"/>
            <a:ext cx="1188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还有一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经文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是对尔撒做出非常特殊的谓称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34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是麦尔彦的儿子尔撒，这是你们所争论的真理之言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Kalima)=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理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就这真理是加以肯定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,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太初有道，道与神同在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道就是神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道成了肉身，住在我们中间，充充满满的有恩典有真理，我们也见过他的荣光，正是真主独生子的荣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118569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启示，尔撒是创造的道成为肉身。我们必须明白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成肉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肉身成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不一样的。这就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成为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成为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两回事。穆斯林和基督徒都不能接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成为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这是以物配主。但这不是意谓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能成为人。因为在真主，凡是祂都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古兰经乃真主的「道成经书」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相信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乃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「道成肉身」，属类同的观念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古兰经不是人为的，受造的，是出自上帝的，永恒的：哈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z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告知含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nb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真主的话（指古兰经）既是他永恒的智慧，因此它不是受造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19160" y="0"/>
            <a:ext cx="1195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学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nzal Omm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用圣言录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dit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若不回返到它的根源之处，末世审判是不会到来的。有一天它的响声将围挠在真主的宝座如同蜂鸣，以至真主问：这是什么回事？古兰经亦会回答：我出于你，也必归于你，我虽被众人所念，但没有一个人愿完全照着遵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学者认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具有两性（属天，属地）这就如基督徒认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具有两性（人性与神性）。我们注意到有穆斯林学者曾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兰经的哲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hilosophy Of The Kor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书记有如此的观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古兰经虽被人手写成经卷，沦落为时间，空间之物；但它的根源从太初就在真主里面。共同的观点已经被鉴定下来，即真主自己的话不是受造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，古兰经乃是「道成经书」，它不只是一本书卷，而是上帝永恒的智慧。古兰经不是被造的，而是永恒的，是从真主而出的智慧，穿上亚拉伯语言，出现在人类的历史中，被穆罕默德的门徒们收集成经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古兰经被认为具有两种层面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历史经卷的物质层面；属永恒神圣的层面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它具有物质层面的属性，即被写下成为书面文字，修定钉装成书本，会破损朽坏，虫柱火烧。也具有属神性层面的属性，即它是真主永恒的智慧，本于真主，出于真主的道，永远与真主同在的非受造之物。伊斯兰的降经节，亦说明这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12360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启示：尔撒麦西哈是真主的「道成肉身」。就如穆斯林相信，古兰经虽有属地的属性，也具有属天的属性；照样，基督徒亦相信尔撒麦西哈降世为人，具有属人的属性，另一方面亦是「上帝创造的道，成为肉身的」。因此，他具有上帝的属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穆斯林对文字的古兰经，能作「属地也属天」的确信，为什么要对尔撒的道成肉身，感到困难相信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可以看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是道成经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也应当能从以下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出，尔撒乃是真主的道成肉身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可兰经，引支勒都见证，尔撒麦西哈是真主的使徒，他也是真主的道，成为肉身，具有神人二性，他完全认识人， 也完全认识真主。有了这样的一位使徒，救主，你还要跟从谁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12072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麦西哈（受膏者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为甚么真主只赐给尔撒「麦西哈」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受膏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的这个称号呢？而且这个称谓在古兰经中出现超过十次（古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5; 4:157,171; 5:17 (2), 72 (2), 75; 9:30,3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一称呼在前伊斯兰时期，被视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最伟大的等候与期盼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位被真主应许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将来临的「君王，救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源自犹太人的旧约神学字汇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弭赛亚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esiah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意谓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膏者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在犹太传统中，“弥赛亚”指被神选立、膏立的君王，先知，祭司，象征此人具有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神圣的使命。犹太人从众先知书得知，真主预言将赐给世人一位，受真主之灵所膏抹永远具有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神圣使命的仆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12192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弥赛亚是那位将来受真主之灵所膏抹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做神国永远的君王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做最大的先知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当最大祭师的那位。这是真主对人类非常嵩高的应许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名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的就是这人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和将来的世界，都需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集先知，君王，祭师，三大职份在身的人物，来引导我们进入真主的真理和国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教，基督教都做如此的注释。古兰经是从犹太教与基督教，把这字汇引用过来的，当然也必须做如此的意思注释，才能明白这字的真正含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与古兰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给尔撒作了这样的见证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神国的弥赛亚，我们不跟从他还能跟从谁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0"/>
            <a:ext cx="12192120" cy="33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作为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 al Kitab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受天经的人 ，没有必要夸大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的伟大之处，因为是真主自己，高举尔撒之名超过万名！尔撒的受膏者的神圣使命，从来没有结束过，因为尔撒是非受造之道，是永活的麦西哈和使者，所以他被真主趯升到天上，今天依然活在天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没交待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麥西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现今在天上做什么。我们在从引支勒的见证看见：                                                                                                                      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在天上当了天上圣所的大祭司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书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24-26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位既是永远常存的，他祭司的职任就长久不更换。凡靠著他进到真主面前的人，他都能拯救到底；因为他是长远活著，替他们祈求。像这样圣洁、无邪恶、无玷污、远离罪人、高过诸天的大祭司，原是与我们合宜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要当神国永远的君王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9:16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在他衣服和大腿上有名写著说：万王之王，万主之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要当超然的先知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-2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神既在古时藉著众先知多次多方的晓谕列祖， 就在这末世藉著他儿子晓谕我们；又早已立他为承受万有的，也曾藉著他创造诸世界。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全然无罪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称尔撒为：圣洁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y –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纯洁、无罪） 之子 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hula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使对麦尔彦說：「我只是你的主的使者，我來給你一個純潔的兒子。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给了人类一位圣洁的孩子。尔撒被称为一个无罪的人，祂是整本古兰经中，唯一的一位得此称谓者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些穆斯林学者争辩说 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y ghulam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，就是所有人一生下来就是无罪的，试图否定尔撒生来就是纯洁的这个 “历史中仅此一次” 的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0"/>
            <a:ext cx="12144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任何人第一次读这节经文的，都会意会那是指生来是「圣洁」的孩子。而不是指婴孩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单纯，无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hulam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词是指少年或年轻人，与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4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 Khidr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那个儿童杀了） 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 （背叛的儿童） 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（你的主要那两个孤儿成年后，才取出藏在墙下的财宝） 所用的词类似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只是为了特意说明那只是单纯的婴孩，那么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应该像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样，使用意思为“单纯婴孩” 的词 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ifl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！ 然而，在常规的情况下，没有人会对一个普通初生的婴孩说：这是个圣洁（无罪）的孩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12192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有个属性叫：恩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大方，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i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尔撒被称为安拉所发出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尔撒也是安拉所发出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迹象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安拉的恩惠与安拉的迹象一同提出来，这说明尔撒的本质，不但代表安拉，也包含安拉的属性，彰显了安拉的本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如此的启示，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证了引支勒圣经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尔撒所做的见证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8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从来没有人看见上帝，只有在父怀里的独生子将他表明出来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里我们看见，古兰经与圣经一同见证，真主是借着尔撒来表彰祂自己的。尔撒是从真主里面出来的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真主的本质。按古兰经与圣经的教导，真主非同人类， 人无法代表真主，也不能彰显真主，只有真主自己才能彰显自己，否则就是以物配主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11568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有归信真主者可以成为「达齐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q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，即归正路者。但「撒齐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即「良善，圣洁，公义」者，只能归属真主。除了真主，没能被称为「良善，圣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义」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尔撒以前的时代，真主从不曾称任何人为「良善，圣洁，公义者」。引支勒马可福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7-18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出来行路的时候，有一个人跑来，跪在他面前，问他说：「良善的夫子，我当做什麽事才可以承受永生？」耶稣对他说：「你为什麽称我是良善的？除了神一位之外，再没有良善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zaki)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0"/>
            <a:ext cx="12192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尔撒要降世时，天使告诉麦尔彦她将生一位「圣洁公义」的的儿子（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9)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尔撒还没出世时前的属性。这是尔撒天然神圣的属性。从没有一个人类或者先知，曾拥有这样「圣洁，无罪，称为圣洁，公义者」的本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则多次被要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穆斯林的罪求赦免（包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穆罕默德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5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故你当坚忍，真主的应许，确是真实的。你应当为你的过失而求饶，你应当朝夕赞颂你的主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7:19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应当知道，除真主外，绝无应受崇拜的，你应当为你的过失而求饶，并应当为众信士和众信女而求饶。真主是全知你们的活动和归宿的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穆斯林，为何真主在古兰经中，将原是他属性的称呼，给了尔撒麦西哈，却没有给穆罕默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尔撒麦西哈生来没罪，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7: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却说真主要穆罕默德，求真主赦免他的罪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真主要将一个无罪的婴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赐给我们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因为无罪的，才能拯救有罪。圣洁的， 才能扶持不义的。瞎子如何领瞎子？有罪的岂能救不义的？自己都犯罪要受真主的审判，如何能救别人呢？尔撒既然是无罪圣洁，显然的，只有他才能把我们这些有罪，不义，不圣洁的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拯救出来。只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洁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，他才能当我们的大祭师，真主才会用他为我们的罪代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EFE5-105B-4E15-9136-27CA970906EA}" type="slidenum">
              <a: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523880" y="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的五祭与基督的救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3880" y="692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9160" y="638280"/>
          <a:ext cx="11017080" cy="6065640"/>
        </p:xfrm>
        <a:graphic>
          <a:graphicData uri="http://schemas.openxmlformats.org/drawingml/2006/table">
            <a:tbl>
              <a:tblPr/>
              <a:tblGrid>
                <a:gridCol w="1422360"/>
                <a:gridCol w="1746360"/>
                <a:gridCol w="3209760"/>
                <a:gridCol w="4638600"/>
              </a:tblGrid>
              <a:tr h="66024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祭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对信徒的意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预表基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赎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每年必须承认有罪，并为自己赎罪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为神的羔羊，一次过以义的代替不义的赎罪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赎愆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自知犯罪者，必须立刻为自己献上赎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的宝血长远有功效，在神前补足人类一切行为亏欠人若认自己的罪，必蒙赦免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馨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香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火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祭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将生命全然献上给神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甘心将自己献上，完成神的救赎旨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素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将自己的工作献上给神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耶稣的品行，工作与行为，被神所悦纳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平安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主动求与神和好，感谢神恩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的十字架使我们与神和好，得平安，蒙恩惠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37"/>
          <p:cNvSpPr/>
          <p:nvPr/>
        </p:nvSpPr>
        <p:spPr>
          <a:xfrm>
            <a:off x="410040" y="692280"/>
            <a:ext cx="6678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赎  罪 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8"/>
          <p:cNvSpPr/>
          <p:nvPr/>
        </p:nvSpPr>
        <p:spPr>
          <a:xfrm>
            <a:off x="372960" y="2666880"/>
            <a:ext cx="10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赎罪 补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339840" y="580248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献心    感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4103-05F4-4C9E-A0FB-D7A9B8E72E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"/>
          <p:cNvSpPr/>
          <p:nvPr/>
        </p:nvSpPr>
        <p:spPr>
          <a:xfrm>
            <a:off x="1523880" y="3213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0228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逾 越 节   一月十四（受死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76868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无 酵 节   一月十五日（埋葬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03544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初 熟 节   一月十六日（复活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699360" y="3220920"/>
            <a:ext cx="4852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五旬节    三月六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905200" y="3716280"/>
            <a:ext cx="931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171960" y="32846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宋体"/>
              </a:rPr>
              <a:t>4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041560" y="2637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908000" y="2781360"/>
            <a:ext cx="266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523880" y="191628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受死，埋葬，升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 flipV="1">
            <a:off x="283860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3902040" y="2349360"/>
            <a:ext cx="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3445200" y="907920"/>
            <a:ext cx="79020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新宋体"/>
              </a:rPr>
              <a:t>圣灵降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4102200" y="2133720"/>
            <a:ext cx="2060640" cy="206532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2065320"/>
              <a:gd name="textAreaBottom" fmla="*/ 737280 h 2065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633920" y="278136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教会时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 flipV="1">
            <a:off x="6229440" y="234900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5691600" y="1052640"/>
            <a:ext cx="790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教 会 被 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5689800" y="3213000"/>
            <a:ext cx="790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吹 角 节  七月一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6562800" y="3284640"/>
            <a:ext cx="66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6885360" y="3213000"/>
            <a:ext cx="7902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赎 罪 节  七月十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6494400" y="3357720"/>
            <a:ext cx="6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七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7220160" y="3213000"/>
            <a:ext cx="7902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住 棚 节  七月十五日至二十一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7424640" y="2205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6793200" y="0"/>
            <a:ext cx="7902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基 督 带 圣 徒 降 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6961320" y="242100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新宋体"/>
              </a:rPr>
              <a:t>以色列全家得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"/>
          <p:cNvSpPr/>
          <p:nvPr/>
        </p:nvSpPr>
        <p:spPr>
          <a:xfrm>
            <a:off x="8156520" y="3357720"/>
            <a:ext cx="15289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8354880" y="3573360"/>
            <a:ext cx="13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宋体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禧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9"/>
          <p:cNvSpPr/>
          <p:nvPr/>
        </p:nvSpPr>
        <p:spPr>
          <a:xfrm>
            <a:off x="7758000" y="2421000"/>
            <a:ext cx="1927440" cy="1633320"/>
          </a:xfrm>
          <a:custGeom>
            <a:avLst/>
            <a:gdLst>
              <a:gd name="textAreaLeft" fmla="*/ 0 w 1927440"/>
              <a:gd name="textAreaRight" fmla="*/ 1927800 w 1927440"/>
              <a:gd name="textAreaTop" fmla="*/ 0 h 1633320"/>
              <a:gd name="textAreaBottom" fmla="*/ 583200 h 1633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0"/>
          <p:cNvSpPr/>
          <p:nvPr/>
        </p:nvSpPr>
        <p:spPr>
          <a:xfrm flipV="1">
            <a:off x="9685440" y="1988640"/>
            <a:ext cx="0" cy="122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9086760" y="1268280"/>
            <a:ext cx="11304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新宋体"/>
              </a:rPr>
              <a:t>白色宝座大审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2"/>
          <p:cNvSpPr/>
          <p:nvPr/>
        </p:nvSpPr>
        <p:spPr>
          <a:xfrm>
            <a:off x="9818640" y="2133720"/>
            <a:ext cx="398520" cy="1081080"/>
          </a:xfrm>
          <a:custGeom>
            <a:avLst/>
            <a:gdLst>
              <a:gd name="textAreaLeft" fmla="*/ 0 w 398520"/>
              <a:gd name="textAreaRight" fmla="*/ 144000 w 3985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9756000" y="1989000"/>
            <a:ext cx="9118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新宋体"/>
              </a:rPr>
              <a:t>新天新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1523880" y="0"/>
            <a:ext cx="414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旧约节期与末世事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0"/>
            <a:ext cx="1219212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唯一免受恶魔搔扰的人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3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「我确已把她叫做麦尔彦，求你保佑她和她的后裔，免受被弃绝的恶魔的骚扰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深信，当一个婴孩还细小的时候，恶魔就会触摸他一下。以后恶魔就能对轻易对他进行骚扰，诱惑，使他犯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这样的一则圣训：布哈里圣训集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5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穆斯林圣训集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6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说：“没有一个新生儿降生时不被恶魔触碰，以至于他（婴儿）会因疼痛而大声啼哭，唯有麦尔嫣和她的儿子例外。”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则圣训强调了麦尔嫣和尔撒是安拉特别庇护的两个人，他们在出生时没有像其他人一样受到恶魔的触碰。这与《古兰经》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36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内容相互呼应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是恶魔的迷惑不能临近他们，他们是不犯罪的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120729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恶魔对人类是不怀好意的，他们则是违背真主的精灵，被降为魔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t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易卜劣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li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亦是它们的头领。恶魔被许可成为人类的「试探者」。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使我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恶魔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迷误，我必在你（真主）的道上待侯他们（人类），你会发觉他们是不会感谢的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7:16-17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见证，世界上只有尔撒一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被恶魔触摸过。意思是恶魔不能靠近尔撒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對他沒有誘惑的功效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意谓什么呢？这意谓世上只有尔撒一人，才是真正有能力胜过恶魔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支勒记载尔撒胜过恶魔的经文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0-1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撒但（魔鬼的别名），退去吧！因为经上记著说：当拜主你的神，单要事奉他。」於是，魔鬼离了尔撒，有天使来伺候他（ 尔撒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3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魔鬼用完了各样的试探，就暂时离开尔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0" y="-2844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30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後我（尔撒）不再和你们多说话，因为这世界的王（恶魔）将到。他在我里面是毫无所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伯来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5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我们的大祭司（尔撒）并非不能体恤我们的软弱。他也曾凡事受过试探，与我们一样，只是他没有犯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真主已经赐给我们，一位能胜过恶魔一切手段的大祭师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以，我们只管坦然无惧的，来到施恩的宝座前，为要得怜恤，蒙恩惠，作随时的帮助（引支勒希伯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6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伯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（尔撒）既得以完全，就为凡顺从他的人，成了永远得救的根源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7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无论任何情况都是有福的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要使我无论在那里都是有福的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Mubarakan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∶3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为何要称尔撒为有福的？如果尔撒只是自己有福，独享福气，福气只属他自己，这样的宣告，对我们大家又有何意义呢？真主称尔撒麦西哈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须追溯到真主应许易卜拉欣的一个后裔，要叫万国得福这件事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创世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15-18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和华（真主）的使者第二次从天上呼叫易卜拉欣说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既行了这事，不留下你的儿子，就是你独生的儿子，我便指著自己起誓说：论福，我必赐大福给你；论子孙，我必叫你的子孙多起来，如同天上的星，海边的沙。你子孙必得著仇敌的城门，并且地上万国都必因你的（一个）後裔得福，因为你听从了我的话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0"/>
            <a:ext cx="120729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于易卜拉欣顺从真主，真主就赐福给他；使他成为有福的，又应许他的一个后裔，将来要叫万国万民得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一个非常重要的预言，是真主对人类作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世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一个应许。从众先知的预言（讨拉特与查布尔）的三百多处预言中，我们看见这位叫万国得福的后裔，就是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应许也得到了尔撒自己的肯定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-15840" y="0"/>
            <a:ext cx="12207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不会将祂本体的荣耀给受造之物。在这前提下， 真主若说：尔撒就是真主恩惠属性的彰显，那尔撒是谁，他与真主的关系如何，就可想而知了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要藉着尔撒赐给我们的是：真主的恩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什么叫「恩惠」？你不配得的，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白白的让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了，这叫恩惠。真主所赐给我们最大的恩惠，要算是「赦罪的恩惠」。这正是真主要尔撒传讲与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工作。真主要尔撒传的真理叫「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ji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，这字是从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uangelio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申过来的。意思是「福音（好消息）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0" y="0"/>
            <a:ext cx="120729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6-2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来到拿撒勒，就是他长大的地方。在安息日，照他平常的规矩进了会堂，站起来要念圣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有人把先知以赛亚的书交给他，他就打开，找到一处写著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的灵在我身上，因为他用膏膏我，叫我传福音给贫穷的人；差遣我报告：被掳的得释放，瞎眼的得看见，叫那受压制的得自由，报告真主悦纳人的禧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於是把书卷起来，交还执事，就坐下。会堂里的人都定睛看他。尔撒对他们说：今天这经应验在你们耳中了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】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0"/>
            <a:ext cx="12072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宣告说：我来是要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穷人得福；瞎眼得看见，受压制的得自由，报告神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什么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报告真主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？旧约犹太人的每第五十年，就是禧年，在这禧年中，要释放所有的奴隶，免掉所有财务问题，赎回所有典当的土地，这是全国大特赦，大释放的自由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禧年最大的特点就是：经历特赦，释放，自由，归回，圆满。禧年意谓着从压迫，从捆绑中，从不自由中走出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1160" y="-11160"/>
            <a:ext cx="11963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属灵的角度来说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指人类有一天，真主要使人从罪恶，咒诅，捆绑中释放出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达吾德（大卫）从远处看见这应许的福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赞美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赦免其过、遮盖其罪的，这人是有福的！凡心里没有诡诈、耶和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算为有罪的，这人是有福的！（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福气只有一人能够带给我们；这人就是真主所说的那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福的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4680"/>
            <a:ext cx="12144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撒是唯一升天的人间使徒，成了与真主同在的人类大祭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使徒行传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9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了这话，他们正看的时候，他（尔撒）就被取上升，有一朵云彩把他接去，便看不见他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书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们既然有一位已经升入高天尊荣的大祭司，就是神的儿子耶稣，便当持定所承认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∶157-9…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为尔撒而争论的人，对于他的被杀害，确是在迷惑之中。他们对于这件事，毫无认识，不过根据猜想罢了。他们没能确实地杀死他。不然，真主已把他擢升到自己哪里。真主是万能的，是至睿的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0"/>
            <a:ext cx="1219212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没有给尔撒为何升天，作进一步解释。人类还没经过末日审判，就能升天的人，对犹太教，基督教，伊斯兰信仰来说，这人等于是来自天上，不同于凡人。人类要上天堂谈和容易！就连穆罕默德及所有穆斯林，大阿訇等人，现在都还没有一人能上天堂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根据伊斯兰的说法，当死亡降临，亲人只能处理你的尸体，当尸体被埋以後，负责考问死者的两位天使蒙凯尔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nkar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拿吉尔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kir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及时赶到，命令死者的鲁哈起立回答问题：说说你对真主和他使者知道多少。回答正确者，立刻享有墓穴的柔和光彩，洞穴的空间立刻扩大了许多，足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丈见方，然後有一声音说：你就安息吧。天使会要他不作其它的要求，只要甜美的睡吧 。作恶之人的灵魂，见到两位天使会惊恐万分，会遇见认罪的逼供折磨，直到承认自己是罪人，曾犯了所说的重罪。然后带着恐惧，压力，不得安息，这就是墓中初级的刑罚。这样的亡魂死里复活，必无法上天堂，只能下地狱。死亡至复活日的这段时间称为「巴勒扎哈」阴间阶段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世界末日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最後生命状态的开始，天使伊斯拉非要吹响世界毁灭的号角。整个地球会进入毁灭，在一场天塌，地陷之後。全体人类，活物，在这光景中完全丧命，毁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审判日的世界末日後，安拉唤起所有人类的亡魂，使他们全部复活，那一天叫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iyahm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亚玛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是站立的日子，也称为复活日，末日，审判日。全体人类，古今中外的人仕，不论大小老少，都将按他们的行为接受公义的审判。审判后的结果，才决定谁能上天堂下地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-30240"/>
            <a:ext cx="121921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圣训被阿布户莱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Harayr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诉说：穆罕默德说：麦尔彦之子尔撒降临后，确是一个公正的审判者和公平的统治者。他将踏上朝觐之路，来到我的墓前问候我，我当然也会回答他！</a:t>
            </a:r>
            <a:r>
              <a:rPr b="1" lang="en-US" sz="2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Hakim Mustadrak (2:651) # 4162 as related by Abu Harayra quoted in Kabbani, p. 237</a:t>
            </a:r>
            <a:r>
              <a:rPr b="1" lang="zh-CN" sz="2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一个圣训中，按穆罕默德所说的，他今天还睡在墓穴中，还没上到天堂，还在等候末日审判的复活日。换言之，就连穆罕默德，所有睡了的阿訇，穆斯林，他们的灵魂今天还睡在墓穴里面。没有一个上了天堂。唯独尔撒麦西哈一人上了天堂！！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什么穆罕默德还没有上天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照他所说的，他在等候他的末日审判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什么尔撒麦西哈却上了天堂？？？真主在引支勒的希伯来书中，作了解释。尔撒麦西哈的升天，乃是进入天上的至圣所。因为他在十字架为人类付出的救赎代价，真主使他从死里复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成功的将罪与死的权势废掉。真主把他接回天上。进入天上的至圣所。经过那更大更全备的帐幕，不是人手所造、也不是属乎这世界的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们所讲的（关于尔撒）事，其中第一要紧的，就是我们有这样的大祭司，已经坐在天上至大者宝座的右边，希伯来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2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为基督并不是进了人手所造的圣所（这不过是真圣所的影像），乃是进了天堂，如今为我们显在神面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0"/>
            <a:ext cx="11783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23-26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那些在人间成为祭司的，数目本来多，但是因为有死阻隔，不能长久。这位既是永远常存的（尔撒），他祭司的职任就长久不更换。凡靠著他进到真主面前的人，他都能拯救到底；因为他是长远活著，替他们祈求。像这样圣洁、无邪恶、无玷污、远离罪人、高过诸天的大祭司，原是与我们合宜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现在在天上作了人间的大祭师，请问你肯接受他为你在真主右边代求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0"/>
            <a:ext cx="11928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就是道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斯林祷告的时候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古兰经第一章法帝海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祈求真主 “引领我们正路” （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知道那条道路，所以需要有真主来引导我们。有谁是正路？有谁能明确的指引我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真主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条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下的两节古兰经启示我们说：正路就是尔撒，正路就是真主自己：为什么在这两节经文中，尔撒与真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互相为对方做见证说：这是正路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从天使向牧羊人报告尔撒降世时的「好消息」，就可以看出「福音」的本质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路加福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8-1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在伯利恒之野地里有牧羊的人，夜间按著更次看守羊群。有主的使者站在他们旁边，主的荣光四面照著他们；牧羊的人就甚惧怕。那天使对他们说：「不要惧怕！我报给你们大喜的信息，是关乎万民的；因今天在大卫（达吾德）的城里，为你们生了救主，就是主基督（麦西哈）。你们要看见一个婴孩，包著布，卧在马槽里，那就是记号了。」忽然，有一大队天兵同那天使赞美真主说：在至高之处荣耀归与真主！在地上平安归与他所喜悦的人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福音的本质就是“真主赐给我们救主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0" y="17640"/>
            <a:ext cx="12072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3:6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　他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确是复活时的预兆，你切莫怀疑它，你应当顺从我，这是正路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经文是真主为尔撒作见证说：尔撒是未日复活时最主要预兆。人们对尔撒第二次再来时，所要显出的大能预兆，绝对不能忽略，不能不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说：因为尔撒才是正路，故此接受尔撒的人，对尔撒不产生怀疑的人，就是顺从真主的人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0"/>
            <a:ext cx="11999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3:63-64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尔撒带着许多明证来临的时候，他说：「我确已把智慧带来给你们，以便我为你们解释你们所争论的一部分律例。故你们应当敬畏真主，应当服从我。真主确是我的主，也是你们的主，所以你们应当崇拜他，这是正路。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的经文，则是尔撒为真主作见证说：真主才是正路，服从尔撒的人，就是一个寻见正路的人，这人就晓得敬畏与崇拜真主。就这一个真理，所有想要寻找正路的穆斯林，都必须亲自查寻引支勒，看看尔撒对此作了怎样的注解。尔撒麦西哈在引支勒中，说了许多令人感到非常奇特的话。这些话让人感觉，他是以「在地如同在天」的身份来说这些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-96840" y="0"/>
            <a:ext cx="1216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4:6 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说我就是道路、真理、生命；若不藉著我，没有人能到天父那里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不是道路，所以要寻找道路；人类不是真理的本身，所以在寻找真理；人类也没有永生，所以需要寻找永远的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不是道路，真理，生命，所以不能说：我就是！然而，尔撒却说：我就是道路、真理、生命。而且进一步说：人若不藉着他就不能到真主那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0" y="0"/>
            <a:ext cx="11999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真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0:34-35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说：你们的配主有能导人于真理吗？你说：真主能导人于真理。是能导人于真理的（真主）更宜于受人顺从呢？还是顺受引导才能遵循正道的（人类）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更宜于受人顺从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5:5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耶和华阿，求你以你的真理引导我，教训我。因为你是救我的上帝，我终日等候你」。                                                                              诗篇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86:11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耶和华阿，求你将你的道路指教我，我要照你的真理行。求你使我专心敬畏你的名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6: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 我就是道路，真理，生命，若不藉着我，没有人能到真主哪里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0"/>
            <a:ext cx="12072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0:11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真主是超绝万物的，宰制众生的（王），体用真实的（真理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4:1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难道你没有看见，真主已本真理而创造天地吗？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，讨拉特，本布尔，引支勒一同见证，“真理“就等同于真主自己。故此，人不能说自己是真理。人只能说，靠真主的恩典，我明白与理解了一些真理。若尔撒清楚的，公开的说他自己就是“真理”；我们要如何看待他这样的宣告呢？尔撒如此说；只有三个可能：他是疯子，他的骗子，他真的就是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疯子或者骗子吗？古兰经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既然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他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使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故此他绝对不是疯子与骗子。他必然就如他自己所宣称的：他就是道路，真理，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1764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（耶稣）是圣灵无限量充满的使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87,253;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确已把经典赏给穆萨，并在他之后继续派遣许多使者；我把许多明证赏给麦尔彦之子尔撒，并以圣灵扶助他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些使者他们中有真主曾和他们说话的，有真主提高他们若干等级的。我曾以许多明证赏赐麦尔彦之子尔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并以圣灵扶持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参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69,17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古兰经最少有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提到尔撒是真主的使徒，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ul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87,253; 3:49,53; 4:157,171; 5:75,111; 57:27; 61: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0"/>
            <a:ext cx="12192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也有一次提到尔撒是使徒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来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同蒙天召的圣洁弟兄阿，你们应当思想我们所认为使者，为大祭司的尔撒。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满有圣灵的能力，回到加利利；他的名声就传遍了四方。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3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先前不认识他，只是那差我来用水施洗的、对我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看见圣灵降下来，住在谁的身上，谁就是用圣灵施洗的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可讨论的课题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. 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唯有圣灵能启示真主自己：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与古兰经特别把尔撒的使徒身份与真主的灵，联结在一起。这是为什么呢？这是因为人若没有真主的灵，人就无法知道真主的事。真主的灵，就是真主自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唯有真主的灵，才能渗透真主的事。也唯有真主灵，才能把真主的事启示给我们。故此，真主启示说：尔撒是个完全被真主之灵所充满的使徒，这说明唯有他是一个能完全渗透真主作为的使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. 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麦西哈乃 给人用圣灵施洗的那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只有尔撒一人，拥有圣灵无限量的充满，他的超越性只属他个人，那对真主，对我们人类来说，其意义又何在呢？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（施洗的约翰）是用水给你们施洗，叫你们悔改。但那在我以後来的，能力比我更大，我就是给他提鞋也不配。他（尔撒）要用圣灵与火给你们施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6-17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（尔撒）要求父，父就另外赐给你们一位保惠师（圣灵）叫他永远与你们同在，就是真理的圣灵，乃世人不能接受的；因为不见他，也不认识他。你们却认识他，因他常与你们同在，也要在你们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是如何是把圣灵赐给人类，以便能明白属真主的事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2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凡接待他的，就是信他名的人，他就赐他们权柄，作神的儿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马书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上帝的灵住在你们心里，你们就不属肉体，乃属圣灵了。人若没有麦西哈基督的灵，就不是属麦西哈的。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3-1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若顺从肉体活著，必要死；若靠著圣灵治死身体的恶行，必要活著。因为凡被真主的灵引导的，都是真主的儿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7520" y="0"/>
            <a:ext cx="12025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的门徒，使徒保罗给福音下了这样的定义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福音是真主从前藉众先知在圣经上所应许的，论到主尔撒麦西哈。按肉体说，是从达吾德（大卫）後裔生的；按圣善的灵说，因从死里复活，以大能显明是世人的救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真主要尔撒麦西哈所传，所成就的「恩惠」真理，就是「赦罪的救恩」。真主已经藉着尔撒麦西哈完成了「赦罪的救恩」。使世上所有的罪人，能够因为接受尔撒为救主，而罪得赦免，经历新造的生命。任何人若信靠尔撒为救主，旧事已过，一切却变成新的了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47520" y="0"/>
            <a:ext cx="1195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2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见证尔撒是天上来的粮食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0:112-115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时候，众门徒唤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之子尔撒说：你的主从天上降给我们筵席吗？尔撒说：你们若是归信的，你们就敬畏安拉。他们说：我们愿意吃它（天上来的粮食），愿意我们的心中得到刚强，且可晓得你对我们确说了真言，我们可以为它（真言）作见证。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之子，尔撒说：安拉，我的主啊，求你从天上把筵席降给我们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是人类由始至终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由你而来的一个庆典和迹象；求你赐给我们食物吧，因你是世上的供应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47520" y="0"/>
            <a:ext cx="12144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的这节古兰经经文，提到天上来的粮食：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粮食能带给信徒三个大果效：门徒吃了这粮，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心中就能得到刚强，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因此而认识真理（真言），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为真言作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上的果瓜，菜蔬，肉类，米饭等类的食物，不会带给我们这样的果效。究竟世上有什么食物，能带给我们这生命的果效呢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起来是能带给我们真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命粮。经文见证说：这食物只有尔撒才可以赐给人。古兰经没有进一步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什么食物，如何得到。故此，我们需要从见证尔撒的引支勒中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寻找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个真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440" y="-34920"/>
            <a:ext cx="1207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麦西哈在引支勒中说：他就是生命的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32-35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我实实在在的告诉你们，那从天上来的粮不是穆撒赐给你们的，乃是我父将天上来的真粮赐给你们。 因为神的粮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就是那从天上降下来、赐生命给世界的。他们说：主啊常将这粮赐给我们！耶稣说：我就是生命的粮。到我这里来的，必定不饿；信我的，永远不渴。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51-59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是从天上降下来生命的粮；人若吃这粮，就必永远活著。我所要赐的粮就是我的肉，为世人之生命所赐的。 因此，犹太人彼此争论说：「这个人怎能把他的肉给我们吃呢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0" y="0"/>
            <a:ext cx="1207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我实实在在的告诉你们，你们若不吃人子的肉，不喝人子的血，就没有生命在你们里面。吃我肉、喝我血的人就有永生，在末日我要叫他复活。我的肉真是可吃的，我的血真是可喝的。吃我肉、喝我血的人常在我里面，我也常在他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永活的父怎样差我来，我又因父活著；照样，吃我肉的人也要因我活著。这就是从天上降下来的粮。吃这粮的人就永远活著，不像你们的祖宗吃过吗哪还是死了。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些话是尔撒在迦百农会堂里教训人说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0" y="0"/>
            <a:ext cx="119286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原来尔撒就是从天上降下来的生命粮食，他能把他的“肉与血”分赐给世人“食”。人类需要有肉身的食物如饭食，菜蔬，肉类等食物，来维持肉体的生存；同时人类也有灵性上的食物需要，来维持灵性的饱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这从天上来赐生命之粮，如何被我们“吃到呢？按照新约真理的教导；是藉着“受洗归入尔撒”以及，“领受圣餐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马书</a:t>
            </a:r>
            <a:r>
              <a:rPr b="1" lang="zh-TW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3 -5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岂不知我们这受洗归入尔撒麦西哈的人是受洗归入他的死吗？所以，我们藉著洗礼归入死，和他一同埋葬，原是叫我们一举一动有新生的样式，像麦西哈藉著上帝的荣耀从死里复活一样。我们若在他死的形状上与他联合，也要在他复活的形状上与他联合；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0"/>
            <a:ext cx="119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哥林多前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32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当日传给你们的，原是从主领受的，就是主尔撒被卖的那一夜，拿起饼来，祝谢了，就擘开，说：「这是我的身体，为你们舍（擘开）的，你们应当如此行，为的是记念我。」饭後，也照样拿起杯来，说：「这杯是用我的血所立的新约，你们每逢喝的时候，要如此行，为的是记念我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每逢吃这饼，喝这杯，是表明主的死，直等到他来。所以，无论何人，不按理吃主的饼，喝主的杯，就是干犯主的身、主的血了。人应当自己省察，然後吃这饼、喝这杯。因为人吃喝，若不分辨是主的身体，就是吃喝自己的罪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19160" y="0"/>
            <a:ext cx="118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我们要如何吃到生命的粮食呢？当我们接受尔撒就是上帝所赐给给人类的麦西哈（受膏者），接受他作生命中的救主，我们就领受了这从天上来的生命粮。我们信入麦西哈，就有麦西哈，就能在灵性上得到生命之粮，得以刚强，得以明白真理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3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新生命的兆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20-21,27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说：我的主阿！未曾有人接近我，我从哪里有子呢？主说：虽然如此，安拉随便造化人，当他决定一事的时候，只对他说：有！他就立刻有。</a:t>
            </a:r>
            <a:r>
              <a:rPr b="1" lang="en-MY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MY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向她遣去我的鲁哈（灵），他就显给她是一个建全的人。她说：我要求主保佑使你离开，如果你是一个戒慎的。他说：我只是主的一个使者，我为的是把一个纯洁的童子赏给你。她说：曾无一人接近我，我也不是失贞的，我怎能获得一个童子呢？他说：就是如此，你的主说，这在我是容易的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以此作为对世人的表徵（兆头），并为我的慈惠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且为已经决定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59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说道：“在真主看来，尔萨确是象阿丹一样的；他用土创造了他，然後，他对他说：‘有’，他就有了。”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0"/>
            <a:ext cx="12072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赛亚先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自己要给你们一个兆头，必有童女怀孕生子，给他取名以马内利（就是神与人同在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与圣经，都特别说明尔撒特殊的降生：尔撒是由童女生育，古兰经说：这是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表徵（兆头）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上帝赐作为给世人的一种生命兆头。这生命兆头说明什么，要表明什么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知道人类的种子，生命的遗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是从阿丹而来。阿丹犯了诫命，吃了真主吩咐不能吃的果子，结果变成了软弱，有罪性，会犯罪，堕落，会死的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人类从阿丹所遗传下来的生命种子，是属肉体，属血气的，软弱，短暂会死的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7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说：尔撒是由童真女所生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（真主）要以此作为对世人的表徵（兆头），并为我慈惠的显明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童女所生下来的这个是圣洁的孩子，又是向人类显明极大恩惠的目的。究竟是要向世人显明什么恩典？这启示需要用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及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中关于“第一个亚当”和“第二个亚当”（末后亚当）的概念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对照，才能看出其中上帝的恩惠。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哥林多前书和罗马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里，将为什么上帝要借助玛利亚一童真女生分生下耶稣的目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第一个亚当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当是人类的代表：亚当是第一个被造的人，他的行为影响了全人类。是照成人类堕落的起源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于亚当的悖逆，罪和死亡就进入世界，也使所有人都陷入罪与死的辖制。罗马书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2 “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这就如罪是从一人入了世界，死又是从罪来的，于是死就临到众人，因为众人都犯了罪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 哥林多前书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2 “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在亚当里众人都死了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……”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当的失败带来了死亡和咒诅，使人与神的关系破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11712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永远有面子的：卓越的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出众的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有荣耀  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Wajih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他的名子是麦西哈 （弥赛亚） ，在今世和后世都是有面子的” （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今生来世都是最尊荣，最有面子者。为何真主要让尔撒成为世上最有面子的人？这必定有其用意的。怎样的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最有面子的？世上只有君王才能称得上是最有面子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的路加福音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（尔撒）要为大，称为至高者的儿子；主上帝要把他祖大卫（达吾德）的位给他。马太福音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5:31,32;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5, 24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"/>
          <p:cNvSpPr/>
          <p:nvPr/>
        </p:nvSpPr>
        <p:spPr>
          <a:xfrm>
            <a:off x="20520" y="11592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末后的亚当（第二个亚当）：耶稣基督 •                                              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透过女人所生，是另外一个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创造的起点：耶稣被称为“末后的亚当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人）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，因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女人的后裔，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无原罪的人（亚当），要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恢复和更新堕落的人类，使人有新生命。                                                                                       • 因基督，恩典与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赎的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临到：耶稣的顺服和救赎工作带来了永生，使那些信祂的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以脱离罪和死亡。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相关经文： 哥林多前书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45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“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经上也是这样记着说：‘首先的人 亚当成了有灵的活人，末后的亚当 成了赐生命的灵。’”                          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马书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7-19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“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若因一人的过犯，死就因这一人作了王，何况那些受洪恩又蒙所赐之义的，岂不更要因耶稣基督一人在生命中作王吗？……因一人的悖逆，众人成为罪人；照样，因一人的顺从，众人也成为义了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第一个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亚当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末后亚当（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基督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对比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对比  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第一个亚当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末后的亚当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（基督）               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起源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被造的人                                       从天而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神的道与灵成肉身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本质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有血气的人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为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赐生命的灵                            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行为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不顺服神，带来罪和死亡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顺服神带来恩典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赎的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命  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影响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使全人类陷入死亡                         使信祂的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重生得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永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哥林多前书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47 “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头一个人（亚当）是出于地，乃属土；第二个人（基督）是出于天。”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末后的亚当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味着耶稣是新创造，新生命的终极代表，祂完成了救赎，之后不会再有其他亚当人种的出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•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当 是“旧创造”的代表，他的失败带来了罪和死亡。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 是“新创造”的代表，祂的顺服带来了恩典和生命。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靠基督的人 不再受亚当的罪和死亡辖制，而是在基督里得永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0" y="0"/>
            <a:ext cx="12192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显然尔撒是透过女人而降世为人，人类的基因学研究告诉我们，人类生命的遗传，主要是依據男人（亚当）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XJ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染色体的遗传决定，而不是由于女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XX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染色体的决定。圣经与古兰经启示，这世界上唯有尔撒，是不属于阿丹的血统，尔撒是神的灵与道感孕玛利亚而生下来，不属于亚当属肉体，属血气，堕落，有罪的遗传生命。尔撒不是由于男人的遗传，而成为人类，就说明他的生命与“种类”是不属这世界的旧人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把尔撒的“生”称为，“道成肉身”，是藉着圣灵而生的。也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介绍为“第二个或者末后的阿丹（尔撒）。                                                             第一个阿丹的生命成为堕落的，属血气，属肉体的，软弱，会犯罪，会死的。从他遗传下来的生命也要如此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第二个（末后的）阿丹，他是新人类，从神的道，从圣灵生，是属天的，属灵的，故此，他也能把这样的生命，赐给信他的人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47520" y="0"/>
            <a:ext cx="120254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2-13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凡接待他（尔撒）的，就是信他名的人，他就赐他们权柄，作神的儿女。这等人不是从血气生的，不是从情欲生的，也不是从人意生的，乃是从神生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5-8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我实实在在的告诉你，人若不是从水和圣灵生的，就不能进神的国。从肉身生的就是肉身；从灵生的就是灵。我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必须重生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你不要以为希奇。风随著意思吹，你听见风的响声，却不晓得从那里来，往那里去；凡从圣灵生的，也是如此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1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有人在基督里，他就是新造的人，旧事已过，都变成新的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因此，尔撒阿门阿门的说，你必须重生，才能进神国见神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B4D3-8DE1-436F-8A9F-2BCF2DFDB9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0"/>
            <a:ext cx="12072960" cy="42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4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真主的仆人，先知，真主最聪明的启示和启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来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-2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神既在古时藉著众先知多次多方的晓谕列祖，就在这末世藉著他儿子晓谕我们；又早已立他为承受万有的，也曾藉著他创造诸世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31/3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婴儿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尔撒）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说；我是真主的仆人，他要把经典赏赐我，要我做先知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en-US" sz="3200" spc="-1" strike="noStrike">
                <a:solidFill>
                  <a:srgbClr val="33cc33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:5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麦尔彦的儿子被举为例的时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5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示范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pattern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赐他恩典，并以他为以色列后裔的示范“榜样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thal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词在阿拉伯原文中的意思是“典范”、“象征”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59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了这句话来形容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的迹象，和睿智的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的出生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是真主最聪明的决定和启示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是我对你宣读训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0" y="0"/>
            <a:ext cx="11999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用上了属神的称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5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复活者，是赐生命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6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（安拉）能使人生，能使人死。当他判决一件事的时候，他只对那件事说：有，它就有了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6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确是永生的，除他外，绝无应受崇拜的，故你当祈祷他。诚心顺服他。一切赞颂，全归真主，全世界的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如今要知道我，唯有我是上帝，在我以外没有并无别神。我使人死，我使人活，我损伤，我也医治。并无人能从我手中救出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47520" y="0"/>
            <a:ext cx="1214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5-2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：我实实在在的告诉你们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死人要听见上帝儿子的声音，听见的人就要活了。因为父怎样在自己有生命，就赐给他儿子也照样有生命」。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5-2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对他说，复活在我，生命也在我。信我的人虽然死了，也必复活。凡活着信我的人必永远不死。你信这话么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0"/>
            <a:ext cx="1199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6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无所不在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1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东方和西方都是真主的，无论你们转向哪方，哪里就是真主的方向。真主确是宽大的，确是全知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无论你们在哪里，他是与你们同在的，他是鉴查你们行为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1:4; 44: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「谁曾行及做成这事，从起初宣召历代呢？就是我耶和华，我是首先的，也是未后的同在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0" y="0"/>
            <a:ext cx="120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：无论在哪里，有两三个人奉我的名聚会，哪里就有我在他们中间」。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凡我所吩咐你们的，都教训他们遵守，我就常与你们同在，直到世界的未了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2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耶稣回答说：人若爱我，就必遵守我的道，我父也必爱他。并且我们要到他哪里去，与他同在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看哪，我站在门外叩门。若有听见我声音就开门的，我要进到他哪里去。我与他，他与我一同坐席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0"/>
            <a:ext cx="12072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7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说：他是听祷告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8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如果我的仆人请问我的情状，你就告诉他们；我确是临近的，确是答应祈祷者的祈祷的。当他们祷告我的时候，教他们答应我，信仰我，以便他们遵循正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: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听祷告的主阿，凡有血气的都要来就你。 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2: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垂听穷人的祷告，并不藐视他们的祈求。王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上帝对他说，你向我所祷告祈求的，我都应允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3-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无论奉我（耶稣）的名，无论求什么，我必成就，叫父因儿子得荣耀。你们若奉我的名求什么，我必成就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-28440"/>
            <a:ext cx="1203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来的世界还需要治理。谁会是将来世界最有面子的君王统治者？按照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讨拉特的启示，真主命定将来的神国世界，是由大卫王（达吾德）的一个后裔永远做王，这人就是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进一步说明，为何尔撒会那么尊荣：那是因为尔撒还要被立为审判世界的王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2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真主不审判什麽人，乃将审判的事全交与子，叫人都尊敬子如同尊敬真主一样。不尊敬子的，就是不尊敬差子来的真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0" y="0"/>
            <a:ext cx="1214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:2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我（尔撒）实实在在的告诉你们，你们若向父求什么，他必因我的名赐给你们。向来你们没有奉我的名求什么，如今你们如此求就必得着，叫你们的喜乐可以满足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8)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说：他是世界的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4:3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是天地的光明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即使没有点火也几乎发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光上加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引导他所意愿者走向他的光明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9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他们必在你脸上的光里行走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:19-2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日头不再作你白昼的光，月亮也不再发光照耀你。耶和华上帝却要作你永远的光，你上帝要成为你的荣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耶和华必作你永远的光。你悲哀的日子也完毕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又对众人说；我是世界的光。跟从我的就不在黑暗里走，必要得着生命的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耶稣说；我在世界的时候，就是世界的光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9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将来临审判万民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和华向众民施行审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耶和华阿求你按我的公义和我心中的纯正判断我」。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2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为耶和华是审判我们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耶和华是给我们设立律法的，耶和华是我们的王。他必拯救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89:21-23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绝不然，当大地震动复震动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的主，和排班的天神，同齐来的时候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在那日，火狱将被拿来，在那日，人将觉悟，但觉悟于他有何裨益呢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0"/>
            <a:ext cx="1199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撒迦利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4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那日，他的脚必站在耶路撒冷前面朝东的橄榄山上。这山必从中间分裂，自东至西，成为极大的山谷。山的一半向北挪移，一半向南挪移。你们要从我山的谷中逃跑，因为山谷必延到亚萨。你们逃跑必如犹大王乌西亚王年间人逃避大地震一样。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和华我的上帝必降临，有一切圣者同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那日必没有光，三光必退缩。那日必是耶和华所知道的。不是白昼也不是黑夜，到了晚上才有光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92240" y="0"/>
            <a:ext cx="119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29-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说：「那些日子的灾难一过去，日头就变黑了，月亮也不放光，众星要从天上堕落，天势都要震动。那时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人子（指耶稣基督）的兆头要显在天上，地上的万族都要哀哭。他们要看见人子有能力，有大荣耀的，驾着天上的云降临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要差遗使者，用号筒的大声将他的选民，从四方，从天这边到天那边，都招集了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0" y="0"/>
            <a:ext cx="1207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5:31-46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他要审判万民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当人子（尔撒）在他的荣耀里，同着众天使降临的时候，要坐在他荣耀的宝座上。万民都要聚集在他面前，他要把他们分别出来，好像牧羊的分别绵羊山羊一般。把绵羊安置在右边。于是王要向那右边的说：你们这蒙我父赐福的，可以来承受那创世以来为你们所预备的国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王又要向那左边的说：你们这被咒诅的人离开我，进入那为魔鬼和他的使者所预备的永火里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0" y="0"/>
            <a:ext cx="12192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0. 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我是首先的，未后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44:6</a:t>
            </a: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「耶和华以色列的君，以色列的救赎主，万军之耶和华如此说：我是首先的，未后的，除我以外再没有真神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3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（真主）是前无始，后无终的，是极显着，极隐微的，他是全知万物的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-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一看见他（尔撒），就仆倒在他脚前，像死了一样。他用右手按着我说，不要惧怕，我是首先的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</a:rPr>
              <a:t>pro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  <a:ea typeface="Doulos SIL"/>
              </a:rPr>
              <a:t>̄t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我是未后的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</a:rPr>
              <a:t>eschatos</a:t>
            </a:r>
            <a:r>
              <a:rPr b="0" lang="en-US" sz="1800" spc="-1" strike="noStrike">
                <a:solidFill>
                  <a:srgbClr val="000000"/>
                </a:solidFill>
                <a:latin typeface="Doulos SI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曾死过，现在又活了直活到永永远远，并且拿着死亡和阴间的钥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是首先的，末后的」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上人间没有一个受造之物，能够配用这话来称呼自己。这词句只有造物主才配用的。真主创造万有，一切始于真主，也归于真主。然而，当尔撒麦西哈升上高天，进入荣耀以后，他向门徒约翰启示未后的事时，尔撒却用这称呼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是首先的，末后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称呼自己。显而易见，尔撒就是明明的启示告诉大家说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就是创造万有的真主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0" y="0"/>
            <a:ext cx="1228896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）尔撒说：他拥有天上地下一切的权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2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地的国权，归真主所有；他能使人生，也能使人死；他对于万事，是全能的」。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189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天地的国权归真主所有。真主对于万物是全能的</a:t>
            </a:r>
            <a:r>
              <a:rPr b="1" lang="zh-CN" sz="2800" spc="-1" strike="noStrike">
                <a:solidFill>
                  <a:srgbClr val="00ff00"/>
                </a:solidFill>
                <a:latin typeface="Microsoft JhengHei"/>
                <a:ea typeface="Microsoft JhengHei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但以理先知书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7:13-14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我在夜间的异象中观看，看见有一位像人子的驾着天云而来，被领到恒古常在者面前。得了权柄，荣耀，国度，使各方各国各族的人都事奉他。他的权柄是永远的，不能废去的，他的国必不败坏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18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进前来对他们说：天上地下所有的权柄都赐给我了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-2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了这话，就举目望天说：父阿，时候到了，愿你荣耀你的儿子，使儿子也荣耀你。正如你曾赐给他权柄，管理凡有血气的，叫他将永生赐给你所赐给他的人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西结书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2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书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2-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记录了最崇高的天使长路西弗，他应该是众天使长中的大总管， 他因业务多，权柄大，渐渐骄傲，想要与真主平等，要像真主那样有尊荣而堕落，被逐出天堂。受造物绝对不能成为造物主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0" y="0"/>
            <a:ext cx="12192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许伊斯兰学者还会反辩说：</a:t>
            </a:r>
            <a:r>
              <a:rPr b="1" lang="zh-CN" sz="2800" spc="-1" strike="noStrike">
                <a:solidFill>
                  <a:srgbClr val="66ff33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需要被赐于权柄，这说明在他之上还有一位比他更大的」。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原本为受造之物的，如何能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得到天上地下所有的权柄？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是只有造物主，赐生命之主才能有的地位。圣经也乐意为此作见证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我耶和华凭公义召你，必搀扶你的手，保守你，使你作众民的中保，作外邦人的光，开瞎子的眼睛，领被掳的出牢狱，领坐黑暗的出监牢。我是耶和华，这是我的名。我必不将我的荣耀归给假神，也不将我的称赞归给雕刻的偶像。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我为自己的缘故，必行这事。我岂能使我的名被亵渎，我必不将我的荣耀归给假神（赛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42:8; 48:11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）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说：属真主的荣耀，不会归给假神。换句话，被造者，永远不会成为造物者。受造者，也永远不会由于某种因素，高升为创造者。原属创造之主，上帝的权柄，地位，全能，属性，又怎能转移给受造之物，使他被称为创造之主呢？古兰经反对「以物配主」，圣经也绝对禁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止这点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绝不会把属他的神性地位，尊称，赐给受造之物；也不会提高任何受造之物，成为创造主（犹太教，基督教，伊斯兰都确信这点）；即尔撒就不可能是「从受造者，被神化，升级成为创造者」。把受造之物提高为神，那就是「假神，以物配主，拜偶像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能得一切天上地下所有的权柄，这原本是他所拥有的，诚如他对真主祷告时所说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父阿（真主），现在求你使我同你享荣耀，就是未有世界以先，我同你所有的荣耀（约翰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5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句话是尔撒向真主祈祷的说话，明显的在表达他道成肉身身份，他是个完全的人，但他的根源却是造物之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与穆斯林既然都相信，真主绝不会将受造者，提高成为创造者，也不会将创造者之身份，地位，尊称，名分，赐给任何受造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1219212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尔撒是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真主的使者，道与灵成为肉身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信奉天经的人们啊！不要在你们的宗教上过分，也不要对真主说无理的话。麦西哈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萨（弥赛亚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），麦尔彦（玛丽亚）的儿子，只是真主的使者，和从真主发出的圣言（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un’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有），祂将这圣言传递给麦尔彦，并且是从真主来的一个灵。所以你们当信仰真主及其众使者，不要说‘三’，当停止，这对你们更好。真主是独一的主，祂超绝万物！难道祂还需要有一个儿子吗？天地万物都属于祂。” （参马坚译本的翻译）            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真主非受造之道， 是真主的使者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ūl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是他授予麦尔彦的话（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是从他发出的一个灵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uh-u minh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甚么唯有尔撒得着古兰经给他这样的见证：尔撒是从真主口出的话语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真主的一个灵这个称谓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还被称为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发出的一句话 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limatim min hus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4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“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从真主发出的话 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limatim minallaahi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” （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3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47520" y="0"/>
            <a:ext cx="1214460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更基于「真主不会把他的荣耀归于假神」的要点：即或尔撒及他的学生不知羞耻，定意要自欺；还是就如尔撒所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在创世以前，他就与父上帝那样，同享一切的荣耀权柄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口说无凭，尔撒必须将上帝的荣耀全能行使出来，证明他是不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成了肉身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同上帝，有权柄，有能力，能随自己的意思行使支配，管理天地的权柄；尔撒能证明他能做到吗？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本福音书告诉我们，尔时具有创造者之权柄，能随自己的意思行使支配万有的能力，如果他能做得到；这就证明尔撒不是一个平凡，受造之人；乃是出于其真主本质作为之使然。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所行过的神迹奇事的兆头计有：                         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行过三次叫死人复活的神迹，证明他有胜过死亡的权势（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1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命令清水变成酒的神迹；证明他有掌管物质界的权柄（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0" y="0"/>
            <a:ext cx="121921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用五个饼二条鱼喂饱五千人；证明有繁殖创造物质的能力（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命令狂风和巨浪停止；证明有管理自然界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从人身上赶出群鬼；证明他有支配灵界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-2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立刻叫无花果树枯乾；证明植物界也顺服他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2-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叫一只鱼送来税银；证明动物界也顺服他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4-2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医治瞎眼，麻疯，哑吧，耳聋，瘫子等病；证明他有胜过所有疾病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,2,7,8,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预知一切，包括人心的思想和意念；证明他知道一切的事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3-51; 2:24-25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在门徒面前变形象，脸面发光如日头，衣裳洁白如光；证明他拥有真主的荣耀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甚至比太阳的光还亮（徒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-1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赦免人的罪，并立刻治好那人因罪所生的病；证明他如真主有赦罪的权柄（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;17-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以上所述，尔撒所表现的能力，权柄与智慧，岂是任何一个先知所能相比的？他所表现的，远超过一个君王，先知，圣人所能承受的。以前没有，以后也不会有。因为那是</a:t>
            </a:r>
            <a:r>
              <a:rPr b="1" lang="zh-CN" sz="28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道成了肉身，住在我们中间，充充满满的有恩典，有真理，我们也见过  的荣光，正是父独生子的荣光（约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曾对他的门徒说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腓力，我与你们同在这样长久，你还不认识我么？人看见了我，就是看见了父（真主）。你怎么说：将父显给我们看呢？我在父里面，父在我里面，你不信么？我对你们所说的话，不是凭着自己说的，乃是住在我里面的父，作他自己的事。你们当信我，我在父里面，父在我里面。即或不信，也当因我所做的事信我（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毫不客气，也不是畏畏缩缩的，让人去猜他就是说何等人，而是明明的让人知道，他把自己提到与真主为同等的。阿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2. 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尔撒说：我是万王之王，万主之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观点：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阿布户莱拉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Abu Huraira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传输使者（默氏）曾如此说：在真主的眼中，最讨厌听见的词句是万王之王，万主之主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Malik al-Mulūk wa Rabb al-Arbāb …..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因为除了真主以外，没有王，唯有他是最崇高的，最荣耀的王与主。</a:t>
            </a:r>
            <a:r>
              <a:rPr b="1" lang="en-US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SAHI MUSLIM </a:t>
            </a:r>
            <a:r>
              <a:rPr b="1" lang="zh-CN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第</a:t>
            </a:r>
            <a:r>
              <a:rPr b="1" lang="en-US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338, 5339</a:t>
            </a:r>
            <a:r>
              <a:rPr b="1" lang="zh-CN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但以理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:44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当那列王在位的时候，天上的上帝必另立一国，永不败坏，也不归别国的人，却要打碎减绝那一切国，这国必存到永远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0:17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摩西说：「因为耶和华你们的上帝，他是万神之神，万主之主， 至大的上帝，有能力，大而可畏，不以貌取人，也不受贿赂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9:7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唯有耶和华坐着为王，直到永远。他已经为审判设摆他的宝座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0" y="0"/>
            <a:ext cx="12192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36-37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回答说：我的国不属这世界。我的国若属这世界，臣仆必要战争，使我不至交给犹太人。只是我的国不属这世界。彼拉多就对他说：这样你是王么？你说我是王。我为此而生，也为此到世间，特为给真理作见证。凡属真理的，就听我的话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4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们与羔羊（真主的羔羊：尔撒）战争，羔羊必胜过他们，因为羔羊是万主之主，万王之王。同着羔羊的，就是蒙召被选有忠心的也必得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9:11-16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我观看，见天开了，有一匹白马，骑在马上的，称为诚信真实。他审判争战都按公义。他的眼睛如火焰，他头上戴着许多冠冕。又有写着的名字，除他自己以外没有人知道。他穿着溅了血的衣服。他的名称为上帝之道。在天上的众军，骑着白马，穿着细麻衣，又白又洁跟随他。有利剑从他口中出来，可以击杀列国。他必用铁杖辖管他们。并要踹全能上帝烈怒的酒酢。在他衣服和大腿上，有写着万王之王，万主之主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王之王，万主之主，这无上的尊号，唯有真正才配受的，新约圣经用来形容尔撒，他要以万王之王，万主之主的身份降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使用尔撒作为福音挢梁者，必须了解，如果不处理这两个问题；尔撒麦西哈在穆斯林心中，仍然不是「主与救主」。不会经历重生与光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结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曾多次公开的采用，旧约圣经及古兰经中，用来尊荣全能上帝圣名之尊称，雅号，来称呼自己。这些原属上帝特殊的尊称，并不是尔撒的门徒私下为尊荣他，而给他套上的。乃是尔撒麦西哈在论说自己时，出于他自己的口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的确宣称他具有与上帝同等的圣名，属性，荣耀，尊称，地位与权柄。没有一个耶和华上帝的先知，或天使敢如此使用这些称呼。从这些尊称的自称中，我们知道尔撒麦西哈就是创造的主成为肉身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120729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oh-ul-La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的灵 、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ūlullā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安拉的使者） 和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lla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安拉的话语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来没有人能被尊为安拉的道，安拉的灵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灵， 神的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词汇是不能用来形容人类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神的道就是神自己，神的灵就是神自己。古兰经对尔撒做如此的谓称，实在是对他做出超出人类的表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0:50:28Z</dcterms:created>
  <dc:creator>HKC</dc:creator>
  <dc:description/>
  <dc:language>en-US</dc:language>
  <cp:lastModifiedBy>chan HK</cp:lastModifiedBy>
  <dcterms:modified xsi:type="dcterms:W3CDTF">2025-02-21T05:28:11Z</dcterms:modified>
  <cp:revision>62</cp:revision>
  <dc:subject/>
  <dc:title>Slide 1</dc:title>
</cp:coreProperties>
</file>