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5600E-96AF-4480-90DA-31DD52A2E5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F3631-9146-4837-87E8-36D7406C99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605-2B85-45D8-B6DC-398FAB3F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22C-88A8-460E-929D-885D80CD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490-5C4A-4889-9496-7B10B47E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C19-29EA-460C-85E8-CBFDC7EA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A54-C64E-4D72-9B1F-B345CF4D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4252-31D3-4344-9894-8585DB9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D222-4688-4F94-AC77-C8BE26CE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C271-85FF-41D1-9DA2-0B4F0DF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3985-A504-48B7-9A67-9A753535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D9D6-796B-4910-AB2A-7DD26D8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EF0F-F99A-4144-B1E6-5B4C58B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50A-E88B-412A-8B93-6F6F52D1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412E-B0D8-4816-887F-AE2E845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B56A-4B30-4B87-9186-036C8DBE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682F-CD29-44DF-8165-C6EF1CA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B59-5F2C-4F1E-A63E-051DE4F7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989E-DE76-455A-ABF5-B4BD918F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FEF3-A002-4EB0-A752-AFE98D0D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8C10-BE76-4E7B-B810-67E5091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6DCD-8099-4601-8309-48B8B98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1965-D580-46AD-A532-7820A462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1F3A-051F-4FED-BD3B-DBC5C57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A82-5B0F-4F70-8A68-9AD75A4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AF48-607C-43A3-84F7-40D40C79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4355-3098-4D5A-8D5B-9044019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2B30-AEB6-40F0-BFF1-AF05A4C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4168-AC76-4D0E-8753-34E3E0C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4D96-9DAB-4D36-AED7-B8DD59FB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DAC9-946F-4445-B5D1-3BB72273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E94E-7942-47F2-B602-83A5A24D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172-B92B-47E2-8B75-BA87D772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49D-86E9-406D-A97B-8AEF0B67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113-E80E-4A54-850B-2A71EAD8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ABB-BA3F-4FF1-A062-C922D65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B2E-1931-40C1-B70C-17119F5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455-AEAA-4DAC-B6C7-79D0562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接触及帮助穆斯林</a:t>
            </a:r>
            <a:r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(II)  </a:t>
            </a: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837EA-9587-42ED-9B2A-47A59B4332FD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2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ffffff"/>
                </a:solidFill>
                <a:latin typeface="Corbe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rbel"/>
                <a:ea typeface="SimSun"/>
              </a:rPr>
              <a:t>接触及帮助穆斯林</a:t>
            </a:r>
            <a:r>
              <a:rPr b="0" lang="en-US" sz="1200" spc="-1" strike="noStrike">
                <a:solidFill>
                  <a:srgbClr val="ffffff"/>
                </a:solidFill>
                <a:latin typeface="Corbel"/>
                <a:ea typeface="SimSun"/>
              </a:rPr>
              <a:t>(II)  </a:t>
            </a:r>
            <a:r>
              <a:rPr b="0" lang="zh-CN" sz="1200" spc="-1" strike="noStrike">
                <a:solidFill>
                  <a:srgbClr val="ffffff"/>
                </a:solidFill>
                <a:latin typeface="Corbel"/>
                <a:ea typeface="SimSun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FC0C7-D35A-4399-B96D-CBD3D2915372}" type="slidenum">
              <a:rPr b="0" lang="en-US" sz="1200" spc="-1" strike="noStrike">
                <a:solidFill>
                  <a:srgbClr val="ffffff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1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接触及帮助穆斯林</a:t>
            </a:r>
            <a:r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(II)  </a:t>
            </a: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8ABA7-77AB-4701-90E2-3A2BDDA47391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EEB75-9497-4D1F-8414-B446419B8A9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92240" y="189000"/>
            <a:ext cx="11736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辅导学角度来接触及帮助穆斯林（</a:t>
            </a: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当穆斯林改教，会遇见什么问题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如果改信基督教，可能会遇到以下问题，具体情况取决于他们所在的国家、家庭背景和社会环境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 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社会和法律问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法律惩罚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一些伊斯兰国家（如沙特阿拉伯、伊朗、阿富汗等），改教可能被视为叛教（阿拉伯语：</a:t>
            </a:r>
            <a:r>
              <a:rPr b="1" lang="ar-SA" sz="2800" spc="-1" strike="noStrike">
                <a:solidFill>
                  <a:srgbClr val="000000"/>
                </a:solidFill>
                <a:latin typeface="Microsoft JhengHei"/>
                <a:cs typeface="Arial"/>
              </a:rPr>
              <a:t>الردة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iddah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在极端情况下可能会面临死刑、监禁或其他惩罚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失去公民权利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国家可能会剥夺改教者的公民权、财产权，甚至不允许他们结婚或合法继承财产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身份文件问题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某些国家，身份证或护照上标明宗教信仰，改教者可能难以更改官方身份记录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A6E11-17C7-4921-91ED-9E1725BE346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3520" y="268200"/>
            <a:ext cx="1166508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没有教导，过正常的基督徙生活，就会免去考验。正好相反，就因为是基督徙，我们必会经历困难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</a:t>
            </a:r>
            <a:r>
              <a:rPr b="1" lang="zh-CN" sz="2900" spc="-1" strike="noStrike">
                <a:solidFill>
                  <a:srgbClr val="660033"/>
                </a:solidFill>
                <a:latin typeface="Microsoft JhengHei"/>
                <a:ea typeface="Microsoft JhengHei"/>
              </a:rPr>
              <a:t>徒 </a:t>
            </a:r>
            <a:r>
              <a:rPr b="1" lang="en-US" sz="2900" spc="-1" strike="noStrike">
                <a:solidFill>
                  <a:srgbClr val="660033"/>
                </a:solidFill>
                <a:latin typeface="Microsoft JhengHei"/>
                <a:ea typeface="Microsoft JhengHei"/>
              </a:rPr>
              <a:t>14:19-22 </a:t>
            </a:r>
            <a:r>
              <a:rPr b="1" lang="zh-CN" sz="2900" spc="-1" strike="noStrike">
                <a:solidFill>
                  <a:srgbClr val="660033"/>
                </a:solidFill>
                <a:latin typeface="Microsoft JhengHei"/>
                <a:ea typeface="Microsoft JhengHei"/>
              </a:rPr>
              <a:t>但有些犹太人从安提阿和以哥念来，挑唆众人，就用石头打保罗，以为他是死了，便拖到城外。门徒正围着他，他就起来，走进城去。第二天，同巴拿巴往特庇去，对那城里的人传了福音，使好些人作门徒，就回路司得、以哥念、安提阿去，坚固门徒的心，劝他们恒守所信的道；又说；我们进入神的国，必须经历许多艰难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觉得经历苦难是不寻常的事；进入神国度的路经，必然遇见苦难的事。因此，应当刚强壮胆；因为这条道路能充满着神的恩典（林后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苦难」并不是神国系统中的瑕疵与缺点。没有一件事在神眼中是失控的，所以我们不必胆心苦难，视这一切为寻求神国度的部份代价，经历，工作与赏赐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E53FB-1049-4EA7-86B0-D8FB20C59EE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92240" y="268200"/>
            <a:ext cx="1180764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命令穆斯林逼迫异教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古兰经要求穆斯林逼迫那些「改教者」；视它们为叛教，变节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:89 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们希望你们像他们那样不信道，而你们和他们同为一党。故你们不可以他们为盟友，直到他们为主道而迁移。如果他们违背正道，那未，你们在哪里发现他们，就在哪里捕杀他们；你们不要以他为盟友，也不要以他们为援助者」。                                                                            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般穆斯林领袖认为，若离弃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最高刑罚当处以死刑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异教徙，乃是一种「圣战」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Jiha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7:4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你们在战场上遇见不信道者的时候，应当斩杀他们，你们既战胜他们，就应当俘虏他们，以后释放他们或准许他们赎身，直到战争放下他的重担，事情就是这样的，若真主意欲，他必惩治他们，但他命你们抗战，以便他以你们互相考验。为主道而战亡者，真主绝不枉费他们的善工</a:t>
            </a: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2A83E-C694-4BBA-B077-8C70EA88C94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92240" y="268200"/>
            <a:ext cx="11880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考可以打不顺服的妻子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 34,;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进攻杀害不顺从的异教徒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90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叛教者必遭天谴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06-107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起源于伊斯兰的神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lahu Akhbar.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伟大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应当解释为；「安拉是最大的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可以被理解为：「安拉是大过一切有能力的和原子弹，他比所有的科学家，政治家还聪明，比一切的天使和万物都还美丽。他比盗贼，骗子更狡猾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9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」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，拥有如此的本性，反映了它的宗教论理。这位上帝会以「专横，暴虐」来对待他的追随者；穆斯林也照样，会以这样的形势来对待异教徒，特别是那些反对他们的人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神在和人的互动关系中，可以不重视爱，赦免，热情。敬拜只是带来敬畏的感受。伊斯兰的神是缺少爱，缺少赦罪恩典，强硬的上帝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B0603-7F78-498C-ADA4-5455E5ACC15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92240" y="268200"/>
            <a:ext cx="1169964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缺乏自我批评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教义，成型于主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0-10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阿巴斯皇朝期间，曾受到严厉的批评。最后伊斯兰世界决定；「禁止」一切对古兰经或任何教义的批评与讨论。只要相信，不要问「为什么」，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！一种宿命论的信仰，强调命运早已注定。任何人都没法，改变他的命运与永恒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拥有这样的宗教进程，穆斯林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自己所信的，进行批判与简讨。律法是触动怒气的；反而会责怪别人。唯一会自我批判的事情是：祷告不够；禁食不够；不够敬虔。穆斯林可以充满自我，同伙共犯；放肆专横。很多会以为他们是超越的，能干，背努力，有才华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徙成为穆斯林失败的代罪羔羊                                                             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自以为是超越的属灵人，他们需要被补偿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B38A0-EF01-4640-8C86-457C28A3B77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63520" y="268200"/>
            <a:ext cx="11665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神秘主义的背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具有神秘主义色彩。它没有无法视透和抵挡黑暗的势力；由于古兰经提示精灵说可以被利用的，穆斯林他们会为解决生活中某些难题，而去接触神秘主义。以致他们受到撒旦的欺骗，向他下拜而不知道；灵里对耶稣基督产生某些厌恨而不自知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可能以为，解决生活问题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动机是好的，但他们并不知道这些精灵的力量，来自黑暗的权势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在穆斯林的思想中，不只是一些的伊斯兰信仰，在他们的下意识里，还有这些抵挡真神，抵挡真光的黑暗势力，存在他们里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15D59-5857-4FA8-9694-62D26A19DB9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16000" y="252360"/>
            <a:ext cx="11712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希望自己成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告知他们所得的启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于</a:t>
            </a:r>
            <a:r>
              <a:rPr b="1" lang="zh-TW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唯一的，超越的，主导的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”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徒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被上面最高的权柄指导，要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而争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战）。穆斯林的阿訇（传道人）就是牧人，会阻碍穆斯林去接触到福音。他们不愿和伊斯兰以外其他信仰共存。如果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改变基督徙，他就会转而征服，改变，影响，威胁，逼迫；这样基督徙就不许继续传扬福音。若有外显的基督徙，会释放出令伊斯兰妒忌的火花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识以上造成穆斯林，逼迫基督徙的观点和理由，能帮助我们保守归信者，尽早防备他们陷入和遇见逼迫的情况发生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F3A21-C83D-4DB7-84DD-2BEE413C32E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92240" y="189000"/>
            <a:ext cx="11736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被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离开族人，被丈夫离弃，婚姻破裂，失去工作，经济被取消，被打，被关，被罚等等。家人的关系与经济影响力，常会使归信者，不得不屈服，而走回头的路。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因此，神的家必须随时愿意，打开家门，补上他们原本家庭所留下的真空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家人知道，他改信了基督教，一般的情况会是，有关连的家庭人士，包括宗教领袖，社会人士，会联结起来，要逼迫他们归回。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逼迫的方式可以是甜言蜜语的相劝，到暴力逼迫，甚至谋杀和死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般的家庭，会对归信者说出关系上的死亡；至到归信者，重新回到伊斯兰信仰为止。曾有一归信者还遇见暗中「秘密警察」的压力，几乎让归信者失去理智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归信者要晓得拒绝，某一类的伊斯兰旧朋友的到访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E1202-5218-43EA-863C-5BF9F38A30F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06280" y="268200"/>
            <a:ext cx="116506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帮助他们处理改叫后的内疚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处理好内心的罪疚感觉；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撒旦常常会以关系的破裂，叛教者，失败者，引起问题者，来控告归信者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必须从上帝那些得到信仰的肯定，知道自己走在正确的真理与信仰里。他旧有的信仰必须连根拔起；确实是错误属异端。否则在压力下，他们可能走回旧路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胜过所有的惧怕与威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惧怕感」是种强大的控制力量。惧怕失败，惧怕邪灵，惧怕人，各种各样的惧怕，感染着我们社会的每个层面。主耶稣在他传道时，最常说的其中一句话是：「不要惧怕」。我们必须决定要「惧怕神」过于惧怕人；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5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我要指示你们当怕的是谁：当怕那杀了以后又有权柄丢在地狱里的。我实在告诉你们，正要怕他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CCBB5-E65C-434E-B7D1-6450AAE86B7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3520" y="254160"/>
            <a:ext cx="11593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战胜惧怕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一位在北非的布道家曾说明过：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信仰，被关着，这是正常的；被释放，那是不正常的」。这样的观点，能帮助我们战胜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伊斯兰中宣教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惧怕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里没有惧怕；提后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7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因为神赐给我们，不是胆怯的心，乃是刚强、仁爱、谨守的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旦如同吼叫狮子，四处寻找可吞吃的人。它想要威胁我们；目的要禁止我们作见证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29F11-A378-41A1-BDAC-964FACCB613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63520" y="268200"/>
            <a:ext cx="1166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要如何向惧怕死，向主耶稣活呢</a:t>
            </a:r>
            <a:r>
              <a:rPr b="1" lang="zh-TW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抵挡撒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要显露撒旦的计量（说谎，玩弄，诱惑）；其实他已经被主耶稣打败，他的能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基督里是一无是处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主耶稣所例的灭亡名单中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个性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；排名第一位的竟是：胆怯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启 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21:8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惟有胆怯的、不信的、可憎的、杀人的、淫乱的、行邪术的、拜偶像的和一切说谎话的，他们的分就在烧着硫磺的火湖里；这是第二次的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被圣灵充满时的一个特徵是：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刚强壮胆。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徙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4:31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祷告完了，聚会的地方震动，他们就都被圣灵充满，放胆讲论神的道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初期的教会不祷告有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平安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历，而是祷告能放胆，有能力传主的道。神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国的开展，需要有那肯定，不惧怕，刚强的人来推动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DCFD5-AA63-4307-9ABE-6BA48ECC77EF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3520" y="268200"/>
            <a:ext cx="1173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家庭和人际关系挑战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家庭排斥或断绝关系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教者可能会被家人视为“羞辱家庭”的人，甚至被家族驱逐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婚姻问题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一个已婚穆斯林改信基督教，他们的配偶可能会提出离婚，并可能失去对子女的监护权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社会孤立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教者可能被朋友、社区成员疏远，甚至受到威胁或暴力攻击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产生经济和生计问题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失业风险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改教者的雇主或同事是穆斯林，他们可能因宗教信仰改变而被解雇或受到歧视。 </a:t>
            </a:r>
            <a:r>
              <a:rPr b="1" lang="en-US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商业封锁</a:t>
            </a: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斯林占多数社区，改教者可能会发现自己难以继续做生意，因为客户或供应商可能拒绝与他们合作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财产继承问题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伊斯兰教法（沙里亚），叛教者通常无法继承穆斯林亲属的财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31E25-698D-48FB-BBB3-A355DAE448D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27160" y="268200"/>
            <a:ext cx="1173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你如何对潜在的惧怕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作反应呢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把神放在你的惧怕中：                                                   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先决定你所要做的反应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的决定是要惧怕神，多过惧怕人与事。听起来，好像太简单，当我们将惧怕和神联结在一起，我们就会得到正确的观点。若不把神放在惧怕中，叫人死的惧怕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成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的决定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能会遇见想威胁我们的人；要解雇我们的工作；给我们各样的压力，难处。其实他们有什么可怕呢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10:28 </a:t>
            </a: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那杀身体，不能杀灵魂的，不要怕他们；惟有能把身体和灵魂都灭在地狱里的，正要怕他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C0840-2020-4730-8667-292788BEC42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63520" y="290520"/>
            <a:ext cx="117363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把死与复活，放在你的惧怕中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腓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:21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因我活着就是基督，我死了就有益处。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的死，并不能使我们与神的爱隔绝。耶稣基督就曾以死，来打破死的权势。有一天我们在主里死的人，主耶稣会使我们从死里复活，给我们一个比现在强百倍的荣耀的身体。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每个受洗归入基督的人，是归入基督的死。已经与他同死，同埋葬，同复活了。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就世界而言，我们已经与主同钉十字架，就我而论，世界已经被钉在十字架上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死在我们身上就不怎么样了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0AEF0-FD93-4FA3-A4E0-2092FDB42DB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92240" y="268200"/>
            <a:ext cx="11736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向穆斯林家人见证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，有些课题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可以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讲的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通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里头，宣称有基督教信仰的联结，耶稣基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的先知，使徒，旧约的宗教历史，也隐藏在古兰经里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可以藉着这些联结，来和个别家人，私下交流，作见证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重生新生命的转变，作见证的支持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上帝所启示的道说话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密室的祷告生活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来得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着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灵力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留意圣灵的感动与引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2B64E-84F9-483F-83A5-8009688D2DA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7160" y="258840"/>
            <a:ext cx="117378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圣经怎样论及「暗中作门徒」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信仰遭受逼迫的压力，使许多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隐藏」信主的事实。他们成为「隐密」的信徒。至终，所有的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必须在「仇敌」面前，公开承认在主里的信仰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不告知亲友，他在基督里的新信仰，他会感觉自己的信心，像是在空中走钢线一般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刻意隐藏信主的身份，有时像个双面人。一方面，在基督徙的团体圈子中，是个好信徒。另一方面，在伊斯兰家庭的圈子中，会假装自己还是个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遵守他们中间的一些律法，习惯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，如果他敢为信仰站立起来，许多不必要的压力，不久都会成为过去。就算大胆的公开以新信仰的方式来生活，当他们如此做了，都会感受到真正的自由与释放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讨论：穆斯林可否继续以穆斯林身份来信靠和跟随基督？）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18706-0FC9-443A-A8DA-F52307F067E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3520" y="268200"/>
            <a:ext cx="11665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让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作决定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做为辅导员，我们只可以鼓励，不可以强迫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在人面前公开承认他的新信仰。因为，公开或不公开，什么时候公开等，这都是个人对主信心的大小，以及他跟主耶稣之间的关系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要求他从主领受才是重要的，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唯有神掌管这一切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尼哥低母在主耶稣的时代，就是个隐藏身份的门徒。但在隐藏身份的情况下，他仍然能为主耶稣及团队做了一些特别的服事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8-52; 19:38-39)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取了耶稣的身体去安葬。另一个隐藏的门徒是亚利马太人约瑟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公开信主的见证，这要看个别的危险性，压力与信心大小的程度，来决定公开的时机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通常的情况是，等待越久，越有问题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3CC65-518A-4792-B2CA-97C07106BF8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63520" y="268200"/>
            <a:ext cx="1159344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生命危险时，有需要为他们提供一个「安全」的家；也要让他们有机会参加集会或接受栽培。在最初的阶段，集会的地点有时需要一再更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尤其有人具有杀人的动机时，更该立刻做成更换，或者逃离。这是保罗传福音时，经常做的动作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帮助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对逼迫有正确的观点。因为，这会决定他们面对逼迫的胜算。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惧怕受到逼迫，这样的感觉，就等于是活在逼迫中了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亡对许多信徒来说，不是最悲哀的事；失去对主耶稣的信心，才是最糟糕的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到逼迫的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为自己的益处，选择要饶恕并为那逼迫他们的祷告。这样能避免产生苦毒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26C29-D056-475D-B896-B926F6A7309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85760" y="268200"/>
            <a:ext cx="11814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虐待与危机的处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妇女遭遇虐待时，她们通常都不寻求帮助，因为她们不想让家人蒙羞。她们也惧怕，告诉别人以后，会加重了对立。许多时候她们会认为，忍气吞声会是最好的解决方法。通常伊斯兰妇女没有工作入息，她们全然要依赖丈夫的供养。为了儿女，他们会忍受下去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着低落的自我形象，他们甚至还要满足丈夫许多无理的要求。一个受虐待的伊斯兰妇女，不容易在伊斯兰的圈子中找到协助。她们需要默认，她们在这样的文化中，是属于男人的「附属物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3A842-2C70-4828-8BC7-0AD3B2A4E32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98360" y="268200"/>
            <a:ext cx="1173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信仰教导，加重了「虐待」的可能性。伊斯兰教导中，指出一个妇女若不顺服她的丈夫，她首先会受到责备，不和她同床。如果没有改善她的态度，男人可以对她进行肉体上的责罚，来逼使她顺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4:34</a:t>
            </a: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「男人是维护妇女的，因为真主使他们比她们更优越，又因为他们所费的财产。贤淑的女子是服从的，是借真主的保佑而保守隐微的。你们怕她们执拗的妇女，你们应该劝戒她们，可以和她们同床异被，可以打她们。如果她们服从你们，那末，你们不要再想法欺负她们。真主确是至尊的，确是至大的」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信「宿命论」；他们口中常说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sha-a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神若愿意。如果遇见自己的命不好，只好认命，他们不会试着去寻求大突破，大改变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B30AB-0A2E-4E48-8CCE-CFBB43565AD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34800" y="268200"/>
            <a:ext cx="11522160" cy="58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什么带给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最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多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考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虑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与压力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压力可能来自以下的因素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续的法律对质，封锁财富，争取扶养权等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逼迫来自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宗教与社交圈子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嫁给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，不考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信仰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伴侣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济与供应的压力；不再受到家人的供应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活在伊斯兰信仰的圈子中，受到儿女，亲人的逼迫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亲人不放弃，尽所有力量要把他拉回伊斯兰信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面对失去婚姻与儿女的扶养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B23BB-9A6B-4A83-A61F-FCAEDA0702E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92240" y="262080"/>
            <a:ext cx="11807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处理虐待事件：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两类：「情感的虐待」及「身体的虐待」。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情感的虐待：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批评与话语的虐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直呼名称；嘲笑，控告，指责，狂叫，责骂，咒诅，讥讽， 说恶言，作不雅的动作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出手段施压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「内疚感」逼一个人作出让步的决定；或使用「威胁」的手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逼人就犯；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冷战，不说话，以孩子要胁，分化人来支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滥用权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永远是对的，错的是别人；强迫别人照要求做事；替别人做出重大的决定；支配别人的幸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否认责怪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玩弄别人的付出；不尊重别人的利益；不肯为错误负责；将错误转移给别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C6663-AB56-4A4F-B9DF-92D4931F9DF3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63520" y="268200"/>
            <a:ext cx="1173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 </a:t>
            </a:r>
            <a:r>
              <a:rPr b="1" lang="en-MY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心理和信仰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上的</a:t>
            </a:r>
            <a:r>
              <a:rPr b="1" lang="en-MY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挑战                                                                              </a:t>
            </a: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内心挣扎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教可能带来心理上的冲突，特别是如果他们从小在严格的伊斯兰环境中成长，改信基督教可能会让他们经历深刻的认同危机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灵性上的挑战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改教者可能会经历怀疑、害怕背弃过去信仰的“后果”，并需要时间去适应新的信仰体系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安全隐患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极端组织或家庭成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能会认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叛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者应被“惩罚”，改教者可能需要逃离家乡，甚至寻求庇护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9BE06-B09B-4B1E-8F67-B92C6DFFBFC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3520" y="189000"/>
            <a:ext cx="11665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不尊重别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打断别人的说话；将重点改来改去；不肯听别人的心声；歪曲事实；让受害者在人面前丢面；讲负面的话；说别人的坏话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经济控制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干涉别人的权利；拦阻别人去工作；该付的金钱没付；拿走别人的交通工具；功利主义；不听他的话就把好处拿走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自残的行为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吸毒，醉酒，以死相逼，自残方式，蓄意说出消极，破坏，咒诅的言语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孤立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止受害者接见亲人，朋友，追踪电话来源，限制自由出入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滥用，不守信用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谎，封锁消息，欺骗，过份的妒忌，不遵守承诺，不尽自己的责任，不听劝告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骚扰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不适当的时刻打电话，上门找人；追踪别人的行踪，追查别人的私事；在公开场合污辱人；用骚扰的手段逼人就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F8E6D-DFBD-4B04-9620-87AAC7CC2B5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63520" y="404640"/>
            <a:ext cx="11665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「身体的虐待」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破坏家具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毁坏家庭用具，击打墙壁，丢东西，打东西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威胁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表现出火暴，怒气冲冲的表现；以暴力造型显出威胁；争吵时挡住别人的去路；怒气冲冲的驾驶；怒不可遏的盯着人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性暴力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污辱的方式进行不正确的性别对待；以暴力要胁方式要求性行为；要 求不正当的性行为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身体虐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对孩童，动物，佣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身体虐待；推人，掌掴，拳打，脚踢，击打，鞭打，火烧，水烫，针刺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武力对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以武器要胁；洞言以杀人方式达到目的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43195-787D-48EE-9638-4B6F5DB9863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7160" y="268200"/>
            <a:ext cx="117378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恶性循环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虐待的罪性，会引发恶性循环的效应。作恶虐待人者和被虐待的受害者，都没有能力走出罪恶的权势。通常虐待的行经，会如此的循环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生发压力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互相批评，大声叫骂，恐吓恶言相向，生气表态；强逼行为，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暴力行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身体与性行为的攻击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蜜月关系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歉，和好，悔过，答应改过，送礼，补偿这类的循环包括爱（你还爱你的配偶）；希望（不如意的事会过去）；惧怕（可能再被虐待或受害）的情节，使暴力不容易有个了断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害者必须知道，暴力以后，暂时恢复的关系并不是真爱与悔改。这不过是个内疚暂时的解脱，不久虐待事件就会重演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28C7C-10C9-4065-BB1C-DEEA6CA8D8E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63520" y="257040"/>
            <a:ext cx="116650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危机的处理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危机产生的四个阶段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危机的导因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危机的产生，始于有个引发危机的温床。危机者及辅导者，必须找出什么因素，引发了危机的产生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可责之处阶段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会开始体会到有个危机的压力，这些事一早就可以处理好它。若不处理，心里就会有受责难的感觉。不要在心灵低落，受伤时做出重大的决定和反应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启动的因素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防线的破裂；例如；一个对立，一个批评，一个讥笑，使整件事暴发开来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活越的危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危机得不得处理，它的难处，压力与痛苦就会一直存在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9153F-6DC8-449A-AB28-58A9631FC71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92240" y="250920"/>
            <a:ext cx="118807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活越危机的四种迹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压力对身理的影响</a:t>
            </a:r>
            <a:r>
              <a:rPr b="1" lang="zh-CN" sz="2900" spc="-1" strike="noStrike">
                <a:solidFill>
                  <a:srgbClr val="c00000"/>
                </a:solidFill>
                <a:latin typeface="SimSun"/>
                <a:ea typeface="SimSun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体会到压力，头痛，焦虑，腐败，感到很不好过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有无助与失败的感觉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觉得已经努力改变，但没有好结果。感觉自己是失败者，打败仗，精力消耗。没有希望。双方的行为无法改善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希望得到解脱：让我脱离这一切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事人希望走出压力与困境。他已经没法有效的，独自解决这样的问题。需要有别人介入分担，解决问题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低落的效率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遇见危机时，还可以生活下去，但效率可能减少了一半。需要找出平衡点来缓冲它。例如，读经，祷告，冷静的反应，胜过对方的否定力量，以善胜恶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80E17-B01A-49CF-8569-28EEBB41551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3520" y="268200"/>
            <a:ext cx="11809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帮助身处危机的受害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反击迫害：                                                            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总会有协助的出路。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哥林多前书 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10:13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你们所遇见的试探，无非是人所能受的。神是信实的，必不叫你们受试探过于所能受的；在受试探的时候，总要给你们开一条出路，叫你们能忍受得住。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寻找团体的协助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受害者去报警，留下备案，拦阻对方继续作恶。受害者必须让虐待他的人知道，他不会再当他的复仇对象。如果遇有小孩，要为他们做些安顿的事，因为他们要走的路还远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让受害者说出他的感受，帮助他看见受苦的价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害者不必为他受到的无理虐待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告诉受害者：你有权利来思想，感受，做决定。你不是独自一人，你有权利求帮助。当你做出正确的决定，我们有神，就总是会有希望与出路。进入密室祷告，寻求神所给的出路。动员教会来为他们祷告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E7C11-C033-4484-A79A-3F48E0F66EE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7160" y="314280"/>
            <a:ext cx="117378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虐待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/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侵犯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说婚姻会因为一方信主而全家蒙接纳。要活出新生命。然而，实在没有必要，让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继续与一位不会谅解，又具有暴力的丈夫生活在一起。因为，她只会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继续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遭受恐吓与虐待的捆绑。在这样的逼迫下越久，就越困难脱离这类的痛苦。若事态严重，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让所受的不公平对待，公开出来。虽然不容易，但让事情见光是个好的方法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辅导员必须为这类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排援助系统；支持她的教会与亲友。受害者不必向亲人，教会隐藏她的伤痕。让事实说话，这有助于让作恶的难以自容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附庸者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定义：「附庸者是个让容别人，长期在他的生活中，有直接干涉与支配的权利。支配者缠着附庸者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切的行动与生活」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E454F-753A-453E-9B4F-7ADD62B73DB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63520" y="268200"/>
            <a:ext cx="1166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一个人都有可能成为附庸者。他把自己的生活主权，交给那会侵犯与虐待他们的人，生活几乎变为没法自主。通常这样的人，需要别人援助他走出困境。若不然他们的生活会越来越不自主，且变得非常迷失。附庸者必须停止当别人的受害者。以为自己是在原谅支配他的人，其实是被那支配人的玩弄在手掌中。他们需要有决心，拿回自己生命的主权，不要再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人的恶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否认事实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习惯否认或假装问题并不存在。他们假设事情还没有发展到最糟糕的情况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明天也许事情就会变得更好。他们会让自己很忙，以免有空去想不愉快的事，以致成为一个工作狂。这样的人也许会变得迷惑，空虚，失眠，压力，有病，洁癖，暴食，乱花钱，强制性的生活习惯；甚至假装自己并没有什么问题。他看着事情恶化，不明白什么造成自己快要发疯了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8DC41-E15E-4BF1-B6BE-63189FFAAE9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99880" y="303120"/>
            <a:ext cx="11592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离婚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离婚涉及层面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广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情感；法律；经济；儿女监护权；社会；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系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因此，离婚不是到法庭办个手续那么简单。它可以是一件又大，又复杂的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法律问题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法律行动所要付出的费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三思而行。法律的费用，会引起严重负债的问题。对一个不重视法律程序的国家，恐怕最后得益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是这些专业人士而已。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扶持，金钱更合宜是用在，帮助他们找工作或做点小生意。如果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上法庭，出于道德的支持，必须有人关注与陪伴他们。如果一定须要律师的协助，最好找个基督徒律师，要紧的是先了解收费的范围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075F1-4082-45C8-A8B5-BF4950B7D2F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92240" y="303120"/>
            <a:ext cx="1180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强奸</a:t>
            </a: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/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性侵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家长（养父母）性侵犯了他的养子女或年幼的；为了保护孩子不继续受害，必须对罪犯采取严厉的行动。严苛的行动，可能导至婚姻失败。有些人会争议说：上帝不喜欢看见人离婚！这样使用圣经，会使人盲目看不见受害者的权利，也忽略受害者的痛苦。为了不让人离婚，就要让受害者忍受婚姻的罪行与不忠吗。如果辅导员不断绝罪的权势，他就是支持罪犯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自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人表示想以死来了结困难，不要轻看这样的口气。想结束生命的，通常是失去盼望的人。如果他正受到失败，恢心，打击，又说出这样的话，就当小心处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有人打电话告诉你，他想自杀；就当劝告他先放下这个错误的办法。对有神信仰的人，那是得罪侮辱神的行为。要求他让你们尽快彼此见个面。尽量让他同意并承诺，在没有寻求更好的专业意见，不要去选择死亡的路。也许这样的一个承诺，是使他要继续活命的方案</a:t>
            </a:r>
            <a:r>
              <a:rPr b="1" lang="zh-CN" sz="2800" spc="-1" strike="noStrike">
                <a:solidFill>
                  <a:srgbClr val="000000"/>
                </a:solidFill>
                <a:latin typeface="SimSun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D2716-3F7A-4678-899E-E3D28DC8BDF1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92240" y="187200"/>
            <a:ext cx="1180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如何面对这些挑战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寻求安全的信仰环境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自由宗教信仰的国家（如欧美）改教通常不会带来法律后果，改教者可以考虑迁居到更宽容的地方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加入基督教社群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深度的一对一门训跟进。与其他信仰相同经历的信徒建立关系，获得支持和帮助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保持低调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高风险地区，改教者可能需要低调地实践信仰，避免公开身份，以保护自己和家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法律援助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改教受限制的国家，可以咨询国际人权组织或法律援助机构，以获得保护和支持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A2CC2-B8F3-4570-8E27-016CA622C02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92240" y="257040"/>
            <a:ext cx="11807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受虐待的妻子（被打）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妇人受不了虐待的痛苦，而想结束婚姻。幻想另找个新的也许好一点。若是如此，问题并不会解决，不过是从这里，转到另一个方向去了。情况不会变好，而且会重覆发生，除非一些良好婚姻根基建立起来。婚姻失败的理由很多；意志力不坚定，自我形象低落，不会做决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负责任，缺乏经济力量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为辅导员的，必须看顾到现实；小心不要造成不必要的压力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续的虐待，意味着受害者会放弃这样的婚姻；或意味着，受害者会继续受虐待下去。这样的情况若恶化，受害者自我形象会损坏，感受到捆绑。身体受到虐待，则会使爱的热诚死亡。若男方认真的想改过，并寻求破镜重圆，他必须用几个月的时间来证实他的诚意。最好能加上专业的辅导来帮助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C2CA9-E6D4-41E9-9636-0EA334F1A67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27160" y="291960"/>
            <a:ext cx="1173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破镜重圆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夫妇和好的事当受到最高的敬意；但不一定在每个情况下合用。它可以是另一个更糟糕结局的开始。可能那不过的暂时性的和好。不久你看见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怀孕了，加上新的孩子责任担子，加上更重的经济压力，新的离婚挣扎又开始了。除非回到圣经的原则才能有保障：即夫妻同负信仰的轭。如果，一方坚持不肯信仰基督，厌恶基督信仰。开始了的暴力与虐待，就会持续的发生下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选择饶恕对方；但不表示要把自己，再放回受苦的位置上。我强烈的建议让和好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在未来的两年选择避孕方式生活；祷告两年看看，双方在主里是否经历新生命的触摸。这样一来，事情就不会因为怀孕而变成更难处理。如果丈夫再次使用暴力，找出一些能抵制或禁止他作恶下去的方案。如果，他再次以暴力击打女方，带她去报警，看医生，并留下记录，不要收回所备的案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46CD5-E5D5-4DD7-A419-1FA656C5644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63520" y="268200"/>
            <a:ext cx="1166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处理属灵的捆绑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伊斯兰信仰黑暗的一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也有神秘与隐蔽的一面；要得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需要依靠属灵的能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处理这类的黑暗面权势。通常这类黑暗的战场是在思想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0:3-5)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我们争战的兵器本不是属血气的，乃是在神面前有能力，可以攻破坚固的营垒，将各样的计谋，各样拦阻人认识神的那些自高之事，一概攻破了，又将人所有的心意夺回，使他都顺服基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民间信仰充满着迷信与法术。回教徒通常不会正面承认这些事；但所有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常是这些「黑暗之事」资料最好的提供者。不同地区会操练不同的隐蔽想法与禁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DB76F-0AEE-4A4D-AF37-FBBB37F780E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27160" y="268200"/>
            <a:ext cx="1173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使用巫术的理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有生活困难不能解决，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习惯会寻求属灵能力来解决。通常所寻求的巫术，就来自他们中间的宗教师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悔改时，必须为做过这些事来认罪。以圣经真理取代这些错误的观念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生重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生病很久都不见好；他们就会去寻找有医治能力的宗教师。可能用电话来寻求帮助；或者登门拜访。若妇人不能生育；她可能去一位「圣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ramma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的墓碑前向他祷告。他们相信圣徒们都有医治的能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爱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斯林爱上某个人，而对方没有反应时，他们会寻求属灵能力来让对方爱慕自己。他们会拿对方的名字，或任何东西来施咒语。妇女看见自己的丈夫爱上别的女人；也许就会请求巫师施咒语，破坏对方对的恋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607F7-6DD5-42DB-AB30-76E50C3C196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92240" y="247680"/>
            <a:ext cx="1169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成功发达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使用巫术使自己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业经济成功。将古兰经文写在皮革纸上，当作护身符。带在身上或放在皮毛里，就可以带来顺利，顺事，成功。去麦加进行朝圣时，他们会拜访当地，有能力的法师来寻求事业兴盛的祝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渗透，预知的能力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用不同的方式，来寻求有效的引导。甚至有些悔改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们还具有某些属灵的能力，能看见自己的丈夫是否犯罪。有时候她会感到这些能力使她非常消沈，丧志，不舒服。最后，不得不拒绝这样的能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诱逼人加入伊斯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基督徒与回教徒结婚，回教徒那方的人，会尽一切的力量来使基督徒这方的人，归向伊斯兰信仰。如果基督徒是得救的真信徒，报导显示，这一切黑暗权势，在基督身上完全没有功效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8E1AD-C78C-43C2-95AB-610E1719757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92240" y="268200"/>
            <a:ext cx="1173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咒诅不信的人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家人，若要带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归回伊斯兰，他们会祷告，甚至咒诅改教者。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有这类的困难，需要为他们祷告。如果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决志，带领他为从前的旧信仰认罪，拒绝伊斯兰的灵，包括认祖先所犯的罪，这样就能根据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为他们破除咒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家中的巫术灵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家庭所出现的邪灵力量；有时会多到让人感到希奇。这类邪恶力量的彰显希奇古怪；例如家中的物件无故的失踪，物件突然破裂，看见邪灵，床被移动，出现不明的声音，这些事件会让大小感到恐惧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它的彰显一位死去的妇女，以一个灵的身份，「造访」了她的姐妹。有些妇女宣称，她们被某些邪灵强暴。有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感受到脖子被掐，像快要窒息。就像被什么东西压在心口，动弹不得；口里说不出话，不能呼求主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F56B5-02D9-4C99-ADAF-5B2762B4003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99880" y="268200"/>
            <a:ext cx="115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奴仆逃亡的故事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　　　　　　　　　　　　　　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事说到有位奴仆逃走。主人不放弃他的奴仆，就派人追踪他。最后奴仆逃到一条充满鳄鱼的河边。他必须逃过河的对岸才能逃脱，追捕的人快追上来，他急着找过河的方法，忽然他发觉河边有只小船，就快速的解开绳索，跳上小船，把它摇往对岸，来到河中央，忽然小船动不了，像有什么东西拉着它。原来船下有条绳索绑将船绑着。追逐者这时已来到，把船拉回岸边，把奴仆捉回给主人。这第二条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隐藏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绳索是主人的手段，以免奴仆轻易的逃脱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故事说明，必须断开归信者先前信仰中，所有隐藏的黑暗权柄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受的捆绑属于集体性的。不但须要面对自己的罪，也要面对他人的为难。救恩是可以经历，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断开所有撒旦的捆绑，不然归信者就会陷在「泥泞中」过不了对岸。因为有条暗中的绳索把它拉着。最后，他从前的同胞又把他捉回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926CE-7A07-4DD7-B866-5F93CCD04C3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63520" y="295200"/>
            <a:ext cx="1166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破除伊斯兰的思想营垒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当穆斯林归向主，先前他生命中的「营垒」，必须被捆绑与破除。否则，他在基督里的信仰不会进深，在追捕者的追赶下，可能会放弃基督信仰。旧有壮士的联接营垒必须破除；所以必须付代价来栽培他们，使他们意决要脱离伊斯兰一切的迷惑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初期教会曾有个信仰的仪式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归信者，公开宣布与撒旦脱离关系，并承认一生要跟随基督。不知何故，这仪式在大部份的教会中已失去。这是个重要的信仰见证。庆幸的是，今天某些教会已经恢复这信仰的仪式。我们必须选择真理，弃绝假冒。真理有正负两面；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除了要宣告在基督里的关系；也要说出他放弃，不再信仰什么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就清楚知道已决定要离开什么。真理没有中间地带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03513-6D27-4600-A1C6-FF5029DB08C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27160" y="268200"/>
            <a:ext cx="117378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悔改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包括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心思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转变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悔改不只是知识的认同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能说出生命改变的见证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信主以前他是怎样，信主的过程又怎样，信主以后又怎样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出所信的是什么，他的价值观怎样，怎样过新生活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灵的保罗必须分辨，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被恶势力所「控制」还是被「压制」。意思是；他已经被邪灵所掌控；或者只是受某种邪恶权势所捆绑。我们不必拥有什么特别的恩赐，才能为人作赶鬼释放，只要有信心，奉主的圣名，使用神赐给教会的权柄，就可以替人进行释放了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协助别人寻找释放时要留意的事；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要行在光中；要留意周围人所提供的意见，必须符合圣经真理，更不要与异教有关联。祷告让神告诉你，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否有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与撒旦有关的欺骗，要求认罪及抵挡这类的欺骗。唯有主的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名与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的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权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柄，才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打破一切的捆绑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8AC3-761A-4824-B543-1671FBA726B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92240" y="268200"/>
            <a:ext cx="11807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「在基督里得释放的第一步」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公开宣告放弃一切旧信仰，现在或曾经参与过的巫术，丢掉一切与它们有关的书藉，物件，珠宝等东西。照以下三方面的察验了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否碰及神秘与巫术 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否参加过反对耶稣基督是救主的宗教团体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不能荣耀基督教导；不符合圣经真理的帮助的引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要求人们必须藉着秘密仪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能加入的活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营垒可以被胜过：一切黑暗的营垒都可以清除。有些营垒是直接和撒旦有交易而产生捆绑；解除这类捆绑，必须通过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罪，悔改，弃绝，和好，让真理的光与基督宝血进入而破除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可以有权，有意志力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选择要相信什么。只要他信靠，其它的基督会替他做成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3CC57-BA80-44FE-AB58-6733242D1C72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92240" y="303120"/>
            <a:ext cx="1180764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建立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归信者认识：为主受苦的恩典与特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必须知道，为主受苦，原是门徒生活的一部份。这不会改变神爱的计划。只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者需要鼓励与祷告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为主受苦原是一种祝福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3:13-17   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你们若是热心行善，有谁害你们呢？你们就是为义受苦，也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有福的。不要怕人的威吓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，也不要惊慌；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只要心里尊主基督为圣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。有人问你们心中盼望的缘由，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就要常作准备，以温柔、敬畏的心回答各人；存着无亏的良心</a:t>
            </a: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叫你们在何事上被毁谤，就在何事上，可以叫那诬赖你们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在基督里，有好品行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的人自觉羞愧。神的旨意若是叫你们因行善受苦，总强如因行恶受苦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EA179-7622-40CF-946C-E481D45A94A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27160" y="268200"/>
            <a:ext cx="11737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灵里的更新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破除营垒时，产生释放的与赶鬼的现象，不要以为遇见这事的人已经「发疯，中邪」。这些现象的产生，正好说明此人正得释放，正经历属灵权柄的交替。原则还是一样，这时刻向「发作」的人，要求开口拒绝撒旦，认罪，饶恕那伤害他的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类的交替就会取得成功。能被释放是件美好的属灵经历，不必为此感到害羞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魂里的更新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仰最大的战场，总是发生在人的心思与意念之中；必须在这里进行属灵的争战；只有让基督救赎的真理，进入人的心思里，成为主观的信靠和经历，信的人才能靠十字架救赎的能力，得到自由与释放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胜过营垒的方法，主要是靠信从真理，因为真理必叫我们得着自由。有罪的地方（黑暗），也必须让它见光（认罪悔改）。如果作了这两个要点，撒旦就没有办法不松手离开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72AC5-3EF4-4507-81F9-8BBB4F25D21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63520" y="268200"/>
            <a:ext cx="11665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当一个人悔改，将生命的主权，交托给主耶稣以后，处理以下的几点，能帮助归信者，胜过撒旦与罪的权势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信仰与生活中的罪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拜假神，行巫术的罪；骄傲，不愿意饶恕，说谎，习惯性的犯罪，背逆的罪，都当一一在前承认这一切的罪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祖先所犯过的罪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祖先有得罪神，得罪人的地方，向主来认罪。破除一切  家族遗传的罪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宣告弃绝不属真理的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弃绝伊斯兰信仰中不完整，得罪，欺骗上帝的地方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持守</a:t>
            </a:r>
            <a:r>
              <a:rPr b="1" lang="zh-TW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真理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得着释放后，他们必须晓得如何处理咒诅；晓得生活在一个不再受到撒旦压制的环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49970-C833-4136-9BA3-133315CFFCD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85760" y="268200"/>
            <a:ext cx="11814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归信者所面对的属灵攻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压力底下的人，常会说消极的话。受到撒旦的欺骗，而说自我咒诅或者消极的话。他们怀疑神的应许，以为若留在伊斯兰信仰中，可能会比现在更好。他们感到两边（家与属灵的家）都不受欢迎，没有相爱的朋友，孤单。他们的努力并没有看见显着的果效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留意归信者的精神情况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观察他的意志，感情，灵性方面，是否出现什么状况。属灵的攻击会带给人焦虑，这是正常的反应。那些依靠神话语的，不必惧怕撒旦和他的邪灵。如果继续行在主的光中，所有撒旦用来攻击信徒的器具，都不会管用。所以不必惧怕黑暗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7E8A0-883D-4A3E-86B7-FD6F0FADF99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07880" y="236520"/>
            <a:ext cx="1152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教导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MBB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信属灵的争战（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：弗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2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1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徒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在主耶稣的事工中，有清楚的灵界交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医好凡被魔鬼压制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神的儿子显出来为要除灭魔鬼的作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事工的三个重点：传福音，赶鬼，医治疾病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35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imSun"/>
                <a:ea typeface="SimSun"/>
              </a:rPr>
              <a:t>I</a:t>
            </a:r>
            <a:r>
              <a:rPr b="1" lang="zh-CN" sz="3600" spc="-1" strike="noStrike">
                <a:solidFill>
                  <a:srgbClr val="ff0000"/>
                </a:solidFill>
                <a:latin typeface="SimSun"/>
                <a:ea typeface="SimSun"/>
              </a:rPr>
              <a:t>）认识魔界中的四个系统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92240" y="914400"/>
            <a:ext cx="118807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魔界（一） 执政的 </a:t>
            </a: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ARCHE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字义：首先的，先来的， 元首，首领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此邪灵运行在政府，执政者的心中                                                            常引发宗教逼迫，种族杀害，政治逼害， 权利斗争， 土地战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＊此邪灵常以威逼，恐吓，惧怕在人心中工作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39AEE-7FE4-4C2E-A73D-2454B1CB1C9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81080" y="4010040"/>
            <a:ext cx="1174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食祷告；在灵里要相信耶稣才是一切的元首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靠主刚强壮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5044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SimSun"/>
                <a:ea typeface="SimSun"/>
              </a:rPr>
              <a:t>魔界（二）掌权的 </a:t>
            </a: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Ekusia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7880" y="1314000"/>
            <a:ext cx="11088720" cy="487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义：权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掌权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运行在地方官员身上，让他们以自私的心行不公义，不正直的政策；占为已有，带出权利斗争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常禁止人传讲真理：这是谁的地磐？谁给你权柄说话？你没有得到批准来传道？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                                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食祷告；相信已被最高的权柄主耶稣基督差遣传道。顺服掌权者；有时侯顺服神不顺服人是应当的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01866-A6B6-46FF-B90B-E315AF394DF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1056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SimSun"/>
                <a:ea typeface="SimSun"/>
              </a:rPr>
              <a:t>魔界（三）管辖这幽暗世界的</a:t>
            </a: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Kosmos Kratos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520" y="1447920"/>
            <a:ext cx="1130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义：世界系统，统治者，程序，拿住，持定的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以世界的财富来捉着人心；让有权者，当政者以自私，贪心来捉着世界的财富，经济制度。此邪灵常对传道人说：你有钱吗？有人才吗？有资源吗？你有本钱来开始事工吗？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祷告破除贫穷的咒诅；在基督里，贫穷的咒诅已经被拿掉了。求主打发工人；信徒实行十一奉献；训练培养工人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173F1-5A22-4ECE-B0F8-74F052251C0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1180944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SimSun"/>
                <a:ea typeface="SimSun"/>
              </a:rPr>
              <a:t>魔界（四）空中属灵气的恶魔</a:t>
            </a:r>
            <a:r>
              <a:rPr b="1" lang="en-US" sz="3600" spc="-1" strike="noStrike">
                <a:solidFill>
                  <a:srgbClr val="009900"/>
                </a:solidFill>
                <a:latin typeface="SimSun"/>
                <a:ea typeface="SimSun"/>
              </a:rPr>
              <a:t>Ponerial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2240" y="1071720"/>
            <a:ext cx="1180944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t">
            <a:normAutofit fontScale="93000"/>
          </a:bodyPr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字义：恶魔，邪灵，犯罪的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藉着人性的败坏，私欲，痛苦来进入人的心思与感情里运行。引诱试探人，使人接受它的提意，生发出邪恶，败坏，恶毒，咒诅的行为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进一步因人犯罪，直接的攻击人，咒诅人，占有人，使人生病，受捆绑，生出犯罪的毒瘾来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地方性的官员若公义，能减少犯罪的场所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鼓励有罪的人要有深入的悔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良好的一对信仰栽培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禁食祷告为人进行释放性的祷告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找出邪灵工作的合法地位（弃罪，和好，饶恕）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97E3B-07D4-431B-8959-315DCE4E9D5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2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02960"/>
            <a:ext cx="117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 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600" spc="-1" strike="noStrike">
                <a:solidFill>
                  <a:srgbClr val="009900"/>
                </a:solidFill>
                <a:latin typeface="SimSun"/>
                <a:ea typeface="SimSun"/>
              </a:rPr>
              <a:t>空中属灵气的恶魔</a:t>
            </a:r>
            <a:r>
              <a:rPr b="1" lang="en-US" sz="36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ponenrial </a:t>
            </a:r>
            <a:r>
              <a:rPr b="1" lang="zh-TW" sz="36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的主要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2240" y="837720"/>
            <a:ext cx="11664720" cy="48056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阻挡人听福音，信靠主耶稣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此等不信的人，被这世界的神弄瞎了心眼，不叫基督荣耀福音的光照着他们（林后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:4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撒旦不能攻击神，所以它攻击神所爱的人。每个人都会成为撒旦要攻击得着的人。没有得救的人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受它的引诱在言语，思想，行为上犯罪。又进一步使犯罪的人受咒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3B8DE-017A-4710-92BA-085589C1DC0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7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2) </a:t>
            </a:r>
            <a:r>
              <a:rPr b="1" lang="zh-CN" sz="3600" spc="-1" strike="noStrike">
                <a:solidFill>
                  <a:srgbClr val="3333ff"/>
                </a:solidFill>
                <a:latin typeface="SimSun"/>
                <a:ea typeface="SimSun"/>
              </a:rPr>
              <a:t>折磨，伤害，侵犯人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3520" y="1000080"/>
            <a:ext cx="1180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上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和华的灵离开扫罗，有恶魔从耶和华哪里来扰乱他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一个人行在悖逆当中，就离开了神的保护网；这会给撒旦许多机会来试探，攻击他。约伯与神同行，撒旦不能碰他，以致撒旦痛恨的说：神用篱笆把约伯保护起来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邪灵会攻击人的器官使人生病；使精神思想受痛苦；使用意外，发生悲剧来 折磨人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邪灵会拦阻神的工作；兴起人为的障碍，使神的工作不容易开展。让人批评你，论断你，敌对你；使你不能顺利的执行神的计划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1EF8D-4141-4EA4-BE3D-F60F4A87471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893AC-DF83-4071-A049-F951D43905C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63520" y="268200"/>
            <a:ext cx="11520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算是处于受苦，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断没有什么可以使我们与神的爱隔绝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道是患难吗？是困苦吗？是逼迫吗？是饥饿吗？是赤身露体吗？是危险吗？是刀剑吗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跟随基督不只是经历平安喜乐，有时也包括为义受苦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徙 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5:41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他们离开公会，心里欢喜，因被算是配为这名受辱。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受苦时，我们需要见证受苦的力量与心志是来自谁，为了谁，断没有什么可以让我们「闭上嘴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彼得他们被当权者禁止，不能传讲基督时；使徒们的回答是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「顺服神不顺服人，是应当的（徙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4:27-29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4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中國龍簡黑體"/>
                <a:ea typeface="中國龍簡黑體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3) </a:t>
            </a:r>
            <a:r>
              <a:rPr b="1" lang="zh-CN" sz="3600" spc="-1" strike="noStrike">
                <a:solidFill>
                  <a:srgbClr val="3333ff"/>
                </a:solidFill>
                <a:latin typeface="SimSun"/>
                <a:ea typeface="SimSun"/>
              </a:rPr>
              <a:t>进入人的身体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63160" y="990720"/>
            <a:ext cx="1144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:43-4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污鬼离了人的身体，就在无水之地过来过去，寻求安歇之处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于是说：我要回到我所出来的屋子里去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水之地」就是圣灵不运行的地方；因为圣灵就是活水。没有得救的人就没有活水，这是邪灵喜欢活动的房子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的身体本来是要作为神的殿，让圣灵居住在里面。如果，圣灵没有住进来，邪灵就要住进来，要在人里面彰显他的犯罪的本质。使人越来越不像人倒像鬼怪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14442-212F-4AE5-9509-C867CDEB0FA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4" dur="1" fill="hold"/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800" y="-28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4)</a:t>
            </a:r>
            <a:r>
              <a:rPr b="1" lang="zh-CN" sz="3600" spc="-1" strike="noStrike">
                <a:solidFill>
                  <a:srgbClr val="3333ff"/>
                </a:solidFill>
                <a:latin typeface="SimSun"/>
                <a:ea typeface="SimSun"/>
              </a:rPr>
              <a:t>引进更多的邪灵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3160" y="1214280"/>
            <a:ext cx="1144908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问它说：你名叫什么？回答说：我名字叫群，因为我们多的缘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天使堕落成为恶魔邪灵，它们现在全部在地上运行。它们互相联结，当一个人犯更多的罪，它们就会带更多糟糕的灵来住在人里面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在作释放的时候，常常需要处理超过一个邪灵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2F3BF-E8EF-4BD7-9C4F-972C72CF0E4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FFB72-3E77-40E4-A786-2875D58EF29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334800" y="189000"/>
            <a:ext cx="1159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如何进行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属灵的争战（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II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</a:t>
            </a:r>
            <a:br>
              <a:rPr sz="3200"/>
            </a:b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穿上全副的军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經文：弗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6:12-17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；但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0:11-15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；徒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0:3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在主耶穌的事工中，有清楚的靈界交鋒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穌醫好凡被魔鬼壓制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神的兒子顯出來為要除滅魔鬼的作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A</a:t>
            </a:r>
            <a:r>
              <a:rPr b="1" lang="zh-TW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）认识四层的黑暗权势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1143000"/>
            <a:ext cx="12192120" cy="501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执政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rche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惧怕来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掌权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Ekusia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阻人说神话来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管辖幽暗世界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Kosmos kratos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讥笑人没有资源来工作</a:t>
            </a:r>
            <a:r>
              <a:rPr b="1" lang="zh-TW" sz="3600" spc="-1" strike="noStrike">
                <a:solidFill>
                  <a:srgbClr val="a6b727"/>
                </a:solidFill>
                <a:latin typeface="Microsoft JhengHei"/>
                <a:ea typeface="Microsoft JhengHei"/>
              </a:rPr>
              <a:t>。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属灵气的恶魔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Penenial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人的思想中，以咒诅，苦难，疾病，憎恨来工作。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9921E-6C2D-4C57-B765-A55F29E1BAB1}" type="slidenum">
              <a:rPr b="1" lang="en-US" sz="14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9160" y="304920"/>
            <a:ext cx="78390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新宋体"/>
                <a:ea typeface="新宋体"/>
              </a:rPr>
              <a:t>B</a:t>
            </a:r>
            <a:r>
              <a:rPr b="1" lang="zh-TW" sz="3600" spc="-1" strike="noStrike">
                <a:solidFill>
                  <a:srgbClr val="c00000"/>
                </a:solidFill>
                <a:latin typeface="新宋体"/>
                <a:ea typeface="新宋体"/>
              </a:rPr>
              <a:t>）信徒的應對：穿上精裝</a:t>
            </a:r>
            <a:br>
              <a:rPr sz="2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34440" y="1371240"/>
            <a:ext cx="1033308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新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真理當作帶子束腰：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a6b727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束腰：帶來能力；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使行為有能力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的帶子是一整條，而不是片斷的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就是基督屬靈的含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8521A-9847-4FFA-B080-2C416818B767}" type="slidenum">
              <a:rPr b="1" lang="en-US" sz="14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07880" y="336600"/>
            <a:ext cx="11088720" cy="685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 ) 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公義當護心鏡遮胸：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遮胸是為保護心臟；心臟預表人的靈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=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實，良善，忠誠，這是神的性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神以耶穌救贖我們，就顯出神的公義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是神的公義，也是我們的公義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耶穌基督的教導中，行公義就是遵行神的旨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使徒們的教導中；公義，就是耶穌基督在我們裡面的行為（以基督的心為心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3F96C-C689-4D38-A8A8-B5E7B4BC817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2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3E983-6E83-44EE-84D7-435F83A6AA8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63520" y="236520"/>
            <a:ext cx="11520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3) </a:t>
            </a:r>
            <a:r>
              <a:rPr b="1" lang="zh-TW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信德的盾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信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=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心，信靠，信賴，信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撒旦的火箭：破壞性的言語，錯誤的想法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信德或信心，是用來抵擋撒旦外在的攻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以堅定的信心相信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是信實與公義的；神仍在掌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穌的例子：若不是神的許可，你不能辦我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3915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ADBA1-DB47-4F13-89C8-456ED35FD898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12760"/>
            <a:ext cx="70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) 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平安福音的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07880" y="1413000"/>
            <a:ext cx="11233080" cy="319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穿上「鞋」預表準備出發，預備好上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穿上平安福音的鞋」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說明整個屬靈爭戰不是打魔鬼，而是傳        福音。為福音努力，叫人得福音的好處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傳福音：傳耶穌是主，傳講禧年已來到，傳講上帝賜恩於人，傳講在基督裡神稱我們為義；咒詛已解除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13F1C-9308-4CB8-8802-0ECF5F20D053}" type="slidenum">
              <a:rPr b="0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1981080" y="0"/>
            <a:ext cx="73152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20160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5) </a:t>
            </a: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戴上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救思的头盔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34800" y="838080"/>
            <a:ext cx="11593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頭：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人的心思，意念，觀點，價值觀的運作  中心。人怎麼思念，就怎麼行出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547560" y="1916280"/>
            <a:ext cx="1011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撒旦會趁我們灰心，疲倦的時候以火箭攻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82520" y="2643120"/>
            <a:ext cx="11746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如何带头盔：                       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思想中要常想：神能，神肯，神愿意帮助，在神那里有答案，在神凡事都能，神掌答一切，一定有办法解开撒旦的欺骗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620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27991-EE33-4797-B612-67AC15C04907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263520" y="2952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6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拿着圣灵的宝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263520" y="1219320"/>
            <a:ext cx="114490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圣灵的宝剑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s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神的话：圣经，启示性的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ehma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使骸骨复活，叫人得生命，更新人的心思，意念，观点，价值观，行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3520" y="3929040"/>
            <a:ext cx="1144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信徒的运用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读圣经。一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钟，一年读完一遍。读一小时，一年四遍。遇困难，祷告神给你活泼的道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ehma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解决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35B78-8046-460E-B5C5-A76C0D72BA3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63520" y="268200"/>
            <a:ext cx="1159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为信仰站立意味着「冒险」；不肯为信仰站立，则意味着失去真正的生命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凡为我失去生命的，必要得到生命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一得胜环境的手段，就是需要冒险去挑战挫折。如果被惧怕支配，不愿为真理放弃安舒的日子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会被捆绑起来，失去见证甚至放弃信仰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冒险，就没有成果。他也许为了避开了受苦，但他就失去学习，改变，成长，爱与付出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，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里面的，比在世界的更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C9955-F294-4EC7-BF5B-F04565C0C059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91960" y="2682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7) 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随时多方祷告祈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91960" y="928800"/>
            <a:ext cx="103759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赐给我们祷告的权利：　　　　　　　                    奉我的名无论求什么，信是得着就必得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85760" y="2403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说：按藉我们的本份，我们应当祷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91960" y="3214800"/>
            <a:ext cx="1037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随时，多方：说明随时随地，各种各样的祷告事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91960" y="4195800"/>
            <a:ext cx="1037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悟性祷告，也要用灵祷告（方言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2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731EA-EC6B-4082-9A5B-C68CFF0BF4E0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34800" y="228600"/>
            <a:ext cx="10333080" cy="503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结论：属灵争战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宗旨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人引到基督面前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策略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福音宣告禧年的来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能力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话，神的灵，神的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防守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坚固信心，代祷的能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进攻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遵行神的旨意，生命见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目标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人成为基督的门徒与见证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6480E-7C70-430F-A9E3-FF8FA6642EEB}" type="slidenum">
              <a:rPr b="1" lang="en-US" sz="32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07880" y="257040"/>
            <a:ext cx="11376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题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与主成为一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经文：林后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:1-1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旧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的同在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新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马内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和华同在的结果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与约瑟同在，他就凡事顺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9:2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应许约书亚，怎样与摩西同在，也必照样与他同在（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D13D9-5637-4E3A-8F10-212D4BF8CE71}" type="slidenum">
              <a:rPr b="1" lang="en-US" sz="14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63520" y="268200"/>
            <a:ext cx="11665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 )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职事：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1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帮助信徒经历与体现基督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-3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就是我们的荐信，写在我们的心里，被众人所知道所念诵的。你们明显是基督的信，藉着我们修成的。不是用墨写的，乃是用永生神的灵写的；不是写在石版上，乃是写在心版上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外在浇贯不能持久；圣灵的工作是将基督的灵意写在你心版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是基督的信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所写的活信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90992-732A-405D-8DDE-959BC0AE6411}" type="slidenum">
              <a:rPr b="1" lang="en-US" sz="32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92240" y="268200"/>
            <a:ext cx="11736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使人活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-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不是我们凭自己能承担什么事；我们所能承担的，乃是出于神。他叫我们能承当这新约的执事，不是凭着字句，乃是凭着圣灵；因为那字句是叫人死，精意（或作：圣灵）是叫人活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字句是叫人死</a:t>
            </a:r>
            <a:r>
              <a:rPr b="1" lang="en-US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= 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你是个不能</a:t>
            </a:r>
            <a:r>
              <a:rPr b="1" lang="zh-TW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律法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的失丧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人类一切问题的答案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有待你开发的最大能力资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1145F-23AA-41C3-9EFB-9EDAEE73E15C}" type="slidenum">
              <a:rPr b="1" lang="en-US" sz="14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27160" y="235080"/>
            <a:ext cx="117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3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与律法的对比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7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用字刻在石头上属死的职事尚且有荣光，甚至以色列人因摩西面上的荣光，不能定睛看他的脸；这荣光原是渐渐退去的，何况那属灵的职事岂不更有荣光吗？若是定罪的职事有荣光，那称义的职事荣光就越发大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既有这样的盼望，就大胆讲说，不像摩西将帕子蒙在脸上，叫以色列人不能定睛看到那将废者的结局。但他们的心地刚硬，直到今日诵读旧约的时候，这帕子还没有揭去。这帕子在基督里已经废去了。然而直到今日，每逢诵读摩西书的时候，帕子还在他们心上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95160" y="4005360"/>
          <a:ext cx="9577440" cy="2401920"/>
        </p:xfrm>
        <a:graphic>
          <a:graphicData uri="http://schemas.openxmlformats.org/drawingml/2006/table">
            <a:tbl>
              <a:tblPr/>
              <a:tblGrid>
                <a:gridCol w="1598760"/>
                <a:gridCol w="1593720"/>
                <a:gridCol w="1597320"/>
                <a:gridCol w="1595160"/>
                <a:gridCol w="1598760"/>
                <a:gridCol w="159372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律法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属死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定罪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退去的荣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使人刚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生发帕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圣灵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长存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称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更有荣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使人像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敞着面见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F8592-7B2C-4655-8EE6-6A9A2DC3D079}" type="slidenum">
              <a:rPr b="1" lang="en-US" sz="18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63520" y="268200"/>
            <a:ext cx="11665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如何启动圣灵的执事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他们的心几时归向主，帕子就几时除去了。主就是那灵；主的灵在哪里，哪里就得以自由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那里，那里就得以自由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这话是对基督徒说的：只有基督徒才能用的能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掉你的帕子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么拦阻你不能见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你的心归向主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以自由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Eleutiria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＝合法的，经过法院批准的自由；带神的权柄，神的能力，神同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F036E-5D11-43C3-A881-95C6A5D0FE5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85760" y="250920"/>
            <a:ext cx="1167120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敞着面见主：变像耶稣基督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8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众人既然敞着脸得以看见主的荣光，好像从镜子里反照，就变成主的形状，荣上加荣，如同从主的灵变成的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NAKALUTO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敝着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＝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掉帕子的脸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没有遮盖的脸，就能看见主的脸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负担主的心思，意念，观点，思想，性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2A1E6-65E2-4617-852D-DF5D2E5960F9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407880" y="268200"/>
            <a:ext cx="1144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)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灵里自由的三个追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进入密室的祷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祷告的时候，要进你的内屋，关上门，祷告你在暗中的父；你父在暗中察看，必然报答你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分别一个时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分别一个地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关起门来：神圣的见面，不容外物进来打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09557-D4FC-4CD7-A535-F8018B2B3E9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334800" y="260280"/>
            <a:ext cx="1109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灵里贫穷的操练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虚心的人有福了！因为天国是他们的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虚心的人</a:t>
            </a:r>
            <a:r>
              <a:rPr b="1" lang="en-US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灵里贫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贫穷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Tokoi =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饭的拉撒路（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6:2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心灵贫穷到，非要向神讨饭，就活不下去的人，有福了，天国是属於他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B81D2-823F-471F-B196-10A30973A0C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2240" y="268200"/>
            <a:ext cx="11699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受苦与属灵的更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带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脱离一切的不如意和苦难。他们需要面对决定与选择。在一些穆民地区，归信者几乎得不到基督徙的帮助。他们还要负起传福音给其它人士。因此，需要预备归信者，面对逼迫的挑战与受苦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逼迫而引起的冲突，常会带来属灵的更新。当遇见生活中的危机，就会比其它的时刻，更加看透生命。以正确的优先次序来安排生活。带着懊悔，神能带我们进入真正的悔改，从而生出属灵的热心与盼望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顺从主，却在海上遇见了巨大的风浪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为什么顺服了主的命令，还会遇见大风浪呢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72953-D9F9-4D4B-86AB-86B7E0A637F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92240" y="233280"/>
            <a:ext cx="11807640" cy="3760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3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心意更新的追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-2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以神的慈悲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体献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活祭，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神所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；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此事奉乃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的。不要效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，只要心意更新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化，叫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欤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善良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、可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旨意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神的道如利剑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切开你的灵魂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4619520" y="3670200"/>
            <a:ext cx="2952720" cy="2737080"/>
          </a:xfrm>
          <a:prstGeom prst="triangle">
            <a:avLst>
              <a:gd name="adj" fmla="val 50000"/>
            </a:avLst>
          </a:prstGeom>
          <a:solidFill>
            <a:srgbClr val="a6b72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871880" y="3213000"/>
            <a:ext cx="29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灵（领启示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7480440" y="5700600"/>
            <a:ext cx="352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魂（更新变化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203560" y="5533920"/>
            <a:ext cx="35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体（顺服作成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5766480" y="4249800"/>
            <a:ext cx="667800" cy="25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灵魂体合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6383160" y="4365720"/>
            <a:ext cx="863640" cy="1584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5303520" y="6453360"/>
            <a:ext cx="1584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Line 12"/>
          <p:cNvSpPr/>
          <p:nvPr/>
        </p:nvSpPr>
        <p:spPr>
          <a:xfrm flipV="1">
            <a:off x="4871880" y="4221000"/>
            <a:ext cx="936720" cy="16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63291-16D3-4CB5-846D-373871A75A4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63520" y="257040"/>
            <a:ext cx="11736360" cy="428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灵里自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开发圣灵在你身上的能力资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帕子的脸，就能看见主的脸：负担主的心思，意念，观点，思想，性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上门，进入密室；分别地点时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灵贫穷到，非要向神讨饭，就活不下去的人，有福了，天国是属於他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意顺服圣灵的启示，住在主里面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0C473-DCAD-487E-BFEC-777340FFF49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08080" y="246240"/>
            <a:ext cx="117205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风浪的后面，难道就没有值得学习的事吗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门徒在那次的风浪经历中，学习了宝贵的真理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这真是神的儿子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连风和浪都听从他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照样有机会，在遇见苦难时，从主哪里学习某些真理，以致增加了信心的成长。我们总能看见：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万事互相效力，叫爱神的人得着益处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观伊斯兰的信仰，常是传讲「成功」的信仰。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「那些服事真主的人，他们在学业，事业上都会成功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典型的伊斯兰思想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还会拥有这样的想法。我们需要对他们说清楚：耶稣基督没有应许他的门徒，「一帆风顺」。但主是一切的主宰，他应许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在他里面有平安，这平安是世界所不能赐给的。我们在世上会有苦难，但他已经胜过了世界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0:08:46Z</dcterms:created>
  <dc:creator>Pastor Chan</dc:creator>
  <dc:description/>
  <dc:language>en-US</dc:language>
  <cp:lastModifiedBy>chan HK</cp:lastModifiedBy>
  <dcterms:modified xsi:type="dcterms:W3CDTF">2025-02-28T12:50:55Z</dcterms:modified>
  <cp:revision>84</cp:revision>
  <dc:subject/>
  <dc:title>Slide 1</dc:title>
</cp:coreProperties>
</file>