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A27-A7D2-4B82-8CF1-8E90BAE9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8F8-51F8-4341-8A18-494C58D2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F17-1A01-4324-8B9D-D816FD0D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E10-E41D-4251-A1AD-728904DD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512-1FD9-4DFE-86A9-F6A4FA2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77F-71CB-4960-B4A1-70A7843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E1D-8A52-4775-8600-87DFF38B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88D-6996-4D76-B5CF-60EDD3FD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7C3-2D63-407F-AFD8-E8F3144B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3D9-AADB-447C-A60D-57A32ED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1C9-3DFE-4F53-9368-8F294976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1FC-B6FA-4DDE-BCC0-0D3CF0F6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F303D-F4AB-4DD3-8851-F455C5A1C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6080"/>
            <a:ext cx="12192120" cy="681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sertstore.com/products-For-Sale/SA-brg-01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12408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3"/>
          <a:stretch/>
        </p:blipFill>
        <p:spPr>
          <a:xfrm>
            <a:off x="1603440" y="2157480"/>
            <a:ext cx="91375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新宋体"/>
                <a:ea typeface="新宋体"/>
              </a:rPr>
              <a:t>伊斯兰妇女次等地位的论点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371600"/>
            <a:ext cx="10210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学者卡杂理 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l-Ghazali (1058-1111 A.D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卡杂理提出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理由，伊斯兰认为妇女是劣等的 ；我们若从以下：妇女的论点；角色；帕子的理由；离婚对待的立场来看；就知道伊斯兰的确宣称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是劣等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72C6A-F3F7-4219-B1CE-99EDB001C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对不顺命的妇女可以采取法律行动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52280" y="1371600"/>
            <a:ext cx="11430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埃及与利比亚的法律第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212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条说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妇女若不顺从丈夫，丈夫可以告妻子。若发现属实，法庭可以按照法官的判决，进行强制性的举动。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为什么我不是穆斯林，页</a:t>
            </a:r>
            <a:r>
              <a:rPr b="1" lang="en-US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314</a:t>
            </a:r>
            <a:r>
              <a:rPr b="1" lang="zh-CN" sz="3600" spc="-1" strike="noStrike">
                <a:solidFill>
                  <a:srgbClr val="ff0000"/>
                </a:solidFill>
                <a:latin typeface="新宋体"/>
                <a:ea typeface="经典楷体简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5C26C-10CB-449A-9065-F4D0FEC00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86161-F8FB-4A98-BCC6-9F9331480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83" descr=""/>
          <p:cNvPicPr/>
          <p:nvPr/>
        </p:nvPicPr>
        <p:blipFill>
          <a:blip r:embed="rId1"/>
          <a:stretch/>
        </p:blipFill>
        <p:spPr>
          <a:xfrm>
            <a:off x="190440" y="457200"/>
            <a:ext cx="11811240" cy="64008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84"/>
          <p:cNvSpPr/>
          <p:nvPr/>
        </p:nvSpPr>
        <p:spPr>
          <a:xfrm>
            <a:off x="1295280" y="0"/>
            <a:ext cx="8915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等线"/>
              </a:rPr>
              <a:t>伊斯兰世界，存在着妇女严重受害的事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Text Box 185" descr=""/>
          <p:cNvPicPr/>
          <p:nvPr/>
        </p:nvPicPr>
        <p:blipFill>
          <a:blip r:embed="rId2"/>
          <a:stretch/>
        </p:blipFill>
        <p:spPr>
          <a:xfrm>
            <a:off x="371520" y="463680"/>
            <a:ext cx="10021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B7BE0-0125-494E-AC76-FAD4E5A95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10134720" cy="7292880"/>
          </a:xfrm>
          <a:prstGeom prst="rect">
            <a:avLst/>
          </a:prstGeom>
          <a:ln w="0">
            <a:noFill/>
          </a:ln>
        </p:spPr>
      </p:pic>
      <p:pic>
        <p:nvPicPr>
          <p:cNvPr id="426" name="Text Box 5" descr=""/>
          <p:cNvPicPr/>
          <p:nvPr/>
        </p:nvPicPr>
        <p:blipFill>
          <a:blip r:embed="rId2"/>
          <a:stretch/>
        </p:blipFill>
        <p:spPr>
          <a:xfrm>
            <a:off x="1371600" y="285840"/>
            <a:ext cx="105649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57193-B2D8-479E-B0D6-1EF00EDB7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8" descr=""/>
          <p:cNvPicPr/>
          <p:nvPr/>
        </p:nvPicPr>
        <p:blipFill>
          <a:blip r:embed="rId1"/>
          <a:srcRect l="50836" t="26667" r="23334" b="35556"/>
          <a:stretch/>
        </p:blipFill>
        <p:spPr>
          <a:xfrm>
            <a:off x="5943600" y="1752480"/>
            <a:ext cx="2949480" cy="3429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11"/>
          <p:cNvGrpSpPr/>
          <p:nvPr/>
        </p:nvGrpSpPr>
        <p:grpSpPr>
          <a:xfrm>
            <a:off x="2666880" y="1371600"/>
            <a:ext cx="8000640" cy="4876560"/>
            <a:chOff x="2666880" y="1371600"/>
            <a:chExt cx="8000640" cy="4876560"/>
          </a:xfrm>
        </p:grpSpPr>
        <p:sp>
          <p:nvSpPr>
            <p:cNvPr id="432" name="Rectangle 7"/>
            <p:cNvSpPr/>
            <p:nvPr/>
          </p:nvSpPr>
          <p:spPr>
            <a:xfrm>
              <a:off x="2666880" y="1371600"/>
              <a:ext cx="8000640" cy="487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9" descr=""/>
            <p:cNvPicPr/>
            <p:nvPr/>
          </p:nvPicPr>
          <p:blipFill>
            <a:blip r:embed="rId4"/>
            <a:srcRect l="51696" t="26667" r="24527" b="35556"/>
            <a:stretch/>
          </p:blipFill>
          <p:spPr>
            <a:xfrm>
              <a:off x="4086000" y="1582560"/>
              <a:ext cx="5419800" cy="452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4" name="Text Box 12" descr=""/>
          <p:cNvPicPr/>
          <p:nvPr/>
        </p:nvPicPr>
        <p:blipFill>
          <a:blip r:embed="rId5"/>
          <a:stretch/>
        </p:blipFill>
        <p:spPr>
          <a:xfrm>
            <a:off x="1371600" y="152280"/>
            <a:ext cx="9448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9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0E50F-8A06-4E16-88EF-944E4E828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32"/>
          <p:cNvSpPr/>
          <p:nvPr/>
        </p:nvSpPr>
        <p:spPr>
          <a:xfrm>
            <a:off x="1523880" y="1219320"/>
            <a:ext cx="9296640" cy="41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New York, October 19, 1999)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wake of the military takeover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kistan, Human Rights Watch today releas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crimes of violence against wome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ding domestic violence rates as high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0 percent, at least eight reported rap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 24 hours nationwide, and an alarming ri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so-called honor killing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28600" y="0"/>
          <a:ext cx="11582280" cy="1066680"/>
        </p:xfrm>
        <a:graphic>
          <a:graphicData uri="http://schemas.openxmlformats.org/drawingml/2006/table">
            <a:tbl>
              <a:tblPr/>
              <a:tblGrid>
                <a:gridCol w="1158228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新宋体"/>
                          <a:ea typeface="经典楷体简"/>
                        </a:rPr>
                        <a:t>80-90%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新宋体"/>
                          <a:ea typeface="经典楷体简"/>
                        </a:rPr>
                        <a:t>巴基斯坦妇女，经历家庭暴力。每天最少十起的强奸案 ；越来越多所谓宗教荣誉的杀害事故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A03D9-222B-4F34-9677-8EA778FF2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1219320" y="-2286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9"/>
          <p:cNvGrpSpPr/>
          <p:nvPr/>
        </p:nvGrpSpPr>
        <p:grpSpPr>
          <a:xfrm>
            <a:off x="2438280" y="1523880"/>
            <a:ext cx="7620120" cy="5105520"/>
            <a:chOff x="2438280" y="1523880"/>
            <a:chExt cx="7620120" cy="5105520"/>
          </a:xfrm>
        </p:grpSpPr>
        <p:sp>
          <p:nvSpPr>
            <p:cNvPr id="444" name="Rectangle 7"/>
            <p:cNvSpPr/>
            <p:nvPr/>
          </p:nvSpPr>
          <p:spPr>
            <a:xfrm>
              <a:off x="2438280" y="1523880"/>
              <a:ext cx="7620120" cy="510552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8" descr=""/>
            <p:cNvPicPr/>
            <p:nvPr/>
          </p:nvPicPr>
          <p:blipFill>
            <a:blip r:embed="rId2"/>
            <a:srcRect l="33597" t="27086" r="27343" b="22917"/>
            <a:stretch/>
          </p:blipFill>
          <p:spPr>
            <a:xfrm>
              <a:off x="3200400" y="1752480"/>
              <a:ext cx="6400800" cy="464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Picture 10" descr=""/>
          <p:cNvPicPr/>
          <p:nvPr/>
        </p:nvPicPr>
        <p:blipFill>
          <a:blip r:embed="rId3"/>
          <a:stretch/>
        </p:blipFill>
        <p:spPr>
          <a:xfrm>
            <a:off x="1219320" y="-228600"/>
            <a:ext cx="10058400" cy="73152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11"/>
          <p:cNvSpPr/>
          <p:nvPr/>
        </p:nvSpPr>
        <p:spPr>
          <a:xfrm>
            <a:off x="2743200" y="1676520"/>
            <a:ext cx="7086600" cy="5814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  <a:ea typeface="新宋体"/>
              </a:rPr>
              <a:t>沙地电台女广播员，经常被丈夫殴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B72C8-347D-4D59-AFFC-36136CCC6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7"/>
          <p:cNvSpPr/>
          <p:nvPr/>
        </p:nvSpPr>
        <p:spPr>
          <a:xfrm>
            <a:off x="6477120" y="4267080"/>
            <a:ext cx="29718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导人如何打老婆的西班牙回教教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8"/>
          <p:cNvSpPr/>
          <p:nvPr/>
        </p:nvSpPr>
        <p:spPr>
          <a:xfrm flipH="1" flipV="1">
            <a:off x="6095880" y="365724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237AE-1792-444A-BE04-C3B22549F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523880" y="0"/>
            <a:ext cx="10058400" cy="301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书中，母斯打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staf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，管教不听话的太太；用鞭击打的位置，必须集中在她的手和脚。鞭不能太大，这样就不会留下严重的伤痕及瘀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位西班牙的伊斯兰教师自辩说，他不同意对妇女使用暴力，他只不过是在解释，如何运用古兰经所教导的，教导男人如何殴打妻子，免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做得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过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他被定罪，罚款 欧元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971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经典楷体简"/>
              </a:rPr>
              <a:t>思考重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1066680"/>
            <a:ext cx="1143000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与基督教的上帝，本质上是不一样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轻看他所造的妇女，宣称她们是缺少智慧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的上帝称赞妇女（箴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德的妇人）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37 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女都被要求要尽心，尽性，尽力爱主你的上帝）；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接待耶稣的，他就赐他们权柄作神的儿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主的就有基督的心胸；提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给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基督徒有清楚的心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将律法刻在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版上；彼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我保守的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E6579-54EA-4F0F-B18A-209BBA6D4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-360" y="228240"/>
            <a:ext cx="12039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，透过施於更重的刑罚，来贬低妇女。男女犯同样的罪，女人受到的刑罚，要比男人来得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对妇女缺少怜恤，圣言录中对妇女不公平的述说，被用来设立回教法规；例如容许殴打妇女；两个女人的见证，等於一个男人的见证等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658E4-F05A-4928-974D-864166655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520" y="228240"/>
            <a:ext cx="9982440" cy="47242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经典楷体简"/>
              </a:rPr>
              <a:t>有些伊斯兰学者可能会说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平等对待男女。因为他们都具有永恒与属灵的应许。两者不过是角色与功用上有所不同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有更多伊斯兰的学者，在引用古兰经及圣言录中有关妇女的地位时，常是偏向劣等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2E95C-E1D0-4AF2-B105-682394588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51920" y="685440"/>
            <a:ext cx="11354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伊斯兰的上帝，否认妇女具备执行一国之君的智能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伊斯兰的上帝，只容许男人可以拥有「暂时婚约」，这无疑是鼓励男人，随意可以进行婚外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你有意见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8D282-316F-4D88-B3B1-B1C3554ED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5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妇女角色的概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371240"/>
            <a:ext cx="106682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奴仆就像牧羊人，加增主人的财富；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妻子则是丈夫家中及儿女的牧羊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＂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2,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292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； 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7A83F-6B76-476A-9109-F5A5B2324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876312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妇女在伊斯兰社会如何比男人低劣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066320"/>
            <a:ext cx="9982080" cy="495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以下是九个属于宗教与文化方面的劣等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得较少的遗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可以被休，但不可以要求离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男人可多妻；妇女只能拥有一位丈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妻子只能隐居于家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妻子外出，在家中须蒙头（除了在房内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F85E7-AF84-41CB-A215-B24FF20B6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33160" y="228600"/>
            <a:ext cx="10134360" cy="5029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一个妇女的见证，只有男一半的效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没有丈夫的许可与家人的伴随不能出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只有男人才可以主持星期五礼拜，饭食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祷告，葬礼等宗教礼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不鼓励妇女成为法官与君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为何我不是穆斯林，页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3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DC8E5-017E-4B16-83B8-AED71E011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26960" y="-360"/>
            <a:ext cx="77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在天国的地位（受隔离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047600"/>
            <a:ext cx="11125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都拉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dullah bin Qais Al-Ash‘ari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述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说，在天堂会有如珍珠洞口般的帐蓬，高三十哩，每角落都会有个信徒的家庭居所，是别人看不见的。  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4 no.466 p.306. - 60 miles high in Sahih Muslim vol.4 book 38 no.6806 p.1481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6 no.402 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；信徒会有美丽，又</a:t>
            </a:r>
            <a:r>
              <a:rPr b="1" lang="zh-CN" sz="34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限制於帐蓬里的妻室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人们可以随意喝酒（在地上穆斯林不鼓励喝酒）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D5C1D-BEAA-4FEE-AADD-9F984F372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天仙（天国的永远处女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240" y="1447920"/>
            <a:ext cx="11582280" cy="4533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天国，早为信徒预备许多天仙 </a:t>
            </a:r>
            <a:r>
              <a:rPr b="0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ouris</a:t>
            </a:r>
            <a:r>
              <a:rPr b="0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他们的妻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4 no.544 p.343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能控制自己脾气的男人，会先给於机会选择美丽又大眼的天仙童女为妻。</a:t>
            </a:r>
            <a:r>
              <a:rPr b="0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3 no.4759 p.1339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83C50-FA1B-4C67-88A1-49A8CE50E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8334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妻子必须和天仙分享她们的丈夫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066320"/>
            <a:ext cx="1135368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天仙不喜欢看见在地上的妻子，让丈夫感到苦恼；因为这些丈夫将来也是天仙们的丈夫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“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姆阿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Mu‘adh b. Jobal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引述：安拉的使者说；妇女，不要让你们的丈夫感到苦恼，因为他那将来美丽又大眼的伴侣会说；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宋体"/>
                <a:ea typeface="经典楷体简"/>
              </a:rPr>
              <a:t>不要让他苦恼，不然，愿安拉管教你。他不过是暂时与你在一起的过客；不久他们就会离开你们，回到我们这里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 no.2014 p.212 (see also vol.3 p.205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2ABBC-C578-4676-8C2F-706AC8487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经典楷体简"/>
              </a:rPr>
              <a:t>妇女得救，有赖她是否讨丈夫的喜悦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440" y="1143000"/>
            <a:ext cx="10820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一位妇女死後，丈夫若对她十分留念又感激，可享有天国的应许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  <a:ea typeface="经典楷体简"/>
              </a:rPr>
              <a:t>Ibn-i-Majah vol.3 no.1854 p.119; vol.3 no.2013 p.212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一个男人却不必讨妻子的喜悦，来获取天国的应许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AB4FA-036F-407E-9958-CDA02DAC5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与狗会拦阻祷告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914400"/>
            <a:ext cx="11887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只狗（黑狗）或一妇女，或有经期的妇女，会导至男人的祷告失效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2,703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81;  Ibn-i-Maja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2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949-953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爱莎问说：你是不是将我们女人当作与狗同等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先知通常会对着床的正方祷告。我觉得坐在他的前面是不合宜的，我会倒退到床角直到我良心觉得安心为止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Bukhari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8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莎说这话的意思是因为，穆罕默德曾教导说：当男人在祷告时，若有只狗或妇女站在你面前或在你面前经过；你的祷告就会无效。却没有说男人站在或经过一个祷告妇女的前面会造成祷告无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FFC87-91B9-4BCF-9134-3155F379A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12115800" cy="16002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斯兰如何论说妇女与婚姻？</a:t>
            </a:r>
            <a:br>
              <a:rPr sz="40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I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女人的本质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男女不平等的教导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妇女的领导地位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穆斯林妇女的衣著与自由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穆斯林妇女的婚姻与地位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伊斯兰的离婚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有关通奸的教导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暂时婚约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与圣言录对待女俘虏的指导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)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教导丈夫可以殴打妻子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B1575-0319-4B03-98E6-6B094EADC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770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承受遗产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825200"/>
            <a:ext cx="12039840" cy="435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传统伊斯兰信仰认为，女儿只能得儿子所的财产的一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:11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为你们的子女而命令你们。一个男子，得两个女子的分子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.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Dr. Badawi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认为这是由於男人所付出的劳力，比妇女还多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0497C-D790-4046-B739-C2538222C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伊斯兰世界又如何应用遗产的教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1143000"/>
            <a:ext cx="967716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实际上在巴基思坦，叙利亚，埃及等地，不让妇女承受任何的遗产。「面纱的背后」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131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他们这样做，明显的是逆反古兰经的教导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306AF-426B-4185-8AC2-29F413E7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9716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的旧约怎么说？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1295280"/>
            <a:ext cx="1021104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7:7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说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西罗非哈的女儿说得有理。你定要在他们父亲的弟兄中，把地分给他们为业；要将他们父亲的产业归给他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:8-9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在以色列支派中得了产业的女子必作同宗支派人的妻，好叫以色列人各自承受他祖宗的产业。这样，他们的产业就不从这支派归到那支派，因为以色列支派的人要各守各的产业。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3CC88-6665-4AA0-B91E-4D37C1450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妇女是男人的财产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380960"/>
            <a:ext cx="1043928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若有人被赏赐妇女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奴仆或者牛羊，就当在它们的额上留下记号，然后向安拉祷告           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1918 p.15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善待妇女，因为它们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如同你的家畜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wan)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也不曾拥有任何的东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9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13.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部份学者不喜欢认同此圣言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A2C2E-2B3D-4E8B-B85C-C53A7FE07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616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妇女在月经期不能进行拜功祷告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1760" y="1294920"/>
            <a:ext cx="10591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遇见来潮时，不能祷告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Muslim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652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88-189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册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322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194; Sunan Nasa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＇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 vol.1 no.355-361 p.281-284; vol.1 no.364-368 p.285-286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3 no.4662 p.1312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潮也不能触摸古兰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6B7D2-AE82-4050-A0A2-D982503DE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9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伊斯兰眼中妇女的法律地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520" y="1218960"/>
            <a:ext cx="11277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82 , “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当从你们的男人中邀请两个人作证；如果没有两个男人，那末，从你们所认可的证人中请一个男人和两个女人作证。这个女人遗忘的时候，那个女人可以提醒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布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Sa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d Al-Khudr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说；一个女人的见证不是只有半个男人的功效吗？妇女会回答：是。先知说这是因为妇女的聪慧有天生不足的地方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826 p.50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962A2-328B-4A2F-8364-CE06A7BA2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16000" y="-360"/>
            <a:ext cx="712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III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妇女的领导地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女先知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不适合当国家首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C29B7-2586-42C9-BB74-530268BDF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真的没有女先知吗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71400"/>
            <a:ext cx="10896480" cy="4647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博士认为，由于先知要经历许多劳苦与压力；因此妇女不适合当先知。然而，事实证明的确有女先知的职分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摩西的姐姐米利暗，旧约出埃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她是位女先知；士师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底波拉；王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户达 都是女先知；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路加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3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亚拿也是位女先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23EC1-07BE-4CEC-BDBD-AF9F695BC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8080" y="-360"/>
            <a:ext cx="68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妇女不当有就业的地位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600200"/>
            <a:ext cx="105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巴达威认为，妇女最好的角色就是当家庭主妇。若非要就业必须得到丈夫的许可，小心选择某些适合她们的工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当然，他的立场比起阿富汗前政权，塔利班要来得开放。塔利班认为绝大部份的妇女几乎不适合在外工作，就算她们饿肚子，也不适合出来工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6F031-3D2F-44BC-8287-C844932DD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817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妇女不适合当国家最高领导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666440"/>
            <a:ext cx="951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经典楷体简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他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穆罕默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]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｀任何一个国家让妇女当最高领导，将不会获得成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9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.219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026F8-1B33-4B23-B0CD-489001123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1760" y="6188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那一种伊斯兰立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619280"/>
            <a:ext cx="11201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到底采用那种伊斯兰观点？伊斯兰信仰有不同的观点；有保守派，自由派，什叶派，孙尼派，苏非派等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所论说的，属于穆罕默德在古兰经及圣言录中所论说的教导，主要是孙尼派的教导与观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70F54-BBF9-46ED-8F00-4DB473997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爱莎政变时的运用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685440"/>
            <a:ext cx="1089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布巴卡曾如此引述说；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9 no.219 p.171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赐下恩惠的话：我记得听先知说过：当波斯国将歌士老的女儿，升任为女王时；他说：将妇女升任为女王的这个国家，将不会获得成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穆罕默德对波斯国的评论；当穆罕默德死后，在爱莎及阿里的的争权时，用上这句话</a:t>
            </a:r>
            <a:r>
              <a:rPr b="1" lang="zh-TW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运用，后来成为普世性的观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有圣言录记载说；当穆罕默德的随从，提出穆氏所说过的这句话；爱莎就移居到巴斯拉去了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Bukhari vol.9 no.220,221 p.171-172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反应则是：</a:t>
            </a:r>
            <a:r>
              <a:rPr b="1" lang="zh-CN" sz="27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安拉让我们受到考验；我们是要顺从安拉还是要依照爱莎的意思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BB967-D97A-4DE1-BE18-3D4D63696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27320" y="0"/>
            <a:ext cx="815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中没有反对妇女当政的例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752040"/>
            <a:ext cx="11734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:34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男人是维护妇女的，因为真主使他们比她们更优越，又因为他们所费的财产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经文并没有说妇女不能执政。我们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slim, Bukhari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中，看不见有清楚的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点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不能执政。除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9 no.219 p.171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的先知批评女王当政。然而，伊斯兰仍然会以这个圣言录禁止妇女掌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认为；妇女不应当成为一国之君，但可以在政府中担任要职；例如，容许妇女当上法官</a:t>
            </a:r>
            <a:r>
              <a:rPr b="1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BBCD3-4085-4BBC-BC0E-B03002FED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4A95B-7C1E-41B2-86D7-5109FE18C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0"/>
            <a:ext cx="115063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新宋体"/>
                <a:ea typeface="等线"/>
              </a:rPr>
              <a:t>IV</a:t>
            </a:r>
            <a:r>
              <a:rPr b="0" lang="zh-CN" sz="4000" spc="-1" strike="noStrike">
                <a:solidFill>
                  <a:srgbClr val="0000ff"/>
                </a:solidFill>
                <a:latin typeface="新宋体"/>
                <a:ea typeface="等线"/>
              </a:rPr>
              <a:t>）穆斯林妇女的衣著与自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要求穆斯林的妇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用外衣蒙着自己的身体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做最不容易使人认识她们，而不受侵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降低视线，遮蔽下身，莫露出首饰，除非自然露出的，叫她们用面纱遮住胸瞠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非对着她们的丈夫，父亲，丈夫的父亲，儿子，丈夫的儿子，兄弟，弟兄的儿子，姐妹的儿子，女仆，奴婢，无性欲的男仆，不懂妇女之事的儿童；叫她们不要用力踏足，使人得知她们所隐藏的首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穆斯林妇女的面紗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Niqab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Footer Placeholder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DAD87-2B15-4506-9D3D-555CB8352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Niqab"/>
          <p:cNvPicPr/>
          <p:nvPr/>
        </p:nvPicPr>
        <p:blipFill>
          <a:blip r:embed="rId1"/>
          <a:stretch/>
        </p:blipFill>
        <p:spPr>
          <a:xfrm>
            <a:off x="5791320" y="1447920"/>
            <a:ext cx="4647960" cy="449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iqa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828800"/>
            <a:ext cx="2819160" cy="3962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1569240" y="641520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hukronline.com/wh9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248520" y="220968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二层遮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381880" y="21337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一层盖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553080" y="449568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眼开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9"/>
          <p:cNvSpPr/>
          <p:nvPr/>
        </p:nvSpPr>
        <p:spPr>
          <a:xfrm flipV="1">
            <a:off x="7467480" y="3581280"/>
            <a:ext cx="15264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858000" y="2438280"/>
            <a:ext cx="304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9220320" y="243828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305920" y="464832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一层盖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3"/>
          <p:cNvSpPr/>
          <p:nvPr/>
        </p:nvSpPr>
        <p:spPr>
          <a:xfrm flipH="1" flipV="1">
            <a:off x="8610480" y="4038120"/>
            <a:ext cx="1526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400800" y="5029200"/>
            <a:ext cx="106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绑布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15"/>
          <p:cNvSpPr/>
          <p:nvPr/>
        </p:nvSpPr>
        <p:spPr>
          <a:xfrm flipV="1">
            <a:off x="7467480" y="5181480"/>
            <a:ext cx="53352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穆斯林妇女对蒙头的三种反应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762120"/>
            <a:ext cx="118872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现代穆斯林妇女对蒙头，有三种反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绝大部份的穆斯林妇女，在公开场合都会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头巾蒙头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穿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长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身体遮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时代的穆斯林妇女只用头巾，而没有长袍；甚至连头巾也不用。在阿富汗这会导致男人的攻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回教地区，她们戴头巾，穿长袍；一上飞机往欧美去时，在飞机上就开始换衣服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，穆罕默德，如何教导蒙头的事；以及初期伊斯兰如何看待蒙头的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D8070-C77A-44B0-9EF7-5D0B6D9A0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96800" y="0"/>
            <a:ext cx="77706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说；头巾是必需的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76320" y="914040"/>
            <a:ext cx="11963520" cy="5305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强调，所有的穆斯林妇女必须戴头巾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Muslim vol.2 book 7 no.2789 p.606-60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律法申明，妇女必须将身体遮盖起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, footnote 2749 p.93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…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不会接受发育完全的女孩，在没有蒙头情况下，所做的祷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1 no.639 p.16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0B222-E86A-4ED7-9489-97C6810B8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女奴不受蒙头的约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838080"/>
            <a:ext cx="11810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奴不一定需要蒙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h Muslim vol.2 book 8 no.3325,3328 p.721-722.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显然，蒙头在当时是一种敬虔穆斯林妇女的表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罕默德获得沙飞雅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fiyah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人们在看穆氏是否要她戴上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巾（成为正室）；或不必戴上头巾（成为女奴或妾）。穆氏要她戴上头巾，把她当正室妻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vol.4 no.143 p.9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经典楷体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942FC-37C5-4943-BA1A-AAFCCC22A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5120" y="-152640"/>
            <a:ext cx="744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男人仍许可注视有装扮的女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1218960"/>
            <a:ext cx="106678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妇女许可以美丽装扮，来吸引男人前来求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2 no.2299 p.627-62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男人许可能看见女孩的长像，是否令他喜悦而娶她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 no.1865 p.12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能预先看见要娶的女人的长像，是件好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2 no.207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0F4E2-DF12-4814-AE71-AC8A8769F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9716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对蒙头的教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1920" y="838080"/>
            <a:ext cx="11658600" cy="540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 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3-15   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愿意你们知道，基督是各人的头；男人是女人的头；神是基督的头。凡男人祷告或是讲道，若蒙著头，就羞辱自己的头。凡女人祷告或是讲道，若不蒙著头，就羞辱自己的头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本不该蒙著头，因为他是神的形像和荣耀；但女人是男人的荣耀。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人乃是为男人造的。因此，女人为天使的缘故，应当在头上有服权柄的记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自己审察，女人祷告神，不蒙著头是合宜的吗？你们的本性不也指示你们，男人若有长头发，便是他的羞辱吗？但女人有长头发，乃是他的荣耀，因为这头发是给他作盖头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EE186-DFD8-4AD1-8C1C-957CF7225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蒙头启示的来历＂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240" y="865080"/>
            <a:ext cx="11658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的妻子爱莎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玛阿卡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mar bin Al-Khatta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对安拉的使徒说；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让你的女人时时蒙头吧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没有太看重他所说的。      先知的太太们常在晚上出来透透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次查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m‘a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女儿莎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ud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个高个子的女孩；乌玛阿卡达看见她在和朋友相聚，就说；我认出你了，莎达。他这样说，是因为希望人们看重，蒙头是种神圣的要求。因此，安拉就赐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关蒙头的启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l-Hijab; -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全然的将身体遮盖起来，只留下眼睛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).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8 no.257 p.17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8F714-68C9-40C0-9239-E966FB039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43160" y="-360"/>
            <a:ext cx="77709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圣言录在孙尼派中的地位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3880" y="1190520"/>
            <a:ext cx="967752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680" indent="-58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言录被视为是古兰经以外，第二重要的伊斯兰信仰与教规依据。圣言录的意思是「言语」。它被孙尼派穆斯林所重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重要地位在于给古兰经，下了许多应用的定义。例如；当穆罕默德告诉穆斯林要祷告；古兰经没有说如何祷告。而是圣言录告诉了我们，要如何祷告，祷告几次，祷告多久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519CC-AC59-4567-9133-F51459B64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蒙头的重要性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5960" y="914040"/>
            <a:ext cx="12039480" cy="5638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现今的阿富汗，虽然塔利班已经倒台；他们还是坚持，妇女必须好好的把自己遮盖起来。不然就会被处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莎曾经被管教，因为把头巾拿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次我（爱莎）和家人阿都拉曼，一同骑骆驼在外。我看见旷野没人，就把头巾放下来。他就鞭子打我的脚，像人打骆驼那样；我对他说，在这里，你有看见其它的男人吗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In Sahih Muslim vol.2 book 7 no.2789 p.606-607: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8779A-728A-4200-8964-9B56F90A6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-76680" y="-360"/>
            <a:ext cx="1181124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学者给这圣言录</a:t>
            </a:r>
            <a:r>
              <a:rPr b="1" lang="en-US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1648</a:t>
            </a:r>
            <a:r>
              <a:rPr b="1" lang="zh-CN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的注解为：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爱莎以为在没人的旷野，她就可以放松，不必遵守戴面纱的责任；反而是阿都拉担心会忽然出现男人的情况下，以处罚来管教她，必须继续带头巾面纱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宋体"/>
                <a:ea typeface="经典楷体简"/>
              </a:rPr>
              <a:t>在这里我们看见三个重点：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AutoNum type="arabicParenR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在公开的场合，可能遇见人的情况下，她必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须执行戴头巾的责任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2)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如果违反，可以遭受处罚（像骆驼般被打）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3)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她不是先受批评才被处罚；而是被处罚後也不和她说什么原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5B23D-16E2-4323-93AC-3D52F32BB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971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导至被杀的可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143000"/>
            <a:ext cx="1173492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没戴头巾的妇女站在门外，丈夫刚好回来看见没头巾的她站在门外，生气的要拿手中的武器刺她。她急忙的说，先拿下你的武器，进入屋内看看，是什么造成我没戴头巾就跑出来。丈夫进入屋内，看见有毒蛇盘绕在房子内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Sahih Muslim vol.4 book 24 no.5557 p.121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3 no.5237-5238 p.1448-1449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3A1FA-E6CC-40B8-91A0-E52091D3D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28600" y="-360"/>
            <a:ext cx="1043928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尼日利亚，一位非穆斯林妇女，经过回教堂。刚好遇见人们作完礼拜，从清真寺出来，看见这没有戴面纱的妇女，就攻击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要求妇女戴头巾及将妇女隔离开来，在现今的穆斯林世界中，仍然是必须的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vol.1, footnote 506 p.26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EDCD5-626E-4940-AF68-BC56AA4F3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6320" y="0"/>
            <a:ext cx="656604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妻子需要丈夫的核准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76320" y="1066320"/>
            <a:ext cx="11887200" cy="508644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没有丈夫的批准，妻子不能禁食（义务以外），不能容许任何男人进入他们的家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卷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2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2452, 2453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677-678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斋戒月以外的禁食；必须获得丈夫的应许           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Ibn-i-Majah vol.3 no.1761-1762 p.62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穆罕默德没责备那因妻子太多祷告禁食</a:t>
            </a:r>
            <a:r>
              <a:rPr b="1" lang="zh-TW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，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而毒打她们的男人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卷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2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2453 </a:t>
            </a:r>
            <a:r>
              <a:rPr b="1" lang="zh-CN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页</a:t>
            </a:r>
            <a:r>
              <a:rPr b="1" lang="en-US" sz="3300" spc="-1" strike="noStrike">
                <a:solidFill>
                  <a:srgbClr val="000000"/>
                </a:solidFill>
                <a:latin typeface="新宋体"/>
                <a:ea typeface="经典楷体简"/>
              </a:rPr>
              <a:t>.677-678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8FE83-3556-4D95-A8CE-08108671A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8191800" cy="79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不寻常的条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152280" y="914040"/>
            <a:ext cx="11734560" cy="4334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容许与一名瞎眼的男人同在一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 no.2282 -2283 p.62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律法认为，妇女不必负起「诱惑」的责任；只有男人才会有被诱惑的可能与责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E21C2-EA9F-4A44-A26B-9E05C7BD9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DC5D2-2E3E-491E-BBD4-FBC0410B6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523880" y="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472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等线"/>
              </a:rPr>
              <a:t>蒙头与隔离所造成的影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76320" y="1000080"/>
            <a:ext cx="119635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472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icrosoft JhengHe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维老，一位着名的伊斯兰思想家 （生於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26-1198 A.D.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说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家庭受到贫穷与压力，这是因为伊斯兰妇女有如家畜般，被限制在家中，这是个受争议的做法。她们没有容许叁与为家中经济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尽一份生产的力量，以及没有鼓励在知识上进行供献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icrosoft JhengHe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Quoted from Y. J. de Boer, The History of Philosophy in Islam, 1933 p.19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2B522-AE6D-46B0-BD7C-B31A182AC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-152280" y="0"/>
            <a:ext cx="122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相对的圣经教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10-29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德的妇人谁能得著呢？他的价值远胜过珍珠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丈夫心里倚靠他，必不缺少利益；他一生使丈夫有益无损。他寻找羊毛和麻，甘心用手做工。他好像商船从远方运粮来，未到黎明他就起来，把食物分给家中的人，将当做的工分派婢女。他想得田地就买来；用手所得之利栽种葡萄园。他以能力束腰，使膀臂有力。他觉得所经营的有利；他的灯终夜不灭。他手拿捻线竿，手把纺线车。他张手　济困苦人，伸手帮补穷乏人。他不因下雪为家里的人担心，因为全家都穿著朱红衣服。他为自己制作绣花毯子；他的衣服是细麻和紫色布做的。他丈夫在城门口与本地的长老同坐，为众人所认识。他做细麻布衣裳出卖，又将腰带卖与商家。能力和威仪是他的衣服；他想到日後的景况就喜笑。他开口就发智慧；他舌上有仁慈的法则。他观察家务，并不吃闲饭。他的儿女起来称他有福；他的丈夫也称赞说：才德的女子很多，惟独你超过一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71520" y="0"/>
            <a:ext cx="443052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宋体"/>
              </a:rPr>
              <a:t>洗澡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143000"/>
            <a:ext cx="11353680" cy="4648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t">
            <a:normAutofit/>
          </a:bodyPr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丈夫有权决定太太什么时候洗澡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若有人使他的太太星期五洗澡，提早与他一同步行去教堂，开始就坐在靠近讲台的地方，专心听道，不闲谈。他就能得到报赏一年的禁食，晚上祷告的功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bu Dawud vol.1 no.345 p.9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经典楷体简"/>
              </a:rPr>
              <a:t>没有提到做了这些事的妻子有什么功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8AF13-B231-4862-B19A-0067D77A9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送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23880" y="1143000"/>
            <a:ext cx="82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将与丈夫联名的财产当礼物送给妇女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</a:t>
            </a: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 </a:t>
            </a: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段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39</a:t>
            </a: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页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06.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因为妇女缺乏智慧                                       </a:t>
            </a: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 footnote 2991 p.1006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没有丈夫的同意，不能送人礼物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3288 p.42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88B93-A825-4609-A05D-E99B89799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 Light"/>
                <a:ea typeface="宋体"/>
              </a:rPr>
              <a:t>立场申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066680"/>
            <a:ext cx="11201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人以为，伊斯兰必会重视及尊敬妇女。甚至认为他解放了当时的妇女地位。有此误解，是因为未曾读到穆罕默德，在古兰经中及圣言录中讲论妇女的地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只从回教教师那里，接受表面的见解。我们谅解那些被误导的人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没有人会想道，一个称为神圣的宗教，竟然会有对妇女，有许多不公平的对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377F0-0DC5-4AF4-87A9-E21D71BFE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860EA-A76D-43D3-A0AE-D104B1497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0"/>
            <a:ext cx="118872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新宋体"/>
                <a:ea typeface="等线"/>
              </a:rPr>
              <a:t>V</a:t>
            </a:r>
            <a:r>
              <a:rPr b="0" lang="zh-CN" sz="4000" spc="-1" strike="noStrike">
                <a:solidFill>
                  <a:srgbClr val="0066ff"/>
                </a:solidFill>
                <a:latin typeface="新宋体"/>
                <a:ea typeface="等线"/>
              </a:rPr>
              <a:t>）穆斯林妇女的婚姻与地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性穆斯林应当把妇女的聘仪，当做一份赠品，交给她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性穆斯林，可以借自己的财产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谋与妇女结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叶派以这节经文，作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临时婚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依据。容许男人若离家很远很久，可以有临时婚姻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尼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不同意临时婚姻，指其差不多就是卖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生的子女，归丈夫所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男人可娶四妻及与女奴为满足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1066680"/>
            <a:ext cx="1173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:3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　如果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恐怕不能公平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待孤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那末，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可以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选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娶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们爱悦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女人，各娶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两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妻、三妻、四妻；如果你們恐怕不能公平地待遇她們，那末，你們只可以各娶一妻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或以你們的女奴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满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足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是更近於公平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节经文有三种解释：可娶四妻；或可娶一妻；或可娶不限数目的妻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使你们贪爱公平，你们也绝不能公平地待遇众妻；但你们不要完全偏向所爱的，而使被疏远的，如悬空中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]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9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902B2-65BC-4D00-9855-2F8E56AA7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DEB40-D6C0-46FE-BCF3-085A88F1A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152280"/>
            <a:ext cx="10439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性穆斯林可与随意与女奴发生关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布哈里圣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6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18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6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6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奴是穆斯林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战利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有关系不算通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3DFF2-AF91-44E2-9E3A-5CE9B6599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0"/>
            <a:ext cx="11201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男性的穆斯林可娶这些人 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性基督徒及犹太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管辖的妇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奴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男性的穆斯林不要娶这些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母亲，女儿，姐妹，姑母，姨母，侄女，外甥女，乳母，同乳姐妹，岳母，他们所抚育的继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他们曾与她们的母亲同房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亲生儿子的媳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同时娶两姐妹，但已往的不受惩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丈夫的妇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物配主的妇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D43BB-6F33-4D6B-AF77-4C724383C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52280" y="0"/>
            <a:ext cx="11354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对女性穆斯林的教导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性穆斯林，没有权利嫁四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性穆斯林，不要嫁给这些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物配主的男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非穆斯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丈夫可以教训，殴打妻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执拗的妇女，你们应该劝戒她们，可以和她们同床异被，可以打她们。如果她们服从你们，那末，你们不要再想法欺负她们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丈夫打妻子的背景可见于布哈里圣训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1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D8219-43B5-4009-9702-938B8C332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-152280" y="0"/>
            <a:ext cx="1219176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的妻子好比你们的田地，你们可以随意耕种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得强占妇女当作遗产，也不得压迫她们，除非她们作了明显的丑事；丈夫当善待妻子；如果丈夫厌恶妻子，那末，丈夫应当忍受妻子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经期中应当离开妻子，不要与她们交接，直到她们清洁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2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妻子是令男人爱好，迷惑的好事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有妇女，恐遭丈夫的鄙弃或疏远，那末，他们俩的和解是无罪的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8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57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VI</a:t>
            </a:r>
            <a:r>
              <a:rPr b="1" lang="zh-CN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）伊斯兰的离婚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76320" y="504360"/>
            <a:ext cx="12344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的男人，可用任何理由来休掉他的妻子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859 (p.534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男人可因喜好改变而与妻子离婚：年老，失去兴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乌玛要求儿子阿都拉与太太离婚，儿子不愿意，乌玛去要求穆罕默德，穆罕默德下令阿都拉必须和妻子离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3 no.5119 p.142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都拉乌玛：先知说，在安拉看来，最卑劣的行为，莫过于离婚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2018 p.21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玛说穆氏休掉哈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fsa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把她要回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679D8-24F9-46D3-A0BD-049F6D083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-360" y="151920"/>
            <a:ext cx="12192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男人的父亲可以要求儿子，离弃他所娶的妻，就算儿子不愿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Ibn-i-Majah vol.3 no.2088-2089 p.259-26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一个要好的穆斯林朋友，可以要求朋友休掉某个妻子，好让他可以将她娶过来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Bukhari vol.5 book 58 no.125 p.8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一个男人拥有妇女为妻几年，也给他生了几个孩子。他想将她更换给别人；妻子同意以后，男人后来却又不同意了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新宋体"/>
                <a:ea typeface="经典楷体简"/>
              </a:rPr>
              <a:t>Ibn-i-Majah vol.3 no.1914 p.18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74D53-23E4-4636-97E8-2C0FCC6F1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2F77E-01BC-4EA8-BF7B-A8D43F4D7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1211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夫妻不睦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从俩人的亲戚中各推一个公正人，如果两个公正人欲加以和解，那末神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使夫妻和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休妻的时候，当在她们的待婚期之前休她们，不要把她们从她们的房里驱逐出门，她们也不得自己出门，除非她们做了明显的丑事；当她们满期的时候，男人当善意地挽留她们，或善意地离别她们；当以两个公正人为见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57480" y="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新宋体"/>
                <a:ea typeface="新宋体"/>
              </a:rPr>
              <a:t>妇女离婚的主权受到限制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914040"/>
            <a:ext cx="10667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可以休妻，女人不可休掉丈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vol.7 no.121,122 p.93; vol.7, chapter 93, vol.7 no.130 p.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妇女要求离婚的理由不特殊，会使她失去天堂的福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vol.3 no.2055 p.237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vol.2 no.2218 p.6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B9983-57DC-4B83-A4E5-0F9F451C2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74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Calibri Light"/>
                <a:ea typeface="宋体"/>
              </a:rPr>
              <a:t>I</a:t>
            </a:r>
            <a:r>
              <a:rPr b="1" lang="zh-CN" sz="4100" spc="-1" strike="noStrike">
                <a:solidFill>
                  <a:srgbClr val="0000ff"/>
                </a:solidFill>
                <a:latin typeface="Calibri Light"/>
                <a:ea typeface="宋体"/>
              </a:rPr>
              <a:t>）女人的本质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219320"/>
            <a:ext cx="9583560" cy="44575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女人有如弯曲的肋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uraira: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使者说：善待妇女；因为她是使用助骨中，前瑞弯曲之处所造。如果要完全纠正她，就会断裂（离婚）。若任凭它，就会继续保持着弯曲。因此，善待妇女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哈利 卷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段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8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8774B-88EC-4B38-85E8-46AFB5F1D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经典楷体简"/>
              </a:rPr>
              <a:t>男人要求离婚的理由不受限制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240" y="1600200"/>
            <a:ext cx="111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859 (p.534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男人只要对妇女感到讨厌，例如年老，不吸引人，不会讨丈夫喜欢，就可构成离婚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i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F3759-4A2D-4A8C-975B-BE7B7B8AA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273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圣言录中的一个例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600200"/>
            <a:ext cx="107442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个男人成为穆斯林，妻子也成为穆斯林。後来妇女要求离婚，改嫁给另一个男人。那人去要求诉穆罕默德帮忙。穆罕默德把那妇女带回给她的前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宋体"/>
                <a:ea typeface="经典楷体简"/>
              </a:rPr>
              <a:t>Abu Dawud</a:t>
            </a:r>
            <a:r>
              <a:rPr b="1" lang="en-US" sz="3600" spc="-1" strike="noStrike">
                <a:solidFill>
                  <a:srgbClr val="009900"/>
                </a:solidFill>
                <a:latin typeface="宋体"/>
                <a:ea typeface="经典楷体简"/>
              </a:rPr>
              <a:t> vol.2 no.2230-2231 p.6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0C037-C9A4-44FB-B0CA-3AD0DB415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5960" y="0"/>
            <a:ext cx="8580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希奇古怪的离婚法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14400"/>
            <a:ext cx="11887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休妻是两次，此后应当以善意挽留她们，或以优礼解放她们。如果他休了她，那末，她以后不可以做他的妻子，直到她嫁给其他的男人。如果后夫又休了她，那末，她再嫁前夫，对于他们俩是毫无罪过的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9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卷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6,187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6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 no.2192 p.592-59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一个男人而言，他不却不受这样的约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2E823-3C76-4D25-BD31-F25A0D2BA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E3CCA-7BC6-4DF8-B164-2D6A26CBB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-152280" y="0"/>
            <a:ext cx="120394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新宋体"/>
                <a:ea typeface="等线"/>
              </a:rPr>
              <a:t>被休妇女当等四个月才能嫁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(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古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2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：</a:t>
            </a:r>
            <a:r>
              <a:rPr b="0" lang="en-US" sz="4000" spc="-1" strike="noStrike">
                <a:solidFill>
                  <a:srgbClr val="0066ff"/>
                </a:solidFill>
                <a:latin typeface="新宋体"/>
              </a:rPr>
              <a:t>226)</a:t>
            </a:r>
            <a:r>
              <a:rPr b="0" lang="en-US" sz="3200" spc="-1" strike="noStrike">
                <a:solidFill>
                  <a:srgbClr val="000000"/>
                </a:solidFill>
                <a:latin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休的妇人，当期待三次月经；她们不得隐讳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造化在她们的子宫里的东西；在等待的期间，她们的丈夫是宜当挽留她们的，如果他们愿意重修旧好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8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休的妻待婚期满，可以嫁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2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AAD9D-645F-444C-AE79-2E54C5335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0" y="0"/>
            <a:ext cx="1066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男人未与妻子交接，也未为她们决定聘仪的期间，如果男人休了她们，那对于他们是毫无罪过的，但须以离仪赠与她们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被休的妇女，都应得一份照例的离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女性无权主动离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B1DD5-43EA-4C34-81C7-90AD4C967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523880" y="0"/>
            <a:ext cx="914400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新宋体"/>
              </a:rPr>
              <a:t>马来西亚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新宋体"/>
              </a:rPr>
              <a:t>2005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新宋体"/>
              </a:rPr>
              <a:t>年全国离婚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非穆斯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等线"/>
              </a:rPr>
              <a:t>=3,00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穆斯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等线"/>
              </a:rPr>
              <a:t>= 12,00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等线"/>
              </a:rPr>
              <a:t>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1173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经典楷体简"/>
              </a:rPr>
              <a:t>就离婚的教导，圣经中上帝的立场，有不同于古兰经安拉的主场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1371240"/>
            <a:ext cx="11887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玛拉基先知责备以色列人对不起妻室的行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虽然神有灵的余力能造多人，他不是单造一人吗？为何只造一人呢？乃是他愿人得虔诚的后裔。所以当谨守你们的心，谁也不可以诡诈待幼年所娶的妻。离弃幼年所娶的妻是不受鼓励的行为（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4)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清楚的表明，休妻离婚是他所厌恶看见的行为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以色列的神说：「休妻的事和以强暴待妻的人都是我所恨恶的！所以当谨守你们的心，不可行诡诈。」这是万军之耶和华说的。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此，一夫一妻是上帝所设立敬虔的家庭制度。清楚的指出伊斯兰信仰中轻视敬虔婚姻的罪行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经典楷体简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619EB-8159-48C9-A93D-9679ADC16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-360" y="-360"/>
            <a:ext cx="12115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有多处论及离婚的教导。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在马太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7-32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导有关敬虔的力量发自内心，而不是外在的律法。凡看见妇女淫乱淫念的，在心里就已经犯罪了。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太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2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告诉你们，凡休妻的，若不是为淫乱的缘故，就是叫他作淫妇了；人若娶这被休的妇人，也是犯奸淫了。另叁太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-12;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-12;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-16,39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教导有关结婚，离婚，性爱的观点，完全异于圣经的教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793D3-E718-42F2-A395-FD9015CC0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F2079-D63D-4A02-A84E-662A4A272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04920" y="0"/>
            <a:ext cx="1188720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VII</a:t>
            </a: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中有关通奸的教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不要接近私通，因为私通确是下流的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丈夫告发自己的妻子通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寻求四个男人作见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凡告发贞节的妇女，而不能举出四个男子为见证者，应当把每个人打八十鞭，并且永远不可接受他们的见证；以后悔过自新者除外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反过来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也实用在被强奸的案情上；四个人看一件强奸案进行而让它发生？？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A83FC-D74A-408B-BE53-1CC2C0A81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0" y="0"/>
            <a:ext cx="12039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告發自己的妻子，除本人外別無見証，他的証據是指真主發誓四次，証明他確是說實話的，第五次是說：他甘受真主的詛咒，如果他說謊言。她要避免刑罰，必須指真主發誓四次，証明他確是說謊言的，第五次是說：她甘受天譴，如果他是說實話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Microsoft JhengHei"/>
                <a:ea typeface="Microsoft JhengHei"/>
              </a:rPr>
              <a:t>对通奸的惩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淫妇和奸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应当各打一百鞭；叫一伙穆斯林，监视他俩的受刑；奸夫只得娶淫妇，或娶多神教徒，淫妇只得嫁奸夫，或嫁多神教徒，穆斯林不得娶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女性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她们拘留在家里，直到死亡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男同性恋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责备他们；如果他们俩侮罪自新，就原谅他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2732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的聪慧只有男人的一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560" y="914400"/>
            <a:ext cx="1150596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 fontScale="99000"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伊斯兰律法规定，妇女的见证果效只有男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一半，因为她们的聪慧有天生的不足。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Bukhari vol.3 no.826 p.50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认为，若由妇女治理国家，将会不兴盛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Bukhari vol.9 no.219 p.171)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夏娃原本是非常聪明的，因为堕落上帝使她变为愚蠢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        al-Tabari vol.1 p.280-28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道消息经由女人传送，就会出现有「争议」的内容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5 no.3863 p.227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妇女述说的圣言录，不如男人的可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unan Nas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 vol.1 p.8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326CD-CEF9-4D8A-BE7D-CFC979938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7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学者巴达威博士的观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38080"/>
            <a:ext cx="12192120" cy="567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: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告发自己的妻子，除本人外别无见证，他的证据是指真主发誓四次，证明他确是 说实话的，第五次是说：他甘受真主的诅咒，如果他说谎言。她要避免刑罚，必须指真主发誓四次，证明他确是说谎言的，第五次是说：她甘受天谴，如果他是说实话的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引用以上经文说，妇女的见证在任何时候，都与男人有同等的地位。因此，他解释说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8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能用在商业上，而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则是使用在任何时候。然而几乎所有的回教与传统运用都认为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6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能应用在为自己的贞节的辩护上；而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82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则运用在所有的场合里。因此有三个可能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)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没法清楚表明他所启示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)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对，所有的传统与学者解错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)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达威的论点错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6F29F-D273-4B83-9EBF-3C7E6EA9E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52280" y="0"/>
            <a:ext cx="118872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穆斯林强暴妇女，男人所作的见证，功效二倍于妇女所说的。非穆斯林的见证，不能在法庭指控穆斯林。若穆斯林强暴非穆斯林妇女，就算有另一位非穆斯林妇女在场看见，当他说：我没有做这样的事，他的见证与亲眼看见的妇女是同等的果效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基思坦人权组织宣称，每天有十起以上的强奸发生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的妇女在警方扣留与查案时遇见性侵犯。妇女组织宣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5%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关在监狱中的妇女，都是被人告于通奸罪 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in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通常男人却能无罪的走出狱门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（为什么我不是穆斯林页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2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4905E-0B93-44DB-8D83-654B0FE68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拥有自由婚姻与性爱的权利</a:t>
            </a:r>
            <a:r>
              <a:rPr b="0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90720"/>
            <a:ext cx="11963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-51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先知啊！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准你享受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予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礼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妻子，你的奴婢，即真主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利品的，你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父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你的姑母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你的舅父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你的姨母的女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同你一道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居的。信道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，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赠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，若先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娶她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的，信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得援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知道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妻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奴婢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做出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——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免你感受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真主是至赦的，是至慈的。你可以任意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离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任何人，也可以任意地挽留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任何人。你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暂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妻子，你想召回她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於你是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。那是最近於使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感到安慰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悲哀的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且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满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你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予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。真主知道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心事，真主是全知的，是至睿的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91AC4-3AE6-485C-AF23-E4FF5904C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57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VIII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暂时婚约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1447560"/>
            <a:ext cx="10667880" cy="464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e6e6"/>
            </a:outerShdw>
          </a:effectLst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i bin Abi Tali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述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开伯尔山口的日子，先知曾禁止暂时的婚约及吃驴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5 no.527 p.37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-i-Majah vol.3 no.1961,1963 p.180,18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孙尼派没有实行暂时妻子的习惯，大部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什叶派的穆斯林却会实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FB953-A544-42BD-A6B1-0337FBEB2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短暂的婚姻合约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219320"/>
            <a:ext cx="99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可以设立暂时的婚姻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双方同意下，男人给女人某金额的金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女人同意暂时作男人的「妻子」，随时满足他一切，包括性的要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女人在合约期间，属於这男人。她暂时不能和另一个男人往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67F65-BD49-4A12-B416-88338F77E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-228600" y="762120"/>
            <a:ext cx="11963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期约满足，男人就要让女人离开，或者双方可再定合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暂时婚姻契约，存在伊斯兰的世界中。通常是男人长期在外，离开妻子时，可定如此契约来满足男人的需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死後，这暂时婚姻的契约，就被奥马所禁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919E2-23CD-40D5-9006-9D082920D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IX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）古兰经与圣言录对待女俘虏的指导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66320"/>
            <a:ext cx="11887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可以任意的把女奴的衣服脱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Sahih Muslim vol.3 book 17 no.4345 p.953 and Ibn-i-Majah vol.4 no.2840 p.18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随时可以对犹太族女俘虏发生关系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Sahih Muslim vol.2 book 8 no.3371-3374 p.732-735; Abu Dawud vol.2 no.21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穆斯林的主人，不能脱有婚姻约束女奴的衣服。 </a:t>
            </a: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 vol.1 no.496 and footnote 198 p.12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4DC86-D977-4D0B-8771-E07FD0270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0" y="-360"/>
            <a:ext cx="11963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经典楷体简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经典楷体简"/>
              </a:rPr>
              <a:t>阿布沙耶引述说；当他和穆罕默德同坐时，问了他一个问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安拉的使徒啊，我们得到女奴为战利品，我们更看重能将她们卖出好的价钱。请问你对向女奴采取「非正常式」的性行为，有何看法。先知说：你们真的这样做吗。最好不要这样做。因为死去的灵魂，虽然不复存在；然而直到复活日的来临时，他们还会存在的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 no.432,  p.237.   Bukhari vol.5 book 59 no.459 p.317; vol.7 no.136-137 p.102-103; vol.8 no.600 p.391;  Abu Dawud vol.2 no.2166,2168 p.58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50399-AF9A-4CBA-8FFF-0E649FD1E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0"/>
            <a:ext cx="11963160" cy="6858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ffffff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布沙耶说：安拉的使徒差遣军队远征到「哀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wta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进行胡耐之战双方对上，伊斯兰军得胜带回许多战利品，有男女奴仆。这些人不习惯在对方丈夫存在的情况下与这些女奴交接。高尚的安拉这时赐下启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2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又严禁你们娶有丈夫的妇女，但你们所管辖的妇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女奴）除外；真主以此为你们的定制。除此以外，一切妇女，对于你们是合法的，你们可以借自己的财产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而谋与妇女结合，但你们应当是贞节的，不可是淫荡的。既与你们成婚的妇女，你们应当把已决定的聘仪交给她们。既决定聘仪之后，你们双方同意的事，对于你们是毫无罪过的。真主确是全知的确是至睿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只要是女奴，又知她没有怀孕，就可以和他们交接 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1479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＂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bu Dawud vol.2 no.2150 p.57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F68FD-84DD-4F12-914D-4EFFCA2BD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-360" y="-360"/>
            <a:ext cx="12115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男人所分得的战利品，只要经过一个月经，证实女奴没怀孕，就可以和她交接。若她怀孕，就要等她把孩子生下。这是学者马力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lik al-Shaf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阿布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Thawr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观点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学者阿布哈尼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anifa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，如果夫妇一同被掳，他们的婚约还是保存的。根据大部份的学者认为，他们会被分开而失去关系。另一位学者阿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Awza-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，只要他们保持着战利品的身份，他们的身份会继续保持。除非另一男人将女奴买去，主人可将他们分开，若她没有怀孕，可以随意与他交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wn al-M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d II.2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抢夺了沙飞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fiy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后，当晚就和她交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ud vol.2, footnote 1479 p.577-578. Abu Dawud vol.2 no.2153-2154 p.57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FE34C-782D-47D8-9FF3-5AE8782D5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9230B-4186-4F48-8383-00183CC31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320" y="0"/>
            <a:ext cx="1165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妇女智商低，因此地狱中妇女比男人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妇女阿，施舍吧，我看见入地狱的多数是妇女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她们问先知，为何会如此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回答说：因为你们经常咒诅人，不晓得对丈夫心存感激。我没有看见像你们那样，在智力与宗教上那么缺乏受教力量的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女问：为何会在智力与宗教上，缺乏受教的力量呢？先知回答：证据不是说两个妇女的见证，只能等同于一个男人见证吗？这就说明你们缺乏智力。还有你们在经期时间，不是有几天不能祷告与禁食吗？妇女们就肯定所先知说所的。先知说：这就是在宗教上的不足之处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Bukhari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卷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 段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0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-241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异于圣经的立场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838080"/>
            <a:ext cx="119635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0-14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出去与仇敌争战的时候，耶和华你的神将他们交在你手中，你就掳了他们去。若在被掳的人中见有美貌的女子，恋慕他，要娶他为妻，就可以领他到你家里去；他便要剃头发，修指甲，脱去被掳时所穿的衣服，住在你家里哀哭父母一个整月，然后可以与他同房。你作他的丈夫，他作你的妻子。后来你若不喜悦他，就要由他随意出去，决不可为钱卖他，也不可当婢女待他，因为你玷污了他。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89A2A-E1E3-48E4-B71E-BB4BDEA9D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863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古兰经容许额外的夫妇关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066680"/>
            <a:ext cx="10210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古兰经容许与所拥有的女奴交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禁止与那些已经有婚姻的女奴有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不鼓励与女奴结婚，有交接关系，还可以卖掉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-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不能与非穆斯林妇女交接，除非他们是女奴，或只把他们当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AD18B-BFAD-4134-8E19-14582B2B9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</a:t>
            </a:r>
            <a:r>
              <a:rPr b="1" lang="en-US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-</a:t>
            </a:r>
            <a:r>
              <a:rPr b="1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教比较伊斯兰的道德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1143000"/>
            <a:ext cx="11582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可随意强迫被掳的妇女交合，这样的观点让人深感惊讶。许多不认识圣言录的穆斯林，不知道穆罕默德与当代的穆斯林，曾经做过那样的事。可能穆斯林会要求更多证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提供更多的证据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F3034-C390-4A61-A004-B1CCE0A15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76320" y="0"/>
            <a:ext cx="117345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孙尼派：道德上可接受穆斯林男人勉强女奴交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vol.7 no.22; vol.3: after 436, vol.3 no.432; vol.5 book 59 no.459 p.317; vol.8 no.6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可以强迫被掳的妇女交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Sahih Muslim vol.2 book 8 no.3371-3376 p.733; Ibn-i-Majah vol.3 no.2517 p.506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F8D99-B8C0-4D1A-9DF8-5F0D54920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Bukhari 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卷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3, 113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段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, 436</a:t>
            </a:r>
            <a:r>
              <a:rPr b="1" lang="en-US" sz="3600" spc="-1" strike="noStrike">
                <a:solidFill>
                  <a:srgbClr val="0000ff"/>
                </a:solidFill>
                <a:latin typeface="新宋体"/>
                <a:ea typeface="经典楷体简"/>
              </a:rPr>
              <a:t>条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28600" y="990360"/>
            <a:ext cx="1150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岂有人与女奴同行，而不知其是否有孕？阿哈山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Hasan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认为主人对她的亲吻与宠爱有什么问题。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玛说：女奴若赠送，或转卖给他人，得她的人要等一个经期，确保她没有怀孕，才可以与她交合。对还是处女的女奴则不受限制＂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C8C18-7B08-42B5-89A3-A4524A4C9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75960" y="0"/>
            <a:ext cx="11963160" cy="6076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｀阿达说：触抚一个怀孕的女奴并不是大碍 （注一）的事。因为安拉说：只要是和自己的太太及右手所拥有的（女奴）进行交接的事，这是不会受到指责的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一：从先前另一男人所怀孕的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3, ch.113 after no.436 p.239-24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达对那些在麦加出售的女奴，不想多看一眼，除非他想去买她们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8 no.246 p.16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FB6C3-4675-462D-A40D-C2409E62F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-360" y="-360"/>
            <a:ext cx="12192120" cy="60958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e7e6e6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50-52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啊！我确已准你享受你给予聘礼的妻子，你的奴婢，即真主以为你的战利品的，你的从父的女儿、你的姑母的女儿、你的舅父的女儿、你的姨母的女儿，她们是同你一道迁居的。信道的妇女，若将自身赠与先知，若先知愿意娶她，这是特许你的，信士们不得援例我知道我为他们的妻子与奴婢而对他们做出的规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免你感受困难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..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可以任意地离绝她们中的任何人，也可以任意地挽留她们中的任何人。你所暂离的妻子，你想召回她，对于你是毫无罪过的。那是最近于使她们感到安慰而无悲哀的，并且都满意你所给予她们的。真主知道你们的心事，真主是全知的，是至睿的。 以后不准你再娶妇女，也不准你以她们换掉别的妻子，即使你羡慕她们的美貌，</a:t>
            </a:r>
            <a:r>
              <a:rPr b="1" lang="zh-CN" sz="29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除非是你的奴婢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是监视万物的。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换言之，拥有多少位女奴为伴，都没有限制。因为，妻子与女奴是不一样</a:t>
            </a:r>
            <a:r>
              <a:rPr b="1" lang="zh-CN" sz="2200" spc="-1" strike="noStrike">
                <a:solidFill>
                  <a:srgbClr val="0000ff"/>
                </a:solidFill>
                <a:latin typeface="新宋体"/>
                <a:ea typeface="经典楷体简"/>
              </a:rPr>
              <a:t>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81857-9DCF-4888-8885-C1765406B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858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Umm Walid</a:t>
            </a:r>
            <a:r>
              <a:rPr b="1" lang="en-US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女奴之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333440"/>
            <a:ext cx="11810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伊斯兰给女奴为主人所生之子，一个特殊的称呼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乌娃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Umm Walad (or um Walid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, footnote 1 p.257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vol.3 no.2004 p.20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马利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Mariya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据说就是穆罕默德从女奴所生之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经典楷体简"/>
              </a:rPr>
              <a:t>al-Tabari vol.13 p.58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A2697-D87C-4BAD-A21E-51CD49FF0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-360" y="-360"/>
            <a:ext cx="12192120" cy="6721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被问及与女奴交接的观点；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问答：这没有问题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Sahih Muslim vol.2 book 8 no.3377,3383-3388 p.734-735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同样的问题，圣经回答说；处死淫夫与淫妇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22-26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遇见人与有丈夫的妇人行淫，就要将奸夫淫妇一并治死。这样，就把那恶从以色列中除掉。若有处女已经许配丈夫，有人在城里遇见他，与他行淫，你们就要把这二人带到本城门，用石头打死女子，是因为虽在城里却没有喊叫；男子是因为玷污别人的妻。这样，就把那恶从你们中间除掉。若有男子在田野遇见已经许配人的女子，强与他行淫，只要将那男子治死。但不可办女子；他本没有该死的罪，这事就类乎人起来攻击邻舍，将他杀了一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1BE15-B052-4DC1-B08A-BC0C8AD3A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的上帝责备穆罕默德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教的婚姻与性爱的立场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413080" y="1238400"/>
            <a:ext cx="732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2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2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E7A6F-B450-496A-8956-7BB640ADD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0" y="533520"/>
            <a:ext cx="121158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8080" bIns="28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利 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7-26 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你们要自洁成圣，因为我是耶和华你们的神。你们要谨守遵行我的律例；我是叫你们成圣的耶和华。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邻舍之妻行淫的，奸夫淫妇都必治死。与继母行淫的，就是羞辱了他父亲，总要把他们二人治死，罪要归到他们身上。与儿妇同房的，总要把他们二人治死；他们行了逆伦的事，罪要归到他们身上。人若与男人苟合，像与女人一样，他们二人行了可憎的事，总要把他们治死，罪要归到他们身上。人若娶妻，并娶其母，便是大恶，要把这三人用火焚烧，使你们中间免去大恶。人若与兽淫合，总要治死他，也要杀那兽。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要归到他们身上。「人若娶他的姊妹，无论是异母同父的，是异父同母的，彼此见了下体，这是可耻的事；他们必在本民的眼前被剪除。他露了姊妹的下体，必担当自己的罪孽。 妇人有月经，若与他同房，露了他的下体，就是露了妇人的血源，妇人也露了自己的血源，二人必从民中剪除。不可露姨母或是姑母的下体，这是露了骨肉之亲的下体；二人必担当自己的罪孽。人若与伯叔之妻同房，就羞辱了他的伯叔；二人要担当自己的罪，必无子女而死。人若娶弟兄之妻，这本是污秽的事，羞辱了他的弟兄；二人必无子女</a:t>
            </a:r>
            <a:r>
              <a:rPr b="1" lang="en-US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7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在你们面前所逐出的国民，你们不可随从他们的风俗；因为他们行了这一切的事，所以我厌恶他们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3990B-452E-4790-A487-4393FDE3C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11887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II</a:t>
            </a:r>
            <a:r>
              <a:rPr b="0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古兰经有男女不平等的教导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比妇女更优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的权利，比女人高一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8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以血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外造成他人死亡时，付给家属的赔偿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继承权或在法院作证的地位来说，女人只有男人一半的价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参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男人的作证等于两个女人的作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继承遗产的律例上，一个男子，得两个女子的分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火狱大部份居民是女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哈里圣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6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X)</a:t>
            </a:r>
            <a:r>
              <a:rPr b="1" lang="zh-CN" sz="36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穆罕默德教导男人可以殴打妇女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76320" y="1066680"/>
            <a:ext cx="11887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4 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男人是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维护妇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的，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使他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比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优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越，又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费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财产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贤淑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女子是服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借真主的保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祐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保守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隐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微的。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怕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执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拗的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妇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女，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应该劝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戒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可以和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同床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异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，</a:t>
            </a: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以打她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如果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服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那末，你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再想法欺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负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她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真主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至尊的，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确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至大的。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58ACE-7832-4965-8348-8D8F4A700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不要殴打妻子如同女奴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320" y="1142640"/>
            <a:ext cx="117345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穆罕默德在一次的讲道中说： “对妻子如同女奴那样，施行鞭打是不明智的作法。那样做太据烈了，妻子不同于女奴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Bukhari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； 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46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； 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44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照样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Ibn-i-Majah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，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经典楷体简"/>
              </a:rPr>
              <a:t>，记载说，穆罕默德批评男人不能随意鞭打妻子如同女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经典楷体简"/>
              </a:rPr>
              <a:t>意思是说对待女奴是可以粗暴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6CF53-8C7E-4FB2-AF3C-6BA9C9BAA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2A22B-65DD-4B47-9BD2-5B49F3F8A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6320" y="0"/>
            <a:ext cx="119631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传统圣训中，有关伊斯兰殴妻的叙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∶34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丈夫殴打妻子的启示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位妇女向穆罕默德诉苦，说她的丈夫打她的脸 （脸上还有手掌痕） 。先知起初对她说∶ 向他报复 ，然后他又补充说∶ 等等，我要认真考虑一下。稍后，大概安拉向穆罕默德启示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∶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之后，先知说∶ “我们希望一件事情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男人不可打妻子）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安拉却希望另一件事情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男人可以打妻子）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所想的是最好的”（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殴打妻子最好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面引用的话是摘自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z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著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t-Tafsir al-Kabir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∶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注 （为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帕子的另一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引用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z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最伟大的穆斯林学者之一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C452E-9C1A-4DE7-976A-6E5E48B69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0" y="0"/>
            <a:ext cx="1226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艾布达乌德，圣训集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〔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〕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09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章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许可丈夫打妻子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#2141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亚斯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huba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报导，安拉的使者如此说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殴打安拉的侍女”，但是当欧麦尔来到使者那里说∶现在的女人在他们的丈夫面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越来越放肆了，他 （先知）于是许可丈夫打她们。随后，有许多女人来到安拉使者的家里，抱怨她们的丈夫打她们。因此安拉的使者说∶“许多妇人来到穆罕默德的家里投诉她们的丈夫。她们不是你们当中最好的妇女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请注意，穆罕默德怎样论到那些向他妻子们诉苦的妇女们∶ “她们不是你们当中最好的妇女” 穆罕默德对于丈夫们殴打他们的妻子，没有反对意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7B3BC-96C2-4A0C-91A0-4CCE5D794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0" y="0"/>
            <a:ext cx="1203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#2142 –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欧麦尔报导先知如此说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男人不会被问及他为甚么打自己的妻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艾布达乌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Dawod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41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的注解为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表明妻子应该服从他们的丈夫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”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42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，他说∶ 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意味着，一个男人应该尽全力来纠正他的妻子，但如果无效的话， 他就可以打她，以此为最后一种手段。这个传统没有意思说，一个丈夫可以凭白无故地殴打他的妻子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CD606-DACD-4C1D-A294-AAEFD1A59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布哈里圣训，卷八，第</a:t>
            </a: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828</a:t>
            </a: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条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等线"/>
              </a:rPr>
              <a:t>爱莎记述∶阿布巴卡朝我走过来，用他的拳头猛力打我，并且说∶ “因着你的项链而耽搁了所有人。” 虽然我被打得非常疼痛，但我仍然一动不动，像死人一般，免得吵醒安拉的使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新宋体"/>
              </a:rPr>
              <a:t>评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等线"/>
              </a:rPr>
              <a:t>这段圣训的背景乃是说到，穆罕默德延迟了拆营的时间，因为要找爱莎的项链。这事对他的追随者来说是一件艰难的事，因为没有太多的水了。爱莎的父亲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等线"/>
              </a:rPr>
              <a:t>阿布巴卡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等线"/>
              </a:rPr>
              <a:t>一气之下，就挥拳猛力打她。穆罕默德就睡在她旁边，头还靠在她腿上或腿边。虽然这不是 “殴妻，却是打女” 却说明穆斯林妇女，随时会被施於老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08584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 Light"/>
                <a:ea typeface="经典楷体简"/>
              </a:rPr>
              <a:t>鞭打，责罚妻子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1066320"/>
            <a:ext cx="12192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实行古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的责打或鞭打不顺从的妻子呢？是轻轻的责打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阿拉伯文中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dre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责打这字是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arah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转变过来。新阿拉伯文字典给这字注解为击打，撞击或鞭打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曾用来形容鞭打不顺命的畜生或者罪犯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ukhari vol.8 no.68 p.4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不平等的对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说：照样，妻子可以对怠慢的：工作时松懈的的丈夫，进行处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817DB-E9A0-4DAF-8685-6A64BA16A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7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不禁止责打妇女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76680" y="1142640"/>
            <a:ext cx="12192120" cy="571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472c4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姑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mm Kulthum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拒绝嫁给卡利发乌玛，因为他对妇女非常粗暴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vol.14 p.1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沙向卡利发乌玛说：你是那么的粗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将姑顿嫁给你，她有什么不顺从你的地方，你会对她进行怎样的体罚呢 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vol.14 p.1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Tabari vol.15, p141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注脚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1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四个卡利发中。唯有乌玛没有和穆罕默德的家联婚；因为穆罕默德认为他对妇女太粗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穆罕默德认为他会恶待他的女儿，为什么他不纠正乌玛停止对别人的儿女动粗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C86E5-128B-4953-B72C-A7FF1A900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27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打妻子不必给理由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经典楷体简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51920" y="1066680"/>
            <a:ext cx="1165860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经典楷体简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乌马阿卡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mar b. al-Khattab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述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曾说；不必去问一个男人。你为什么责打你的妻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“Abu Dawud vol.2 no.2142 p.5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学者的注解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意思是说丈夫纠正不了太太；他就容许采用责打的最後步骤。这不是说丈夫，在没有充分理由的情况下，随意的责打妻子。如果他没有足够的理由，他必须付起责任或要求解释理由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Abu Dawud vol.2 footnote 1468 p.3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A4705-9CC3-44B4-9C0A-E104055BC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被休的妇女，男人可以将其财产要回来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莎说：达比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abit b. Qais b. Shimmas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妻子哈比巴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bibah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骨头都打断了。她来向先知告状。穆罕默德把达比叫来对他说；从她拿回属於你的财产，然後和她离婚吧。他问；我可以这样做吗？先知回答说；是的。达比说；我给了她两块地做嫁妝，这已经成为她的财产了。先知说，拿回它，然後和她离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经典楷体简"/>
              </a:rPr>
              <a:t>Abu Dawud vol.2 no.2220 p.6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请留意：这丈夫羞辱了妻子，打断她的骨头，穆罕默德却许可她拿回自己的嫁壮，才把她休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等线"/>
              </a:rPr>
              <a:t>伊斯兰妇女：曾老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7D80C-6839-44F7-88DD-3B7A0609E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23:58:52Z</dcterms:created>
  <dc:creator>Ahmed Mohamed</dc:creator>
  <dc:description/>
  <dc:language>en-US</dc:language>
  <cp:lastModifiedBy>chan HK</cp:lastModifiedBy>
  <dcterms:modified xsi:type="dcterms:W3CDTF">2025-01-02T14:19:43Z</dcterms:modified>
  <cp:revision>55</cp:revision>
  <dc:subject/>
  <dc:title>Woman in Islam</dc:title>
</cp:coreProperties>
</file>