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5DBD-B142-42DF-B466-272AE1CB1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FF28-247B-4075-81F5-3728B513B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8693-3700-45D5-93F0-820C4E0FE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6A82-4AE5-490A-8CAF-54A5A8796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CAA5-01A5-4B63-9A0E-E806694FC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A05B-3377-4A18-80A2-F9FE76CCB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6538-FDB1-4B01-8BCF-A86BE711A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A3E3-CF8C-4166-B629-A06A7D068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82FF-EC67-47C4-B7BE-A484AB7B8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1FF6-9045-458E-B87F-27AC5D720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F1D7-DCE1-4D70-89DA-BCCC8E9FC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7B2C-4D7C-4DD0-A1C6-65542BD31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CF94-9D92-4D86-947A-1853BBB72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30BA-E272-4D50-BD83-9CD2E5F2F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907C-7399-4DC8-8229-1CDD32C89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4E7C-3D21-4F15-974E-F838AFA14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CE9B-4E62-46EA-ADC7-23CD2ADCB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5E90-83A7-4D5F-8266-A746669C2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E037-756D-42DE-9EDA-DFAA9B9A5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6720-8A43-4958-8DE1-CACED31B3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A988-7C9C-4A7E-B902-DE7A7596F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F421-CC61-490F-AE72-19A8D8E73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CB12-E775-4A78-82E7-1D1E10C47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D725-A2FD-49AB-A740-EA3C76AFA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43B2-F419-4A16-95CE-C44C571EE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DD18-EF91-4707-AFB9-CD1136931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F5E2-1ED9-4D47-80E0-5178DC25F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70FF-6A1E-4593-832B-EDB1E2C02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EF77-FBF8-41DE-B5C6-B249B5701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E8B0-2E0D-47F3-84E0-C87703E55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56BA-E333-4927-9CDD-E281C19A5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1A06-A1DD-428A-8F45-2EF8F120D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A090-E711-40F7-A46C-767930DD1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BC62-EAAD-4CA3-8E79-33529AC9A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EAF2-57C4-4CF7-B60B-7BACC5088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9237-8308-4323-A190-647737F98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5DAA-54B2-4916-A1DD-D57D4DFE9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808D-4F32-4BFC-AE0E-61DD4AC8F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ADFE-04B5-4FD2-AD74-FEC964491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EC4D-45F6-45A2-8453-2E590442B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B43C-B7C0-4553-9441-6F8BAC5BE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B06E-A069-4136-B8CF-2ACF5C931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0446-76C8-4F73-97CC-CC72C6750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0490-BDE7-4F2B-9E12-3575950D8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9CDB-158A-444B-A671-345426CAD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F861-F068-4E38-933A-DF576D08E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1660-198D-4394-BD59-5E2DA1C85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2B2C-443B-4B7C-A03E-BDCFEC8BD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2657-FB03-4084-B2FB-3FA20DBE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102571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17440" y="4307400"/>
            <a:ext cx="102571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137F-A8D6-4233-B546-563078D1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17440" y="430740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373440" y="430740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A4DA-A7FF-463A-9EC4-706D7F329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85680" y="236196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053920" y="236196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17440" y="430740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585680" y="430740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053920" y="430740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8B30-A7CA-43FC-8AD4-5499C0F33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D5E2-F718-42B8-AA64-7BD2963CE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117440" y="2361960"/>
            <a:ext cx="1025712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435E-311B-471A-934C-273A5FB5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102571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E3F9-F046-49E8-A52A-8F53C1A8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08FC-3624-4CFA-B8D8-C186B629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6CB2-CD24-4269-AE57-3FF19CA1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87920" y="834120"/>
            <a:ext cx="1042164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72DE-A69F-416F-85EE-05407799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7440" y="430740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AE19-E00E-4F8A-96A4-2B418F11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17440" y="2361960"/>
            <a:ext cx="1025712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E477-0AD6-4F06-8077-C6C5AFC5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73440" y="430740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50AC-07B7-4A34-BDF5-B4F4EBF3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17440" y="4307400"/>
            <a:ext cx="102571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EE3C-E064-4B5F-AD49-EA6D0057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102571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117440" y="4307400"/>
            <a:ext cx="102571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F1D1-43F1-4122-ADA8-EA492ADB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17440" y="430740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373440" y="430740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505D-D8E1-415E-BA98-7C2BBA2CE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85680" y="236196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053920" y="236196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117440" y="430740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85680" y="430740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8053920" y="4307400"/>
            <a:ext cx="3302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4493-2675-4F9C-A93C-B165D4C9B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102571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BCD0-7482-4D10-A099-71587A65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4E43-274E-402E-B2F0-E08E57E9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BE75-F9ED-48CB-8D66-7C7CE5E2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87920" y="834120"/>
            <a:ext cx="1042164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1054-5B71-4760-B1F0-4A26D1BC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17440" y="430740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9339-76F2-435B-8A2C-A78F0531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373440" y="430740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D0F3-B536-4CC0-B5F2-B5096D87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7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373440" y="2361960"/>
            <a:ext cx="5005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17440" y="4307400"/>
            <a:ext cx="102571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4EA6-7251-47A6-A54B-3BE0DD43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159200" cy="6858000"/>
            <a:chOff x="0" y="0"/>
            <a:chExt cx="101592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4266360" cy="6858000"/>
              <a:chOff x="0" y="0"/>
              <a:chExt cx="426636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10159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609480" y="0"/>
                <a:ext cx="365688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304560" y="1981080"/>
              <a:ext cx="9854640" cy="319320"/>
              <a:chOff x="304560" y="1981080"/>
              <a:chExt cx="985464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812160" y="1981080"/>
                <a:ext cx="93470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304560" y="1981080"/>
                <a:ext cx="52488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17440" y="2361960"/>
            <a:ext cx="102571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250800" y="6248520"/>
            <a:ext cx="2840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7721280" y="6248520"/>
            <a:ext cx="3862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112680" y="6242040"/>
            <a:ext cx="782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99EB-6C39-41DB-80C0-3FA1BF894A2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7822800" cy="6858000"/>
            <a:chOff x="0" y="0"/>
            <a:chExt cx="782280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588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914400" y="990720"/>
              <a:ext cx="690840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4843440" y="4889520"/>
            <a:ext cx="6501600" cy="318960"/>
            <a:chOff x="4843440" y="4889520"/>
            <a:chExt cx="650160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4843440" y="4889520"/>
              <a:ext cx="616752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10998360" y="4889520"/>
              <a:ext cx="3466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117440" y="2361960"/>
            <a:ext cx="102571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250800" y="6248520"/>
            <a:ext cx="2840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7721280" y="6248520"/>
            <a:ext cx="3862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101520" y="6248520"/>
            <a:ext cx="782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7052-16C4-41D6-B862-C23F9107245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193400" y="1269360"/>
            <a:ext cx="104148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伊斯兰，启示，权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230520" y="2927520"/>
            <a:ext cx="53514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- 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古兰经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(Script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- 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训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(Tradi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PMingLiU"/>
              </a:rPr>
              <a:t>古兰经中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hy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PMingLiU"/>
              </a:rPr>
              <a:t>启示的意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42640" y="2361960"/>
            <a:ext cx="10363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新宋体"/>
                <a:ea typeface="新宋体"/>
              </a:rPr>
              <a:t>启示</a:t>
            </a:r>
            <a:r>
              <a:rPr b="1" lang="en-US" sz="3200" spc="-1" strike="noStrike">
                <a:solidFill>
                  <a:srgbClr val="0000ff"/>
                </a:solidFill>
                <a:latin typeface="新宋体"/>
                <a:ea typeface="新宋体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“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我们向你讲诉，最美妙的故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就在我们向你显示的古兰经中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..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新宋体"/>
                <a:ea typeface="新宋体"/>
              </a:rPr>
              <a:t>默示，灵感</a:t>
            </a:r>
            <a:r>
              <a:rPr b="1" lang="en-US" sz="3200" spc="-1" strike="noStrike">
                <a:solidFill>
                  <a:srgbClr val="0000ff"/>
                </a:solidFill>
                <a:latin typeface="新宋体"/>
                <a:ea typeface="新宋体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“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也未隨私欲而言。這只是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所受的啟示 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”   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53: 3-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新宋体"/>
                <a:ea typeface="新宋体"/>
              </a:rPr>
              <a:t>天然的本性</a:t>
            </a:r>
            <a:r>
              <a:rPr b="1" lang="en-US" sz="3200" spc="-1" strike="noStrike">
                <a:solidFill>
                  <a:srgbClr val="0000ff"/>
                </a:solidFill>
                <a:latin typeface="新宋体"/>
                <a:ea typeface="新宋体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“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你們用椰棗和葡萄釀制醇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和佳美的給養，對於能理解的民眾，此中確有一種蹟象。你的主曾啟示蜜蜂：「你可以築房在山上和樹上，以及人們所建造的蜂房裡。  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16:67-6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Arial"/>
                <a:ea typeface="PMingLiU"/>
              </a:rPr>
              <a:t>最初的启示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79560" y="2361960"/>
            <a:ext cx="11175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妻爱莎说：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: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神圣的默示开始临到穆罕默德时，是藉着如白晝的梦境临到他。他开始与所爱的暂时分开。他常独自一人前往希拉山洞，在那里敬拜祷告好几天，至到他想念家人为止。他常带一些食物来到山上，然後又回到妻子卡帝加那些带些食物又回到山上，不久真理就忽然在山洞临到了他。天使向他显现，要他念，穆氏回答说我不会念：那天使就强制的捉着了我，并且使勁的压制我，几乎使我不能承受；他接着放松了我，又叫我念，我回答说我不会念。他又使使勁的第二次压制我，使我几乎受不了。接着又松开我，又叫我念，我回答说要我念什么，我不会念？ 接着他第三次的使劲压制我；然後松开我说：念，奉你全能主之名，创造者，就是那用血块来创造人类。念，你的主是仁慈的</a:t>
            </a:r>
            <a:r>
              <a:rPr b="1" lang="en-US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ukhari, I, No. 3; VI, No. 478; Muslim I, No. 30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古兰经第一个启示与最後一个启示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218960" y="2361960"/>
            <a:ext cx="48006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第一个启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應當奉你的創造主的名義而宣讀，他曾用血塊創造人。你應當宣讀，你的主是最尊嚴的，他曾教人用筆寫字，他曾教人知道自己所不知道的東西。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6:1-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284880" y="2361960"/>
            <a:ext cx="50688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最後一个启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‘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敬畏你被召回安拉的那天。每个人都当为自己的路，付出所赞得的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' (5: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35800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为什么古兰经是分段，渐渐的启示下来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66680" y="2361960"/>
            <a:ext cx="109728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用了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3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的时间，分不同的时段启示下来。而不是一次过的启示。穆斯林认为是因为：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了坚固穆罕默德的信心，当有启示需要时，引导就会临到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体贴穆罕默德，因为启示的过程与经历对他来说是艰难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安拉的启示法则是逐渐实现与成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样才能让信士们渐渐明白，比较容易背记与运用所启示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古兰经的启示被视为神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15560" y="2285640"/>
            <a:ext cx="11176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说：没有一个先知，是安拉不曾赐给他行使令人信服他的神迹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对我来说；我被赐於（神迹性）的默示（古兰经） ，那是安拉启示於我的。 我希望在末日的审判时，我会有许多的信士。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视古兰经为神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42640" y="2361960"/>
            <a:ext cx="106678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它的语文文体超越许多的作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它所包含的广泛内容无人能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它的法律制度难以超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它的叙述包含未知的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它没有矛盾，错误，误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它包含了普世的智识，律法，科学，自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它满足了人类的需要，提供他们人生的答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它对人类的心灵有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它带给人们过更好生活的果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古兰经的挑战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17440" y="2361960"/>
            <a:ext cx="102571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你們懷疑我所降示給我的僕人的經典，那末，你們試擬作一章，並捨真主而祈禱你們的見証，如果你們是誠實的。 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23)</a:t>
            </a: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古兰经相关的事实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15920" y="2361960"/>
            <a:ext cx="1079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必须以阿拉伯文存在，不能翻译。所翻译的不过是它的意思。若要念颂古兰经，就必须学习阿拉伯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译本：人们需要知道，古兰经必须处在阿拉伯原文的情况才有效。由於正确无误的翻译古兰经是不可能；因此，被翻译为其它文字的古兰经，被称为只是「译意本古兰经」。它所包含的内容，被认为属於粗糙的古兰经内容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A quote from Khilafah magazine published in Lond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古兰经相关的事实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15560" y="2361960"/>
            <a:ext cx="11023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的内容并不是按时间的先後来编排。第一编被启示的经文是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6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章，而不是第一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它拥有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4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章经文，章的阿拉伯文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urahs,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而节则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y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它是以纯阿拉伯文启示的 （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: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古兰经的传递与流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117440" y="2361960"/>
            <a:ext cx="102571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藉背记与口头传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藉文字书写的传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抄写员的共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乌特曼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'Uthman.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抄写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193400" y="1269360"/>
            <a:ext cx="104148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9900"/>
                </a:solidFill>
                <a:latin typeface="Arial"/>
                <a:ea typeface="PMingLiU"/>
              </a:rPr>
              <a:t>古兰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197400" y="2927520"/>
            <a:ext cx="4012920" cy="80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PMingLiU"/>
              </a:rPr>
              <a:t>信仰经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193400" y="1269360"/>
            <a:ext cx="104148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hkamat and Mutashabih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230520" y="2927520"/>
            <a:ext cx="5351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字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意的经文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Muhkamat 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与</a:t>
            </a:r>
            <a:br>
              <a:rPr sz="3200"/>
            </a:b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隐微的经文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Mutashabih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015560" y="2361960"/>
            <a:ext cx="10566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他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降示你這部經典，其中有許多明確的節文，是全經的基本；還有別的許多隱微的節文。心存邪念的人，遵從隱微的節文，企圖淆惑人心，探求經義的究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只有真主和學問精通的人，才知道經義的究竟。他們說：「我們已確信它，明確的和隱微的，都是從我們的主那裡降示的。惟有理智的人，才會覺悟。</a:t>
            </a:r>
            <a:r>
              <a:rPr b="0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 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35800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经义的经文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Muhkamat                                                  </a:t>
            </a: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隐微的经文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Mutashabih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066320" y="2361960"/>
            <a:ext cx="48006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uhkamat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字意，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字根源自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uhkima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字。意思是将不同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两件事分别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个复数名词，运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的意思是能审判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决定。用在古兰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是指清楚，易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确定的古兰经经文</a:t>
            </a:r>
            <a:r>
              <a:rPr b="1" lang="zh-TW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705360" y="2286000"/>
            <a:ext cx="5105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utashabi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其字根为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‘</a:t>
            </a:r>
            <a:r>
              <a:rPr b="1" i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shtabaha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’ 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意思是可质疑的。是个复数名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意思是「不能确定，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者可被质疑」。 在运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是指古兰经中某些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明确，不能完全明白，而又可能会有几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意思的经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经义的经文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Muhkamat                               </a:t>
            </a:r>
            <a:br>
              <a:rPr sz="3200"/>
            </a:b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隐微的经文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Mutashabih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142640" y="2361960"/>
            <a:ext cx="52578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uhkam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某些需要运用知识就能明白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某些只需要采用一个角度就能明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某些单看字面就能明白，不需要太多的解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781320" y="2334960"/>
            <a:ext cx="48006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utashabi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只有安拉自己才能全懂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某些超过一个角度的意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某些需要进深的解</a:t>
            </a:r>
            <a:r>
              <a:rPr b="1" lang="zh-TW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经义的经文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Muhkamat                               </a:t>
            </a:r>
            <a:br>
              <a:rPr sz="3200"/>
            </a:b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隐微的经文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Mutashabih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015560" y="2362320"/>
            <a:ext cx="5689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uhkamat: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例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信道的人們啊！你們彼此間成立定期借貸的時候，你們應當寫一張借券，請一個會寫字的人，秉公代寫。代書人不得拒絕，當遵照真主所教他的方法而書寫。由債務者口授，（他口授時），當敬畏真主──他的主──不要減少債額一絲毫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2: 28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010280" y="2361960"/>
            <a:ext cx="36576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utashabihat </a:t>
            </a:r>
            <a:r>
              <a:rPr b="1" lang="zh-TW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例子</a:t>
            </a:r>
            <a:r>
              <a:rPr b="1" lang="en-US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至仁主已升上寶座了。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20: 5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193400" y="1269360"/>
            <a:ext cx="104148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麦加 与 麦地拿的启示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麦加的经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015560" y="2361960"/>
            <a:ext cx="11023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麦加的启示篇章共用了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3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，从麦加蒙召至迁都麦地拿。穆罕默德这段时间的事工就是呼召人来信仰伊斯兰。传道的主题包括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安拉与其独一神性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tawhid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将临的复活与审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警告拜偶像的麦加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在这期间是个传道者，警戒者而不是护卫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麦地拿经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015560" y="2357280"/>
            <a:ext cx="1102356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麦地拿经文是穆氏迁都麦地拿，最後十年的经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麦地拿有四种不同的人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73160" indent="-586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迁土</a:t>
            </a:r>
            <a:r>
              <a:rPr b="1" lang="en-US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muhajirun, 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那些从麦加跟随穆罕默德，逃往麦地拿的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73160" indent="-586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辅土 </a:t>
            </a:r>
            <a:r>
              <a:rPr b="1" lang="en-US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ansar, 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那原本在麦地拿的人，他们是接纳与帮助迁土的人。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73160" indent="-586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伪信者 </a:t>
            </a:r>
            <a:r>
              <a:rPr b="1" lang="en-US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munafiqun,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那些原本在麦地拿，假意说会帮助穆斯林的人。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73160" indent="-586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有经典的人</a:t>
            </a:r>
            <a:r>
              <a:rPr b="1" lang="en-US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ahl al-kitab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 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些人是犹太人，基督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73160" indent="-586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在这段时间，变成了领袖与掌权者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Asbab Al-Nuzul 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启示的背景”或“经文下降的原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219320" y="2361960"/>
            <a:ext cx="100584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某些独特的时间里与事故里，启示了某些独特经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阿拉伯文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abab (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复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asbab)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意思是因由，导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‘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arifa asbab al-nuzul’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启示因由的知识。即启示相关真理的背景与历史性的因由，导至古兰经的启示与降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经文的废除与修定                                                            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Al-Nasikh wa Al-Mansukh (2:106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143000" y="2361960"/>
            <a:ext cx="108964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阿拉伯文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‘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nasikh’ and ‘mansukh’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两字是取意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‘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nasakha’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字。意思是「废除，取代，撤消，取消」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nasikh (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主动词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)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意思是「废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brogating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ansukh (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被动词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)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意思是「被废除，被取代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he abrogated‘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些名词的意思是说古兰经中有些经文，被废除而以别的经文取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Arial"/>
                <a:ea typeface="新宋体"/>
              </a:rPr>
              <a:t>安拉曾启示的经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117440" y="2361960"/>
            <a:ext cx="102571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亚伯拉罕的薄片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(Suhuf) Ibra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摩西的律法书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(Taurat) M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大卫诗篇 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(Zabur) Dawu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耶稣基督的福音书 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(Injil) (Is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穆罕默德的古兰经 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Quran.Muhamm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有多少古兰经经文被废除取代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117440" y="2361960"/>
            <a:ext cx="107697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早期的传统学者，认为古兰经大概有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0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多节经文被废除的观点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种说法源于早期经注传统，但现代学术研究认为，这种观点可能过于夸张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•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大多数现代学者倾向于认为被废除的经文不超过 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193400" y="1269360"/>
            <a:ext cx="104148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古兰经中经文废除的例子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不同方式的背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117080" y="2361960"/>
            <a:ext cx="110746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阿几拉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l-qira‘a (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复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qiraa’at)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从卡拉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qara‘a,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字根延伸过来的。其字义是：阅读，背诵，这也古兰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Quran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字的延伸。这是动词性名词；意思是背诵的意思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可以多达十四种背诵古兰经的方法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注解，注释</a:t>
            </a:r>
            <a:r>
              <a:rPr b="1" lang="en-US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Tafsi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143000" y="2361960"/>
            <a:ext cx="96775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注释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afsir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字是源自法撒拉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‘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fassara’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字；意思是解说，说明，解释，注解，阐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注解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afsir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字是用来说明，注解，有系统的来注释，解说古兰经。用意是，提供正确的讲解，让人对经文有清楚与明确的认识，并有效的去遵行其中的教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重要的古兰经注释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117440" y="2361960"/>
            <a:ext cx="102571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阿达巴里注释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l-Tabari (d310/92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卡帝尔注释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bn Kathir (d774/137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阿加拉尼注释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afseer al-Jalalin,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由阿马哈里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Jalal al-din al-Mahalli (d864/1495)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及稣由帝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Jalal al-din al-Suyuti (d911)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193400" y="1269360"/>
            <a:ext cx="104148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The Sunnah</a:t>
            </a: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圣行的定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015560" y="2361960"/>
            <a:ext cx="10719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行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Sunnah: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所说的每句话，每个行为 及他许可他随从们所行，所做的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训录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Hadith: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将圣训记录下来的书藉。有时圣训与圣行是同义词，主要是指穆罕默德所说过的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回教法规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Shariah: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伊斯兰的教法规或律法。是根据古兰经与圣行内容所制定的宗教，信仰，法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行 </a:t>
            </a:r>
            <a:r>
              <a:rPr b="1" lang="en-US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Sunnah</a:t>
            </a: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的重要性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219320" y="2361960"/>
            <a:ext cx="109728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训与圣行，给古兰经做了注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的注释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afsir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首先必须根据圣行与圣训录来解释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训与圣行，给古兰经的解说，提供了第一首叁考与主导它的解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們應當謹守拜功，完納天課，服從使者，以便你們蒙主的憐憫。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24:5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行 </a:t>
            </a:r>
            <a:r>
              <a:rPr b="1" lang="en-US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Sunnah</a:t>
            </a: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的重要性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143000" y="2361960"/>
            <a:ext cx="9982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行录中有好些法规是古兰经没有记载的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例如禁止与姑妈，姨妈，侄女，甥女结婚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对醉酒者，淫乱者的刑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训录的记载，可以裁决古兰经的解说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围；例如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11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，父母可以分得死去儿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/6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遗产；然而在圣训中，却说若父母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信士，就不能承受穆斯林孩子的遗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193400" y="1269360"/>
            <a:ext cx="104148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训录的编辑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Arial"/>
                <a:ea typeface="新宋体"/>
              </a:rPr>
              <a:t>古兰经的定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523880" y="2361960"/>
            <a:ext cx="9144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安拉的话，藉天使迦百例，降於最後一位先知穆罕默德，藉着众多的抄写员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(tawatur), 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，用了最精准的字句与意思，透过口头，字句，无可仿造，独特，经安拉的保守，免去错误的传达了给我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古兰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Quran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的字意是朗读或背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训是如何编辑的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117440" y="2361960"/>
            <a:ext cx="102571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透过查证，验证传递者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sanad).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根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个传递者告诉另一个传递者，所听见关於穆罕默德说过了什么，做过了什么事。这传递的根源，最後必须联上穆罕默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每个传递者，必须是个可以被信赖的穆斯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2129760" y="834120"/>
            <a:ext cx="84657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沙希阿布卡里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Sahih Al-Bukhari (b. 194 A.H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11277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孙尼派穆斯林认为，除了古兰经以外，这圣训录是最值得信赖的作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布卡里共收集了六十万条圣训录，其中大部份是重复与伪造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本圣训录中，有六千条重复的圣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属於个别记录的圣训共有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513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条，这些记录被认为是可信赖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634040" y="810360"/>
            <a:ext cx="87706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穆斯林</a:t>
            </a:r>
            <a:r>
              <a:rPr b="1" lang="zh-CN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训 </a:t>
            </a:r>
            <a:r>
              <a:rPr b="1" lang="en-US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Sahih Muslim (b. 204 A.H.)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371240" y="2361960"/>
            <a:ext cx="9296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紧接着布卡里，第二套被公认可信赖的圣训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书中有四千条没有重复的圣训，另有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,000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重复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许多圣训被收集在布卡里圣训录；却有许多不同的传递者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其它的圣训录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307880" y="2325240"/>
            <a:ext cx="102567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孙拿阿布道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unan Abu Daw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孙拿安尼沙依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unan An-Nisa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加米得米几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Jame' At-Termiz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孙拿马加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unan ibn Maja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母瓦达马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uwatta Mal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母斯拿哈巴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usnad ibn Hanb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孙拿哀达利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unan Ad-Darim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训的分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117440" y="2361960"/>
            <a:ext cx="102571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ahih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受信赖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Authenti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Hasan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可接受的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Acceptabl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Daeef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微弱的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Weak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awdoo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捏造的虚构的‘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Fabricated).</a:t>
            </a:r>
            <a:br>
              <a:rPr sz="3200"/>
            </a:b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虚构的传说不能被当成是圣训；据说主要的圣训录中没有这类的圣训；有些书藉中曾提及这类的圣训是存在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受信赖的圣训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Sahih Hadith (Authentic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113540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传递者必须是可信赖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必须是个想要看守圣训的态度；自己是个把它们背起来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传递连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anad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必须能连接回到穆罕默德的出处而没有中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所说的，必须符合其它也曾说过它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可接受的圣训</a:t>
            </a:r>
            <a:br>
              <a:rPr sz="3600"/>
            </a:b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Hassan Hadith (Acceptabl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15920" y="2361960"/>
            <a:ext cx="10414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没有传递者对传递连中，任何一位表示他可能在说谎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它所传递的，符合其它传递人士所传递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它不具有足够的权威，被认为是绝对无误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微弱的圣训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Daeef Hadith (Weak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015920" y="2361960"/>
            <a:ext cx="112521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传递连中，出现中断与介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Mursal, Munkate', Mu'dal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传递连中出现一，两个不相称的传递员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Munkar, Matrook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与受信赖的圣训产生矛盾的情况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Mu'alal, Mutareb, Makloob, Shaz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例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: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宗教信仰是脑；没有宗教信仰的，就没有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训的使用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19160" y="2285640"/>
            <a:ext cx="11175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.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作为伊斯兰教法的来源                       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训是仅次于古兰经的第二重要法源。穆斯林通过圣训了解如何实践古兰经的教义，并解决古兰经中没有详细规定的问题。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•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补充古兰经：有些律法在古兰经中只提到原则，具体实施细节则由圣训补充。例如： 古兰经命令信徒祈祷（拜功），但祈祷的方式和时间由圣训详细说明。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•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禁止利息交易，但圣训明确规定了哪些交易形式属利息。  解释经文：圣训帮助解释古兰经中的模糊或多义的经文。例如，关于斋月的具体守斋方法和例外情况，圣训提供了详细指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519920" y="807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训的使用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015560" y="2361960"/>
            <a:ext cx="110998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引导个人行为和道德实践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训为穆斯林提供了日常生活的行为指南，涵盖从饮食习惯到待人接物的方方面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礼仪和道德：如何问候他人；如何保持清洁（如使用牙枝清洁口腔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生活细节：饮食方式：先说（奉主之名），右手进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睡眠姿势：先知鼓励右侧卧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际关系：先知的教导鼓励友善、慷慨、宽容和尊重他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193400" y="1269360"/>
            <a:ext cx="104148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9900"/>
                </a:solidFill>
                <a:latin typeface="Arial"/>
                <a:ea typeface="新宋体"/>
              </a:rPr>
              <a:t>古兰经被完整地保存，先前的经典却全部有了误差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095880" y="2971800"/>
            <a:ext cx="3581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宋体"/>
              </a:rPr>
              <a:t>过多不同语言的译本，造成了误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训的使用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117080" y="2361960"/>
            <a:ext cx="110746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提供宗教精神修炼的指引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训帮助穆斯林更深入地理解信仰的精神内涵，涵盖信仰、敬畏和虔诚的各个方面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祈祷和念诵：圣训教导了许多祷词（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Dua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和念诵方法，用于不同场景（如早晨、晚上、旅行时等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•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强化信仰：先知的言行通过圣训激励穆斯林在艰难时刻保持信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训的使用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015560" y="2361960"/>
            <a:ext cx="11176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4.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用于法律和司法体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法律（沙里亚）依赖于圣训来裁定很多具体的法律问题，特别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没有直接提到的事项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刑法：圣训规定了刑罚的具体标准，例如偷窃和通奸的惩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•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合同和交易：圣训明确了一些商业交易的合法性和禁止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训的使用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015560" y="2361960"/>
            <a:ext cx="11176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5.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学术和神学探讨的依据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训是伊斯兰教义和神学研究的重要基础，学者通过圣训探讨信仰原则、哲学问题和伦理议题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教法学：学者根据圣训建立不同的教法学派（如哈乃斐派、沙斐仪派）。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神学问题：圣训帮助阐明对天堂、地狱、末日审判等概念的理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训的使用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015560" y="2361960"/>
            <a:ext cx="11176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6.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社会和文化的影响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训不仅影响个人行为，还塑造了穆斯林社区的文化和社会规范。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节日和庆典：圣训记录了庆祝开斋节、宰牲节等活动的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家庭生活：圣训指导夫妻关系、教育子女和邻里相处的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训的使用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015560" y="2133360"/>
            <a:ext cx="110998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训对穆斯林的作用是多方面的，从指导宗教义务到影响日常生活，再到塑造法律体系。穆斯林通过圣训将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教义转化为具体实践，使其在个人生活和社会事务中得到充分体现。同时，穆斯林学者非常重视对圣训真实性的研究，以确保信仰和实践的准确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9900"/>
                </a:solidFill>
                <a:latin typeface="Arial"/>
                <a:ea typeface="PMingLiU"/>
              </a:rPr>
              <a:t>古兰经与圣训录的不同之处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361960" y="2361960"/>
            <a:ext cx="8305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圣训是出於人的行为与言词，不像古兰经被视为安拉的言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圣训录的言词，不像古兰经是精准无误的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不一定是出於当年抄写员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tawatur,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的传递，有少部份是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Arial"/>
                <a:ea typeface="PMingLiU"/>
              </a:rPr>
              <a:t>古兰经与圣训录的不同之处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294920" y="2371320"/>
            <a:ext cx="99824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古兰经是安拉精准的话，圣训则是出於穆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 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默德的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古兰经是藉由天使迦百列启示；圣训则相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 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也是出於启示的使然，如梦的启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古兰经的抄写员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(24)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比圣训录的传递者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多；圣训录的传递来源只有一至几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有些圣训的可信度高，有的可以接受，有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则是弱的，可被质疑；穆斯林对古兰经却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有质疑的地方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193400" y="1269360"/>
            <a:ext cx="104148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伊斯兰的启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087920" y="834120"/>
            <a:ext cx="1042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PMingLiU"/>
              </a:rPr>
              <a:t>启示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Wahy)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PMingLiU"/>
              </a:rPr>
              <a:t>的定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66680" y="2361960"/>
            <a:ext cx="506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启示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wahy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这字是源自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awha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。这字在古兰经中有多次的运用；这字的隐义与灵感，指引与引导某人有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476760" y="2361960"/>
            <a:ext cx="52974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Wahy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这字作为启示的意思是指安拉藉着他的先知，启示出对其创造物的引导。以下的古兰经说明了这字的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1270080" y="5351400"/>
            <a:ext cx="1005840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古</a:t>
            </a:r>
            <a:r>
              <a:rPr b="0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42:51</a:t>
            </a:r>
            <a:r>
              <a:rPr b="0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、</a:t>
            </a:r>
            <a:r>
              <a:rPr b="0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任何人也不配與真主對話，除非啟示，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從帷幕的後面，或派一個使者，奉他的命令而啟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他所欲啟示的。他確是至尊的，確是至睿的。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04:14:49Z</dcterms:created>
  <dc:creator>Abdelrahman</dc:creator>
  <dc:description/>
  <dc:language>en-US</dc:language>
  <cp:lastModifiedBy>chan HK</cp:lastModifiedBy>
  <dcterms:modified xsi:type="dcterms:W3CDTF">2025-01-05T13:26:19Z</dcterms:modified>
  <cp:revision>34</cp:revision>
  <dc:subject/>
  <dc:title>Authorities in Islam</dc:title>
</cp:coreProperties>
</file>